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71BF9-505A-444B-B583-DF6380DD1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33EAF-F7AE-42ED-9911-B18DF3175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C80FB-DED4-4E41-A0BA-BA8A51FF0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F061B-49DE-4E24-9AD3-61E555AD3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56F84-0F44-4625-AD5D-45D44E750C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71FFE-EB76-4A1D-BCFF-F6C652A7DD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C41AA-8597-4B85-A810-4CC3D155F0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AD1B3-4DF0-4338-802F-6D6A49A269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8AE60-EB21-4EEF-A65B-EC94929097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78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54D44-7D4C-45C2-89E5-CF0C5772D2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89E2B-E213-4D66-8FEA-9F6DEA124D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1C027-9239-467A-B68A-3F7642B98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89090-32BA-4E5B-B8C3-8DF6709D6E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AC76E-F980-4772-8992-1B9BB8E467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7B1C0-9FED-4290-A64A-8506875DD7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E1DD7-2468-4CAB-94B3-370517EA18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46A23-C161-424E-AA78-DE4BB6B596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C0F9-43CD-4994-9F9F-B543D99AA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2AEC-2D31-4E0B-AD41-834CF45EB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B6F92-60CA-4390-B1D3-9291546C8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78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6F12C-D8AC-4437-B239-4AC5DD8E8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66F1-CF19-4561-BA9E-0FDA0E9C0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998E3-F178-46BC-8F14-345449755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0F69-5889-4C92-BE0A-AE5028EEF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71000"/>
          </a:bodyPr>
          <a:p>
            <a:pPr marL="28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28080" algn="ctr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28080" algn="ctr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28080" algn="ctr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8080" algn="ctr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8080" algn="ctr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8080" algn="ctr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81520" y="6243480"/>
            <a:ext cx="2746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7301-4314-4521-9385-276990E29470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7481520" y="6243480"/>
            <a:ext cx="2746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322B-EFC6-4513-9896-DAF2FB93BC54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188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84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904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4624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4624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4624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rishtimes.com/newspaper/breaking/2012/0329/breaking18.html" TargetMode="External"/><Relationship Id="rId2" Type="http://schemas.openxmlformats.org/officeDocument/2006/relationships/hyperlink" Target="http://www.staffingindustry.com/eng/Research-Publications/Daily-News/Germany-Economists-expect-unemployment-rate-to-increase-again-in-2012" TargetMode="External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79" name="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20"/>
                  </a:moveTo>
                  <a:lnTo>
                    <a:pt x="21600" y="0"/>
                  </a:lnTo>
                  <a:lnTo>
                    <a:pt x="21058" y="1291"/>
                  </a:lnTo>
                  <a:lnTo>
                    <a:pt x="20335" y="2671"/>
                  </a:lnTo>
                  <a:lnTo>
                    <a:pt x="18889" y="4972"/>
                  </a:lnTo>
                  <a:lnTo>
                    <a:pt x="17292" y="7272"/>
                  </a:lnTo>
                  <a:lnTo>
                    <a:pt x="15123" y="9573"/>
                  </a:lnTo>
                  <a:lnTo>
                    <a:pt x="12773" y="11950"/>
                  </a:lnTo>
                  <a:lnTo>
                    <a:pt x="10062" y="14328"/>
                  </a:lnTo>
                  <a:lnTo>
                    <a:pt x="7019" y="16769"/>
                  </a:lnTo>
                  <a:lnTo>
                    <a:pt x="3766" y="19146"/>
                  </a:lnTo>
                  <a:lnTo>
                    <a:pt x="0" y="21600"/>
                  </a:lnTo>
                  <a:lnTo>
                    <a:pt x="331" y="21600"/>
                  </a:lnTo>
                  <a:lnTo>
                    <a:pt x="4127" y="19146"/>
                  </a:lnTo>
                  <a:lnTo>
                    <a:pt x="7381" y="16769"/>
                  </a:lnTo>
                  <a:lnTo>
                    <a:pt x="10423" y="14328"/>
                  </a:lnTo>
                  <a:lnTo>
                    <a:pt x="13135" y="11950"/>
                  </a:lnTo>
                  <a:lnTo>
                    <a:pt x="15485" y="9573"/>
                  </a:lnTo>
                  <a:lnTo>
                    <a:pt x="17623" y="7272"/>
                  </a:lnTo>
                  <a:lnTo>
                    <a:pt x="19250" y="4972"/>
                  </a:lnTo>
                  <a:lnTo>
                    <a:pt x="20696" y="2671"/>
                  </a:lnTo>
                  <a:lnTo>
                    <a:pt x="21238" y="1828"/>
                  </a:lnTo>
                  <a:lnTo>
                    <a:pt x="21600" y="920"/>
                  </a:lnTo>
                  <a:lnTo>
                    <a:pt x="21600" y="920"/>
                  </a:lnTo>
                  <a:close/>
                  <a:moveTo>
                    <a:pt x="21600" y="92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6787" y="5462"/>
                  </a:lnTo>
                  <a:lnTo>
                    <a:pt x="11688" y="10924"/>
                  </a:lnTo>
                  <a:lnTo>
                    <a:pt x="5844" y="16386"/>
                  </a:lnTo>
                  <a:lnTo>
                    <a:pt x="0" y="21600"/>
                  </a:lnTo>
                  <a:lnTo>
                    <a:pt x="688" y="21600"/>
                  </a:lnTo>
                  <a:lnTo>
                    <a:pt x="6532" y="16634"/>
                  </a:lnTo>
                  <a:lnTo>
                    <a:pt x="11688" y="11669"/>
                  </a:lnTo>
                  <a:lnTo>
                    <a:pt x="21600" y="993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629" y="21600"/>
                  </a:lnTo>
                  <a:lnTo>
                    <a:pt x="12343" y="12706"/>
                  </a:lnTo>
                  <a:lnTo>
                    <a:pt x="21600" y="5082"/>
                  </a:lnTo>
                  <a:lnTo>
                    <a:pt x="21600" y="0"/>
                  </a:lnTo>
                  <a:lnTo>
                    <a:pt x="10800" y="11435"/>
                  </a:lnTo>
                  <a:lnTo>
                    <a:pt x="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760" y="0"/>
              <a:ext cx="8092440" cy="6851520"/>
              <a:chOff x="45576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84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8000" y="21600"/>
                    </a:lnTo>
                    <a:lnTo>
                      <a:pt x="21600" y="21600"/>
                    </a:lnTo>
                    <a:lnTo>
                      <a:pt x="36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212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979" y="0"/>
                    </a:moveTo>
                    <a:lnTo>
                      <a:pt x="1490" y="0"/>
                    </a:lnTo>
                    <a:lnTo>
                      <a:pt x="5214" y="1081"/>
                    </a:lnTo>
                    <a:lnTo>
                      <a:pt x="8938" y="2222"/>
                    </a:lnTo>
                    <a:lnTo>
                      <a:pt x="11917" y="3448"/>
                    </a:lnTo>
                    <a:lnTo>
                      <a:pt x="14897" y="4739"/>
                    </a:lnTo>
                    <a:lnTo>
                      <a:pt x="16386" y="6061"/>
                    </a:lnTo>
                    <a:lnTo>
                      <a:pt x="18621" y="7442"/>
                    </a:lnTo>
                    <a:lnTo>
                      <a:pt x="19366" y="8848"/>
                    </a:lnTo>
                    <a:lnTo>
                      <a:pt x="20110" y="10320"/>
                    </a:lnTo>
                    <a:lnTo>
                      <a:pt x="19366" y="13232"/>
                    </a:lnTo>
                    <a:lnTo>
                      <a:pt x="15641" y="16140"/>
                    </a:lnTo>
                    <a:lnTo>
                      <a:pt x="13407" y="17551"/>
                    </a:lnTo>
                    <a:lnTo>
                      <a:pt x="9683" y="18958"/>
                    </a:lnTo>
                    <a:lnTo>
                      <a:pt x="5214" y="20309"/>
                    </a:lnTo>
                    <a:lnTo>
                      <a:pt x="0" y="21600"/>
                    </a:lnTo>
                    <a:lnTo>
                      <a:pt x="1490" y="21600"/>
                    </a:lnTo>
                    <a:lnTo>
                      <a:pt x="6703" y="20309"/>
                    </a:lnTo>
                    <a:lnTo>
                      <a:pt x="11172" y="18928"/>
                    </a:lnTo>
                    <a:lnTo>
                      <a:pt x="14897" y="17551"/>
                    </a:lnTo>
                    <a:lnTo>
                      <a:pt x="17131" y="16110"/>
                    </a:lnTo>
                    <a:lnTo>
                      <a:pt x="20855" y="13202"/>
                    </a:lnTo>
                    <a:lnTo>
                      <a:pt x="21600" y="10290"/>
                    </a:lnTo>
                    <a:lnTo>
                      <a:pt x="20855" y="8848"/>
                    </a:lnTo>
                    <a:lnTo>
                      <a:pt x="20110" y="7442"/>
                    </a:lnTo>
                    <a:lnTo>
                      <a:pt x="17876" y="6061"/>
                    </a:lnTo>
                    <a:lnTo>
                      <a:pt x="16386" y="4709"/>
                    </a:lnTo>
                    <a:lnTo>
                      <a:pt x="13407" y="3448"/>
                    </a:lnTo>
                    <a:lnTo>
                      <a:pt x="10428" y="2222"/>
                    </a:lnTo>
                    <a:lnTo>
                      <a:pt x="6703" y="1081"/>
                    </a:lnTo>
                    <a:lnTo>
                      <a:pt x="2979" y="0"/>
                    </a:lnTo>
                    <a:lnTo>
                      <a:pt x="2979" y="0"/>
                    </a:lnTo>
                    <a:close/>
                    <a:moveTo>
                      <a:pt x="2979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908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213" y="10079"/>
                    </a:moveTo>
                    <a:lnTo>
                      <a:pt x="20439" y="8638"/>
                    </a:lnTo>
                    <a:lnTo>
                      <a:pt x="18892" y="7232"/>
                    </a:lnTo>
                    <a:lnTo>
                      <a:pt x="16958" y="5880"/>
                    </a:lnTo>
                    <a:lnTo>
                      <a:pt x="14701" y="4589"/>
                    </a:lnTo>
                    <a:lnTo>
                      <a:pt x="11993" y="3328"/>
                    </a:lnTo>
                    <a:lnTo>
                      <a:pt x="8511" y="2162"/>
                    </a:lnTo>
                    <a:lnTo>
                      <a:pt x="5029" y="1021"/>
                    </a:lnTo>
                    <a:lnTo>
                      <a:pt x="774" y="0"/>
                    </a:lnTo>
                    <a:lnTo>
                      <a:pt x="0" y="0"/>
                    </a:lnTo>
                    <a:lnTo>
                      <a:pt x="4256" y="1021"/>
                    </a:lnTo>
                    <a:lnTo>
                      <a:pt x="7737" y="2162"/>
                    </a:lnTo>
                    <a:lnTo>
                      <a:pt x="11219" y="3328"/>
                    </a:lnTo>
                    <a:lnTo>
                      <a:pt x="13927" y="4589"/>
                    </a:lnTo>
                    <a:lnTo>
                      <a:pt x="16184" y="5880"/>
                    </a:lnTo>
                    <a:lnTo>
                      <a:pt x="18118" y="7232"/>
                    </a:lnTo>
                    <a:lnTo>
                      <a:pt x="19666" y="8638"/>
                    </a:lnTo>
                    <a:lnTo>
                      <a:pt x="20439" y="10079"/>
                    </a:lnTo>
                    <a:lnTo>
                      <a:pt x="20826" y="11581"/>
                    </a:lnTo>
                    <a:lnTo>
                      <a:pt x="20439" y="13052"/>
                    </a:lnTo>
                    <a:lnTo>
                      <a:pt x="19666" y="14548"/>
                    </a:lnTo>
                    <a:lnTo>
                      <a:pt x="18118" y="16020"/>
                    </a:lnTo>
                    <a:lnTo>
                      <a:pt x="16571" y="17461"/>
                    </a:lnTo>
                    <a:lnTo>
                      <a:pt x="13927" y="18903"/>
                    </a:lnTo>
                    <a:lnTo>
                      <a:pt x="11219" y="20279"/>
                    </a:lnTo>
                    <a:lnTo>
                      <a:pt x="7737" y="21600"/>
                    </a:lnTo>
                    <a:lnTo>
                      <a:pt x="8511" y="21600"/>
                    </a:lnTo>
                    <a:lnTo>
                      <a:pt x="11993" y="20279"/>
                    </a:lnTo>
                    <a:lnTo>
                      <a:pt x="14701" y="18903"/>
                    </a:lnTo>
                    <a:lnTo>
                      <a:pt x="17344" y="17461"/>
                    </a:lnTo>
                    <a:lnTo>
                      <a:pt x="18892" y="16020"/>
                    </a:lnTo>
                    <a:lnTo>
                      <a:pt x="20439" y="14548"/>
                    </a:lnTo>
                    <a:lnTo>
                      <a:pt x="21213" y="13052"/>
                    </a:lnTo>
                    <a:lnTo>
                      <a:pt x="21600" y="11581"/>
                    </a:lnTo>
                    <a:lnTo>
                      <a:pt x="21213" y="10079"/>
                    </a:lnTo>
                    <a:lnTo>
                      <a:pt x="21213" y="10079"/>
                    </a:lnTo>
                    <a:close/>
                    <a:moveTo>
                      <a:pt x="21213" y="1007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80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990" y="9629"/>
                    </a:moveTo>
                    <a:lnTo>
                      <a:pt x="20075" y="8458"/>
                    </a:lnTo>
                    <a:lnTo>
                      <a:pt x="18551" y="7292"/>
                    </a:lnTo>
                    <a:lnTo>
                      <a:pt x="16721" y="6151"/>
                    </a:lnTo>
                    <a:lnTo>
                      <a:pt x="14281" y="5010"/>
                    </a:lnTo>
                    <a:lnTo>
                      <a:pt x="11537" y="3809"/>
                    </a:lnTo>
                    <a:lnTo>
                      <a:pt x="8233" y="2612"/>
                    </a:lnTo>
                    <a:lnTo>
                      <a:pt x="4574" y="1351"/>
                    </a:lnTo>
                    <a:lnTo>
                      <a:pt x="610" y="0"/>
                    </a:lnTo>
                    <a:lnTo>
                      <a:pt x="0" y="0"/>
                    </a:lnTo>
                    <a:lnTo>
                      <a:pt x="4269" y="1351"/>
                    </a:lnTo>
                    <a:lnTo>
                      <a:pt x="7928" y="2612"/>
                    </a:lnTo>
                    <a:lnTo>
                      <a:pt x="10978" y="3839"/>
                    </a:lnTo>
                    <a:lnTo>
                      <a:pt x="13976" y="5010"/>
                    </a:lnTo>
                    <a:lnTo>
                      <a:pt x="16111" y="6181"/>
                    </a:lnTo>
                    <a:lnTo>
                      <a:pt x="17941" y="7322"/>
                    </a:lnTo>
                    <a:lnTo>
                      <a:pt x="19465" y="8458"/>
                    </a:lnTo>
                    <a:lnTo>
                      <a:pt x="20380" y="9629"/>
                    </a:lnTo>
                    <a:lnTo>
                      <a:pt x="20990" y="10950"/>
                    </a:lnTo>
                    <a:lnTo>
                      <a:pt x="20685" y="12301"/>
                    </a:lnTo>
                    <a:lnTo>
                      <a:pt x="20075" y="13678"/>
                    </a:lnTo>
                    <a:lnTo>
                      <a:pt x="18551" y="15119"/>
                    </a:lnTo>
                    <a:lnTo>
                      <a:pt x="16721" y="16620"/>
                    </a:lnTo>
                    <a:lnTo>
                      <a:pt x="13976" y="18212"/>
                    </a:lnTo>
                    <a:lnTo>
                      <a:pt x="10368" y="19858"/>
                    </a:lnTo>
                    <a:lnTo>
                      <a:pt x="6404" y="21600"/>
                    </a:lnTo>
                    <a:lnTo>
                      <a:pt x="7014" y="21600"/>
                    </a:lnTo>
                    <a:lnTo>
                      <a:pt x="10978" y="19858"/>
                    </a:lnTo>
                    <a:lnTo>
                      <a:pt x="14586" y="18212"/>
                    </a:lnTo>
                    <a:lnTo>
                      <a:pt x="17331" y="16620"/>
                    </a:lnTo>
                    <a:lnTo>
                      <a:pt x="19160" y="15119"/>
                    </a:lnTo>
                    <a:lnTo>
                      <a:pt x="20685" y="13678"/>
                    </a:lnTo>
                    <a:lnTo>
                      <a:pt x="21295" y="12301"/>
                    </a:lnTo>
                    <a:lnTo>
                      <a:pt x="21600" y="10950"/>
                    </a:lnTo>
                    <a:lnTo>
                      <a:pt x="20990" y="9629"/>
                    </a:lnTo>
                    <a:lnTo>
                      <a:pt x="20990" y="9629"/>
                    </a:lnTo>
                    <a:close/>
                    <a:moveTo>
                      <a:pt x="20990" y="962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56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109"/>
                    </a:moveTo>
                    <a:lnTo>
                      <a:pt x="20901" y="8668"/>
                    </a:lnTo>
                    <a:lnTo>
                      <a:pt x="19541" y="7232"/>
                    </a:lnTo>
                    <a:lnTo>
                      <a:pt x="17676" y="5880"/>
                    </a:lnTo>
                    <a:lnTo>
                      <a:pt x="15345" y="4559"/>
                    </a:lnTo>
                    <a:lnTo>
                      <a:pt x="12315" y="3298"/>
                    </a:lnTo>
                    <a:lnTo>
                      <a:pt x="8858" y="2132"/>
                    </a:lnTo>
                    <a:lnTo>
                      <a:pt x="4895" y="1021"/>
                    </a:lnTo>
                    <a:lnTo>
                      <a:pt x="466" y="0"/>
                    </a:lnTo>
                    <a:lnTo>
                      <a:pt x="0" y="0"/>
                    </a:lnTo>
                    <a:lnTo>
                      <a:pt x="4429" y="1021"/>
                    </a:lnTo>
                    <a:lnTo>
                      <a:pt x="8391" y="2132"/>
                    </a:lnTo>
                    <a:lnTo>
                      <a:pt x="11849" y="3298"/>
                    </a:lnTo>
                    <a:lnTo>
                      <a:pt x="14879" y="4559"/>
                    </a:lnTo>
                    <a:lnTo>
                      <a:pt x="17210" y="5880"/>
                    </a:lnTo>
                    <a:lnTo>
                      <a:pt x="19075" y="7232"/>
                    </a:lnTo>
                    <a:lnTo>
                      <a:pt x="20435" y="8668"/>
                    </a:lnTo>
                    <a:lnTo>
                      <a:pt x="21134" y="10109"/>
                    </a:lnTo>
                    <a:lnTo>
                      <a:pt x="21134" y="11641"/>
                    </a:lnTo>
                    <a:lnTo>
                      <a:pt x="20668" y="13172"/>
                    </a:lnTo>
                    <a:lnTo>
                      <a:pt x="19541" y="14669"/>
                    </a:lnTo>
                    <a:lnTo>
                      <a:pt x="17676" y="16140"/>
                    </a:lnTo>
                    <a:lnTo>
                      <a:pt x="15112" y="17581"/>
                    </a:lnTo>
                    <a:lnTo>
                      <a:pt x="12082" y="18958"/>
                    </a:lnTo>
                    <a:lnTo>
                      <a:pt x="8391" y="20309"/>
                    </a:lnTo>
                    <a:lnTo>
                      <a:pt x="3963" y="21600"/>
                    </a:lnTo>
                    <a:lnTo>
                      <a:pt x="4429" y="21600"/>
                    </a:lnTo>
                    <a:lnTo>
                      <a:pt x="8858" y="20309"/>
                    </a:lnTo>
                    <a:lnTo>
                      <a:pt x="12548" y="18958"/>
                    </a:lnTo>
                    <a:lnTo>
                      <a:pt x="15578" y="17581"/>
                    </a:lnTo>
                    <a:lnTo>
                      <a:pt x="18142" y="16140"/>
                    </a:lnTo>
                    <a:lnTo>
                      <a:pt x="20007" y="14669"/>
                    </a:lnTo>
                    <a:lnTo>
                      <a:pt x="21134" y="13172"/>
                    </a:lnTo>
                    <a:lnTo>
                      <a:pt x="21600" y="11641"/>
                    </a:lnTo>
                    <a:lnTo>
                      <a:pt x="21600" y="10109"/>
                    </a:lnTo>
                    <a:lnTo>
                      <a:pt x="21600" y="10109"/>
                    </a:lnTo>
                    <a:close/>
                    <a:moveTo>
                      <a:pt x="21600" y="1010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84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440"/>
                    </a:moveTo>
                    <a:lnTo>
                      <a:pt x="21035" y="9058"/>
                    </a:lnTo>
                    <a:lnTo>
                      <a:pt x="19905" y="7712"/>
                    </a:lnTo>
                    <a:lnTo>
                      <a:pt x="18021" y="6361"/>
                    </a:lnTo>
                    <a:lnTo>
                      <a:pt x="15603" y="5040"/>
                    </a:lnTo>
                    <a:lnTo>
                      <a:pt x="12590" y="3748"/>
                    </a:lnTo>
                    <a:lnTo>
                      <a:pt x="9199" y="2462"/>
                    </a:lnTo>
                    <a:lnTo>
                      <a:pt x="5086" y="1201"/>
                    </a:lnTo>
                    <a:lnTo>
                      <a:pt x="377" y="0"/>
                    </a:lnTo>
                    <a:lnTo>
                      <a:pt x="0" y="0"/>
                    </a:lnTo>
                    <a:lnTo>
                      <a:pt x="4709" y="1201"/>
                    </a:lnTo>
                    <a:lnTo>
                      <a:pt x="8822" y="2462"/>
                    </a:lnTo>
                    <a:lnTo>
                      <a:pt x="12213" y="3748"/>
                    </a:lnTo>
                    <a:lnTo>
                      <a:pt x="15227" y="5040"/>
                    </a:lnTo>
                    <a:lnTo>
                      <a:pt x="17644" y="6361"/>
                    </a:lnTo>
                    <a:lnTo>
                      <a:pt x="19528" y="7712"/>
                    </a:lnTo>
                    <a:lnTo>
                      <a:pt x="20658" y="9058"/>
                    </a:lnTo>
                    <a:lnTo>
                      <a:pt x="21223" y="10440"/>
                    </a:lnTo>
                    <a:lnTo>
                      <a:pt x="21223" y="11851"/>
                    </a:lnTo>
                    <a:lnTo>
                      <a:pt x="20658" y="13262"/>
                    </a:lnTo>
                    <a:lnTo>
                      <a:pt x="19340" y="14669"/>
                    </a:lnTo>
                    <a:lnTo>
                      <a:pt x="17456" y="16080"/>
                    </a:lnTo>
                    <a:lnTo>
                      <a:pt x="14850" y="17491"/>
                    </a:lnTo>
                    <a:lnTo>
                      <a:pt x="11648" y="18903"/>
                    </a:lnTo>
                    <a:lnTo>
                      <a:pt x="7880" y="20249"/>
                    </a:lnTo>
                    <a:lnTo>
                      <a:pt x="3579" y="21600"/>
                    </a:lnTo>
                    <a:lnTo>
                      <a:pt x="3956" y="21600"/>
                    </a:lnTo>
                    <a:lnTo>
                      <a:pt x="8257" y="20249"/>
                    </a:lnTo>
                    <a:lnTo>
                      <a:pt x="12024" y="18903"/>
                    </a:lnTo>
                    <a:lnTo>
                      <a:pt x="15227" y="17491"/>
                    </a:lnTo>
                    <a:lnTo>
                      <a:pt x="17833" y="16110"/>
                    </a:lnTo>
                    <a:lnTo>
                      <a:pt x="19716" y="14699"/>
                    </a:lnTo>
                    <a:lnTo>
                      <a:pt x="21035" y="13292"/>
                    </a:lnTo>
                    <a:lnTo>
                      <a:pt x="21600" y="11851"/>
                    </a:lnTo>
                    <a:lnTo>
                      <a:pt x="21600" y="10440"/>
                    </a:lnTo>
                    <a:lnTo>
                      <a:pt x="21600" y="10440"/>
                    </a:lnTo>
                    <a:close/>
                    <a:moveTo>
                      <a:pt x="21600" y="104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96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449" y="10650"/>
                    </a:moveTo>
                    <a:lnTo>
                      <a:pt x="20847" y="9178"/>
                    </a:lnTo>
                    <a:lnTo>
                      <a:pt x="20270" y="8428"/>
                    </a:lnTo>
                    <a:lnTo>
                      <a:pt x="19668" y="7712"/>
                    </a:lnTo>
                    <a:lnTo>
                      <a:pt x="18765" y="6991"/>
                    </a:lnTo>
                    <a:lnTo>
                      <a:pt x="17862" y="6271"/>
                    </a:lnTo>
                    <a:lnTo>
                      <a:pt x="16658" y="5580"/>
                    </a:lnTo>
                    <a:lnTo>
                      <a:pt x="15303" y="4890"/>
                    </a:lnTo>
                    <a:lnTo>
                      <a:pt x="12318" y="3598"/>
                    </a:lnTo>
                    <a:lnTo>
                      <a:pt x="8856" y="2342"/>
                    </a:lnTo>
                    <a:lnTo>
                      <a:pt x="4817" y="1141"/>
                    </a:lnTo>
                    <a:lnTo>
                      <a:pt x="301" y="0"/>
                    </a:lnTo>
                    <a:lnTo>
                      <a:pt x="0" y="0"/>
                    </a:lnTo>
                    <a:lnTo>
                      <a:pt x="4516" y="1141"/>
                    </a:lnTo>
                    <a:lnTo>
                      <a:pt x="8555" y="2342"/>
                    </a:lnTo>
                    <a:lnTo>
                      <a:pt x="12017" y="3598"/>
                    </a:lnTo>
                    <a:lnTo>
                      <a:pt x="15002" y="4920"/>
                    </a:lnTo>
                    <a:lnTo>
                      <a:pt x="16357" y="5610"/>
                    </a:lnTo>
                    <a:lnTo>
                      <a:pt x="17561" y="6301"/>
                    </a:lnTo>
                    <a:lnTo>
                      <a:pt x="18464" y="7022"/>
                    </a:lnTo>
                    <a:lnTo>
                      <a:pt x="19367" y="7742"/>
                    </a:lnTo>
                    <a:lnTo>
                      <a:pt x="20120" y="8458"/>
                    </a:lnTo>
                    <a:lnTo>
                      <a:pt x="20546" y="9178"/>
                    </a:lnTo>
                    <a:lnTo>
                      <a:pt x="20998" y="9929"/>
                    </a:lnTo>
                    <a:lnTo>
                      <a:pt x="21148" y="10650"/>
                    </a:lnTo>
                    <a:lnTo>
                      <a:pt x="21299" y="11401"/>
                    </a:lnTo>
                    <a:lnTo>
                      <a:pt x="21148" y="12151"/>
                    </a:lnTo>
                    <a:lnTo>
                      <a:pt x="20847" y="12872"/>
                    </a:lnTo>
                    <a:lnTo>
                      <a:pt x="20546" y="13618"/>
                    </a:lnTo>
                    <a:lnTo>
                      <a:pt x="19969" y="14338"/>
                    </a:lnTo>
                    <a:lnTo>
                      <a:pt x="19217" y="15089"/>
                    </a:lnTo>
                    <a:lnTo>
                      <a:pt x="18163" y="15810"/>
                    </a:lnTo>
                    <a:lnTo>
                      <a:pt x="17109" y="16530"/>
                    </a:lnTo>
                    <a:lnTo>
                      <a:pt x="14701" y="17852"/>
                    </a:lnTo>
                    <a:lnTo>
                      <a:pt x="11866" y="19138"/>
                    </a:lnTo>
                    <a:lnTo>
                      <a:pt x="8404" y="20399"/>
                    </a:lnTo>
                    <a:lnTo>
                      <a:pt x="4516" y="21600"/>
                    </a:lnTo>
                    <a:lnTo>
                      <a:pt x="4817" y="21600"/>
                    </a:lnTo>
                    <a:lnTo>
                      <a:pt x="8705" y="20399"/>
                    </a:lnTo>
                    <a:lnTo>
                      <a:pt x="12167" y="19138"/>
                    </a:lnTo>
                    <a:lnTo>
                      <a:pt x="15002" y="17882"/>
                    </a:lnTo>
                    <a:lnTo>
                      <a:pt x="17410" y="16560"/>
                    </a:lnTo>
                    <a:lnTo>
                      <a:pt x="18464" y="15840"/>
                    </a:lnTo>
                    <a:lnTo>
                      <a:pt x="19518" y="15119"/>
                    </a:lnTo>
                    <a:lnTo>
                      <a:pt x="20270" y="14368"/>
                    </a:lnTo>
                    <a:lnTo>
                      <a:pt x="20847" y="13648"/>
                    </a:lnTo>
                    <a:lnTo>
                      <a:pt x="21148" y="12902"/>
                    </a:lnTo>
                    <a:lnTo>
                      <a:pt x="21449" y="12151"/>
                    </a:lnTo>
                    <a:lnTo>
                      <a:pt x="21600" y="11401"/>
                    </a:lnTo>
                    <a:lnTo>
                      <a:pt x="21449" y="10650"/>
                    </a:lnTo>
                    <a:lnTo>
                      <a:pt x="21449" y="10650"/>
                    </a:lnTo>
                    <a:close/>
                    <a:moveTo>
                      <a:pt x="21449" y="1065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64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609" y="9719"/>
                    </a:moveTo>
                    <a:lnTo>
                      <a:pt x="4349" y="8158"/>
                    </a:lnTo>
                    <a:lnTo>
                      <a:pt x="6089" y="6661"/>
                    </a:lnTo>
                    <a:lnTo>
                      <a:pt x="8553" y="5280"/>
                    </a:lnTo>
                    <a:lnTo>
                      <a:pt x="11162" y="3959"/>
                    </a:lnTo>
                    <a:lnTo>
                      <a:pt x="12032" y="3358"/>
                    </a:lnTo>
                    <a:lnTo>
                      <a:pt x="13772" y="2788"/>
                    </a:lnTo>
                    <a:lnTo>
                      <a:pt x="15511" y="2222"/>
                    </a:lnTo>
                    <a:lnTo>
                      <a:pt x="16381" y="1712"/>
                    </a:lnTo>
                    <a:lnTo>
                      <a:pt x="18121" y="1231"/>
                    </a:lnTo>
                    <a:lnTo>
                      <a:pt x="18991" y="781"/>
                    </a:lnTo>
                    <a:lnTo>
                      <a:pt x="20730" y="360"/>
                    </a:lnTo>
                    <a:lnTo>
                      <a:pt x="21600" y="0"/>
                    </a:lnTo>
                    <a:lnTo>
                      <a:pt x="19860" y="0"/>
                    </a:lnTo>
                    <a:lnTo>
                      <a:pt x="18991" y="360"/>
                    </a:lnTo>
                    <a:lnTo>
                      <a:pt x="17251" y="781"/>
                    </a:lnTo>
                    <a:lnTo>
                      <a:pt x="16381" y="1231"/>
                    </a:lnTo>
                    <a:lnTo>
                      <a:pt x="14642" y="1712"/>
                    </a:lnTo>
                    <a:lnTo>
                      <a:pt x="13772" y="2222"/>
                    </a:lnTo>
                    <a:lnTo>
                      <a:pt x="12032" y="2788"/>
                    </a:lnTo>
                    <a:lnTo>
                      <a:pt x="10293" y="3358"/>
                    </a:lnTo>
                    <a:lnTo>
                      <a:pt x="9423" y="3959"/>
                    </a:lnTo>
                    <a:lnTo>
                      <a:pt x="6958" y="5280"/>
                    </a:lnTo>
                    <a:lnTo>
                      <a:pt x="4349" y="6661"/>
                    </a:lnTo>
                    <a:lnTo>
                      <a:pt x="2609" y="8158"/>
                    </a:lnTo>
                    <a:lnTo>
                      <a:pt x="870" y="9719"/>
                    </a:lnTo>
                    <a:lnTo>
                      <a:pt x="0" y="11401"/>
                    </a:lnTo>
                    <a:lnTo>
                      <a:pt x="870" y="13022"/>
                    </a:lnTo>
                    <a:lnTo>
                      <a:pt x="1740" y="14609"/>
                    </a:lnTo>
                    <a:lnTo>
                      <a:pt x="3479" y="16110"/>
                    </a:lnTo>
                    <a:lnTo>
                      <a:pt x="5219" y="17581"/>
                    </a:lnTo>
                    <a:lnTo>
                      <a:pt x="8553" y="18988"/>
                    </a:lnTo>
                    <a:lnTo>
                      <a:pt x="12902" y="20309"/>
                    </a:lnTo>
                    <a:lnTo>
                      <a:pt x="18121" y="21600"/>
                    </a:lnTo>
                    <a:lnTo>
                      <a:pt x="19860" y="21600"/>
                    </a:lnTo>
                    <a:lnTo>
                      <a:pt x="14642" y="20309"/>
                    </a:lnTo>
                    <a:lnTo>
                      <a:pt x="10293" y="18988"/>
                    </a:lnTo>
                    <a:lnTo>
                      <a:pt x="6958" y="17581"/>
                    </a:lnTo>
                    <a:lnTo>
                      <a:pt x="5219" y="16140"/>
                    </a:lnTo>
                    <a:lnTo>
                      <a:pt x="3479" y="14609"/>
                    </a:lnTo>
                    <a:lnTo>
                      <a:pt x="2609" y="13052"/>
                    </a:lnTo>
                    <a:lnTo>
                      <a:pt x="1740" y="11401"/>
                    </a:lnTo>
                    <a:lnTo>
                      <a:pt x="2609" y="9719"/>
                    </a:lnTo>
                    <a:lnTo>
                      <a:pt x="2609" y="9719"/>
                    </a:lnTo>
                    <a:close/>
                    <a:moveTo>
                      <a:pt x="2609" y="971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84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00" y="10320"/>
                    </a:moveTo>
                    <a:lnTo>
                      <a:pt x="2167" y="8758"/>
                    </a:lnTo>
                    <a:lnTo>
                      <a:pt x="3901" y="7262"/>
                    </a:lnTo>
                    <a:lnTo>
                      <a:pt x="6068" y="5850"/>
                    </a:lnTo>
                    <a:lnTo>
                      <a:pt x="9102" y="4499"/>
                    </a:lnTo>
                    <a:lnTo>
                      <a:pt x="11703" y="3208"/>
                    </a:lnTo>
                    <a:lnTo>
                      <a:pt x="15098" y="2042"/>
                    </a:lnTo>
                    <a:lnTo>
                      <a:pt x="18132" y="961"/>
                    </a:lnTo>
                    <a:lnTo>
                      <a:pt x="21600" y="0"/>
                    </a:lnTo>
                    <a:lnTo>
                      <a:pt x="20733" y="0"/>
                    </a:lnTo>
                    <a:lnTo>
                      <a:pt x="17266" y="961"/>
                    </a:lnTo>
                    <a:lnTo>
                      <a:pt x="14304" y="2042"/>
                    </a:lnTo>
                    <a:lnTo>
                      <a:pt x="11270" y="3208"/>
                    </a:lnTo>
                    <a:lnTo>
                      <a:pt x="8235" y="4499"/>
                    </a:lnTo>
                    <a:lnTo>
                      <a:pt x="5635" y="5850"/>
                    </a:lnTo>
                    <a:lnTo>
                      <a:pt x="3468" y="7262"/>
                    </a:lnTo>
                    <a:lnTo>
                      <a:pt x="1734" y="8758"/>
                    </a:lnTo>
                    <a:lnTo>
                      <a:pt x="433" y="10320"/>
                    </a:lnTo>
                    <a:lnTo>
                      <a:pt x="0" y="11881"/>
                    </a:lnTo>
                    <a:lnTo>
                      <a:pt x="867" y="13382"/>
                    </a:lnTo>
                    <a:lnTo>
                      <a:pt x="2167" y="14879"/>
                    </a:lnTo>
                    <a:lnTo>
                      <a:pt x="3901" y="16290"/>
                    </a:lnTo>
                    <a:lnTo>
                      <a:pt x="6935" y="17701"/>
                    </a:lnTo>
                    <a:lnTo>
                      <a:pt x="10403" y="19048"/>
                    </a:lnTo>
                    <a:lnTo>
                      <a:pt x="14665" y="20339"/>
                    </a:lnTo>
                    <a:lnTo>
                      <a:pt x="19866" y="21600"/>
                    </a:lnTo>
                    <a:lnTo>
                      <a:pt x="20733" y="21600"/>
                    </a:lnTo>
                    <a:lnTo>
                      <a:pt x="15532" y="20339"/>
                    </a:lnTo>
                    <a:lnTo>
                      <a:pt x="11270" y="19048"/>
                    </a:lnTo>
                    <a:lnTo>
                      <a:pt x="7802" y="17701"/>
                    </a:lnTo>
                    <a:lnTo>
                      <a:pt x="4768" y="16320"/>
                    </a:lnTo>
                    <a:lnTo>
                      <a:pt x="3034" y="14879"/>
                    </a:lnTo>
                    <a:lnTo>
                      <a:pt x="1734" y="13412"/>
                    </a:lnTo>
                    <a:lnTo>
                      <a:pt x="867" y="11881"/>
                    </a:lnTo>
                    <a:lnTo>
                      <a:pt x="1300" y="10320"/>
                    </a:lnTo>
                    <a:lnTo>
                      <a:pt x="1300" y="10320"/>
                    </a:lnTo>
                    <a:close/>
                    <a:moveTo>
                      <a:pt x="1300" y="1032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36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20989" y="0"/>
                    </a:lnTo>
                    <a:lnTo>
                      <a:pt x="16098" y="1111"/>
                    </a:lnTo>
                    <a:lnTo>
                      <a:pt x="12175" y="2312"/>
                    </a:lnTo>
                    <a:lnTo>
                      <a:pt x="8508" y="3538"/>
                    </a:lnTo>
                    <a:lnTo>
                      <a:pt x="5451" y="4859"/>
                    </a:lnTo>
                    <a:lnTo>
                      <a:pt x="3311" y="6241"/>
                    </a:lnTo>
                    <a:lnTo>
                      <a:pt x="1477" y="7652"/>
                    </a:lnTo>
                    <a:lnTo>
                      <a:pt x="306" y="9118"/>
                    </a:lnTo>
                    <a:lnTo>
                      <a:pt x="0" y="10620"/>
                    </a:lnTo>
                    <a:lnTo>
                      <a:pt x="306" y="12031"/>
                    </a:lnTo>
                    <a:lnTo>
                      <a:pt x="1223" y="13442"/>
                    </a:lnTo>
                    <a:lnTo>
                      <a:pt x="2394" y="14819"/>
                    </a:lnTo>
                    <a:lnTo>
                      <a:pt x="4534" y="16230"/>
                    </a:lnTo>
                    <a:lnTo>
                      <a:pt x="6979" y="17611"/>
                    </a:lnTo>
                    <a:lnTo>
                      <a:pt x="10036" y="18958"/>
                    </a:lnTo>
                    <a:lnTo>
                      <a:pt x="13704" y="20309"/>
                    </a:lnTo>
                    <a:lnTo>
                      <a:pt x="17626" y="21600"/>
                    </a:lnTo>
                    <a:lnTo>
                      <a:pt x="18238" y="21600"/>
                    </a:lnTo>
                    <a:lnTo>
                      <a:pt x="14315" y="20309"/>
                    </a:lnTo>
                    <a:lnTo>
                      <a:pt x="10647" y="18958"/>
                    </a:lnTo>
                    <a:lnTo>
                      <a:pt x="7591" y="17611"/>
                    </a:lnTo>
                    <a:lnTo>
                      <a:pt x="5145" y="16230"/>
                    </a:lnTo>
                    <a:lnTo>
                      <a:pt x="3006" y="14819"/>
                    </a:lnTo>
                    <a:lnTo>
                      <a:pt x="1783" y="13442"/>
                    </a:lnTo>
                    <a:lnTo>
                      <a:pt x="917" y="12031"/>
                    </a:lnTo>
                    <a:lnTo>
                      <a:pt x="611" y="10620"/>
                    </a:lnTo>
                    <a:lnTo>
                      <a:pt x="917" y="9118"/>
                    </a:lnTo>
                    <a:lnTo>
                      <a:pt x="2089" y="7652"/>
                    </a:lnTo>
                    <a:lnTo>
                      <a:pt x="3617" y="6241"/>
                    </a:lnTo>
                    <a:lnTo>
                      <a:pt x="6062" y="4859"/>
                    </a:lnTo>
                    <a:lnTo>
                      <a:pt x="9119" y="3538"/>
                    </a:lnTo>
                    <a:lnTo>
                      <a:pt x="12481" y="2312"/>
                    </a:lnTo>
                    <a:lnTo>
                      <a:pt x="16709" y="1111"/>
                    </a:lnTo>
                    <a:lnTo>
                      <a:pt x="21600" y="0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84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2" y="10740"/>
                    </a:moveTo>
                    <a:lnTo>
                      <a:pt x="903" y="9239"/>
                    </a:lnTo>
                    <a:lnTo>
                      <a:pt x="2032" y="7802"/>
                    </a:lnTo>
                    <a:lnTo>
                      <a:pt x="3613" y="6391"/>
                    </a:lnTo>
                    <a:lnTo>
                      <a:pt x="6096" y="5010"/>
                    </a:lnTo>
                    <a:lnTo>
                      <a:pt x="8994" y="3658"/>
                    </a:lnTo>
                    <a:lnTo>
                      <a:pt x="12606" y="2402"/>
                    </a:lnTo>
                    <a:lnTo>
                      <a:pt x="16896" y="1171"/>
                    </a:lnTo>
                    <a:lnTo>
                      <a:pt x="21600" y="0"/>
                    </a:lnTo>
                    <a:lnTo>
                      <a:pt x="21148" y="0"/>
                    </a:lnTo>
                    <a:lnTo>
                      <a:pt x="16445" y="1171"/>
                    </a:lnTo>
                    <a:lnTo>
                      <a:pt x="12155" y="2402"/>
                    </a:lnTo>
                    <a:lnTo>
                      <a:pt x="8542" y="3688"/>
                    </a:lnTo>
                    <a:lnTo>
                      <a:pt x="5645" y="5010"/>
                    </a:lnTo>
                    <a:lnTo>
                      <a:pt x="3161" y="6391"/>
                    </a:lnTo>
                    <a:lnTo>
                      <a:pt x="1580" y="7802"/>
                    </a:lnTo>
                    <a:lnTo>
                      <a:pt x="452" y="9269"/>
                    </a:lnTo>
                    <a:lnTo>
                      <a:pt x="0" y="10740"/>
                    </a:lnTo>
                    <a:lnTo>
                      <a:pt x="226" y="12181"/>
                    </a:lnTo>
                    <a:lnTo>
                      <a:pt x="1129" y="13588"/>
                    </a:lnTo>
                    <a:lnTo>
                      <a:pt x="2484" y="14999"/>
                    </a:lnTo>
                    <a:lnTo>
                      <a:pt x="4516" y="16380"/>
                    </a:lnTo>
                    <a:lnTo>
                      <a:pt x="7187" y="17761"/>
                    </a:lnTo>
                    <a:lnTo>
                      <a:pt x="10348" y="19078"/>
                    </a:lnTo>
                    <a:lnTo>
                      <a:pt x="13961" y="20369"/>
                    </a:lnTo>
                    <a:lnTo>
                      <a:pt x="18213" y="21600"/>
                    </a:lnTo>
                    <a:lnTo>
                      <a:pt x="18665" y="21600"/>
                    </a:lnTo>
                    <a:lnTo>
                      <a:pt x="14413" y="20369"/>
                    </a:lnTo>
                    <a:lnTo>
                      <a:pt x="10800" y="19078"/>
                    </a:lnTo>
                    <a:lnTo>
                      <a:pt x="7639" y="17761"/>
                    </a:lnTo>
                    <a:lnTo>
                      <a:pt x="4967" y="16380"/>
                    </a:lnTo>
                    <a:lnTo>
                      <a:pt x="2935" y="14999"/>
                    </a:lnTo>
                    <a:lnTo>
                      <a:pt x="1580" y="13588"/>
                    </a:lnTo>
                    <a:lnTo>
                      <a:pt x="677" y="12181"/>
                    </a:lnTo>
                    <a:lnTo>
                      <a:pt x="452" y="10740"/>
                    </a:lnTo>
                    <a:lnTo>
                      <a:pt x="452" y="10740"/>
                    </a:lnTo>
                    <a:close/>
                    <a:moveTo>
                      <a:pt x="452" y="107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76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53" y="10500"/>
                    </a:moveTo>
                    <a:lnTo>
                      <a:pt x="852" y="8998"/>
                    </a:lnTo>
                    <a:lnTo>
                      <a:pt x="2087" y="7532"/>
                    </a:lnTo>
                    <a:lnTo>
                      <a:pt x="3850" y="6121"/>
                    </a:lnTo>
                    <a:lnTo>
                      <a:pt x="6318" y="4709"/>
                    </a:lnTo>
                    <a:lnTo>
                      <a:pt x="9287" y="3448"/>
                    </a:lnTo>
                    <a:lnTo>
                      <a:pt x="12989" y="2222"/>
                    </a:lnTo>
                    <a:lnTo>
                      <a:pt x="17045" y="1081"/>
                    </a:lnTo>
                    <a:lnTo>
                      <a:pt x="21600" y="0"/>
                    </a:lnTo>
                    <a:lnTo>
                      <a:pt x="21247" y="0"/>
                    </a:lnTo>
                    <a:lnTo>
                      <a:pt x="16692" y="1051"/>
                    </a:lnTo>
                    <a:lnTo>
                      <a:pt x="12637" y="2192"/>
                    </a:lnTo>
                    <a:lnTo>
                      <a:pt x="9140" y="3418"/>
                    </a:lnTo>
                    <a:lnTo>
                      <a:pt x="6142" y="4709"/>
                    </a:lnTo>
                    <a:lnTo>
                      <a:pt x="3673" y="6091"/>
                    </a:lnTo>
                    <a:lnTo>
                      <a:pt x="1734" y="7532"/>
                    </a:lnTo>
                    <a:lnTo>
                      <a:pt x="529" y="8998"/>
                    </a:lnTo>
                    <a:lnTo>
                      <a:pt x="0" y="10500"/>
                    </a:lnTo>
                    <a:lnTo>
                      <a:pt x="176" y="12031"/>
                    </a:lnTo>
                    <a:lnTo>
                      <a:pt x="852" y="13558"/>
                    </a:lnTo>
                    <a:lnTo>
                      <a:pt x="2263" y="15089"/>
                    </a:lnTo>
                    <a:lnTo>
                      <a:pt x="4379" y="16590"/>
                    </a:lnTo>
                    <a:lnTo>
                      <a:pt x="6671" y="17882"/>
                    </a:lnTo>
                    <a:lnTo>
                      <a:pt x="9287" y="19138"/>
                    </a:lnTo>
                    <a:lnTo>
                      <a:pt x="12460" y="20399"/>
                    </a:lnTo>
                    <a:lnTo>
                      <a:pt x="15987" y="21600"/>
                    </a:lnTo>
                    <a:lnTo>
                      <a:pt x="16340" y="21600"/>
                    </a:lnTo>
                    <a:lnTo>
                      <a:pt x="12813" y="20399"/>
                    </a:lnTo>
                    <a:lnTo>
                      <a:pt x="9639" y="19138"/>
                    </a:lnTo>
                    <a:lnTo>
                      <a:pt x="7024" y="17882"/>
                    </a:lnTo>
                    <a:lnTo>
                      <a:pt x="4731" y="16590"/>
                    </a:lnTo>
                    <a:lnTo>
                      <a:pt x="2616" y="15089"/>
                    </a:lnTo>
                    <a:lnTo>
                      <a:pt x="1205" y="13558"/>
                    </a:lnTo>
                    <a:lnTo>
                      <a:pt x="529" y="12031"/>
                    </a:lnTo>
                    <a:lnTo>
                      <a:pt x="353" y="10500"/>
                    </a:lnTo>
                    <a:lnTo>
                      <a:pt x="353" y="10500"/>
                    </a:lnTo>
                    <a:close/>
                    <a:moveTo>
                      <a:pt x="353" y="1050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76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65" y="9749"/>
                    </a:moveTo>
                    <a:lnTo>
                      <a:pt x="1239" y="8548"/>
                    </a:lnTo>
                    <a:lnTo>
                      <a:pt x="2477" y="7382"/>
                    </a:lnTo>
                    <a:lnTo>
                      <a:pt x="4155" y="6181"/>
                    </a:lnTo>
                    <a:lnTo>
                      <a:pt x="6477" y="4980"/>
                    </a:lnTo>
                    <a:lnTo>
                      <a:pt x="9419" y="3778"/>
                    </a:lnTo>
                    <a:lnTo>
                      <a:pt x="12800" y="2552"/>
                    </a:lnTo>
                    <a:lnTo>
                      <a:pt x="16981" y="1291"/>
                    </a:lnTo>
                    <a:lnTo>
                      <a:pt x="19123" y="661"/>
                    </a:lnTo>
                    <a:lnTo>
                      <a:pt x="21600" y="0"/>
                    </a:lnTo>
                    <a:lnTo>
                      <a:pt x="21290" y="0"/>
                    </a:lnTo>
                    <a:lnTo>
                      <a:pt x="18813" y="661"/>
                    </a:lnTo>
                    <a:lnTo>
                      <a:pt x="16516" y="1291"/>
                    </a:lnTo>
                    <a:lnTo>
                      <a:pt x="14503" y="1922"/>
                    </a:lnTo>
                    <a:lnTo>
                      <a:pt x="12490" y="2552"/>
                    </a:lnTo>
                    <a:lnTo>
                      <a:pt x="9110" y="3778"/>
                    </a:lnTo>
                    <a:lnTo>
                      <a:pt x="6168" y="4980"/>
                    </a:lnTo>
                    <a:lnTo>
                      <a:pt x="3871" y="6181"/>
                    </a:lnTo>
                    <a:lnTo>
                      <a:pt x="2168" y="7352"/>
                    </a:lnTo>
                    <a:lnTo>
                      <a:pt x="929" y="8518"/>
                    </a:lnTo>
                    <a:lnTo>
                      <a:pt x="155" y="9719"/>
                    </a:lnTo>
                    <a:lnTo>
                      <a:pt x="0" y="11010"/>
                    </a:lnTo>
                    <a:lnTo>
                      <a:pt x="310" y="12361"/>
                    </a:lnTo>
                    <a:lnTo>
                      <a:pt x="1239" y="13708"/>
                    </a:lnTo>
                    <a:lnTo>
                      <a:pt x="2942" y="15149"/>
                    </a:lnTo>
                    <a:lnTo>
                      <a:pt x="3871" y="15870"/>
                    </a:lnTo>
                    <a:lnTo>
                      <a:pt x="5084" y="16620"/>
                    </a:lnTo>
                    <a:lnTo>
                      <a:pt x="6323" y="17401"/>
                    </a:lnTo>
                    <a:lnTo>
                      <a:pt x="7871" y="18212"/>
                    </a:lnTo>
                    <a:lnTo>
                      <a:pt x="9419" y="19018"/>
                    </a:lnTo>
                    <a:lnTo>
                      <a:pt x="11277" y="19858"/>
                    </a:lnTo>
                    <a:lnTo>
                      <a:pt x="13110" y="20699"/>
                    </a:lnTo>
                    <a:lnTo>
                      <a:pt x="15277" y="21600"/>
                    </a:lnTo>
                    <a:lnTo>
                      <a:pt x="15587" y="21600"/>
                    </a:lnTo>
                    <a:lnTo>
                      <a:pt x="13419" y="20699"/>
                    </a:lnTo>
                    <a:lnTo>
                      <a:pt x="11561" y="19858"/>
                    </a:lnTo>
                    <a:lnTo>
                      <a:pt x="9729" y="19018"/>
                    </a:lnTo>
                    <a:lnTo>
                      <a:pt x="8181" y="18212"/>
                    </a:lnTo>
                    <a:lnTo>
                      <a:pt x="6632" y="17401"/>
                    </a:lnTo>
                    <a:lnTo>
                      <a:pt x="5394" y="16650"/>
                    </a:lnTo>
                    <a:lnTo>
                      <a:pt x="4155" y="15870"/>
                    </a:lnTo>
                    <a:lnTo>
                      <a:pt x="3252" y="15149"/>
                    </a:lnTo>
                    <a:lnTo>
                      <a:pt x="1548" y="13708"/>
                    </a:lnTo>
                    <a:lnTo>
                      <a:pt x="619" y="12361"/>
                    </a:lnTo>
                    <a:lnTo>
                      <a:pt x="310" y="11040"/>
                    </a:lnTo>
                    <a:lnTo>
                      <a:pt x="465" y="9749"/>
                    </a:lnTo>
                    <a:lnTo>
                      <a:pt x="465" y="9749"/>
                    </a:lnTo>
                    <a:close/>
                    <a:moveTo>
                      <a:pt x="465" y="974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24"/>
                  </a:moveTo>
                  <a:lnTo>
                    <a:pt x="1502" y="3480"/>
                  </a:lnTo>
                  <a:lnTo>
                    <a:pt x="3433" y="6137"/>
                  </a:lnTo>
                  <a:lnTo>
                    <a:pt x="5758" y="8793"/>
                  </a:lnTo>
                  <a:lnTo>
                    <a:pt x="8118" y="11357"/>
                  </a:lnTo>
                  <a:lnTo>
                    <a:pt x="10907" y="13998"/>
                  </a:lnTo>
                  <a:lnTo>
                    <a:pt x="13911" y="16563"/>
                  </a:lnTo>
                  <a:lnTo>
                    <a:pt x="17309" y="19127"/>
                  </a:lnTo>
                  <a:lnTo>
                    <a:pt x="20956" y="21600"/>
                  </a:lnTo>
                  <a:lnTo>
                    <a:pt x="21600" y="21600"/>
                  </a:lnTo>
                  <a:lnTo>
                    <a:pt x="17738" y="19035"/>
                  </a:lnTo>
                  <a:lnTo>
                    <a:pt x="14340" y="16379"/>
                  </a:lnTo>
                  <a:lnTo>
                    <a:pt x="11122" y="13723"/>
                  </a:lnTo>
                  <a:lnTo>
                    <a:pt x="8332" y="10991"/>
                  </a:lnTo>
                  <a:lnTo>
                    <a:pt x="5758" y="8335"/>
                  </a:lnTo>
                  <a:lnTo>
                    <a:pt x="3648" y="5587"/>
                  </a:lnTo>
                  <a:lnTo>
                    <a:pt x="1717" y="2748"/>
                  </a:lnTo>
                  <a:lnTo>
                    <a:pt x="0" y="0"/>
                  </a:lnTo>
                  <a:lnTo>
                    <a:pt x="0" y="824"/>
                  </a:lnTo>
                  <a:lnTo>
                    <a:pt x="0" y="824"/>
                  </a:lnTo>
                  <a:close/>
                  <a:moveTo>
                    <a:pt x="0" y="824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21"/>
                  </a:moveTo>
                  <a:lnTo>
                    <a:pt x="10277" y="12169"/>
                  </a:lnTo>
                  <a:lnTo>
                    <a:pt x="20458" y="21600"/>
                  </a:lnTo>
                  <a:lnTo>
                    <a:pt x="21600" y="21600"/>
                  </a:lnTo>
                  <a:lnTo>
                    <a:pt x="15891" y="16732"/>
                  </a:lnTo>
                  <a:lnTo>
                    <a:pt x="10848" y="11256"/>
                  </a:lnTo>
                  <a:lnTo>
                    <a:pt x="0" y="0"/>
                  </a:lnTo>
                  <a:lnTo>
                    <a:pt x="0" y="1521"/>
                  </a:lnTo>
                  <a:lnTo>
                    <a:pt x="0" y="1521"/>
                  </a:lnTo>
                  <a:close/>
                  <a:moveTo>
                    <a:pt x="0" y="1521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802"/>
                  </a:lnTo>
                  <a:lnTo>
                    <a:pt x="21336" y="20149"/>
                  </a:lnTo>
                  <a:lnTo>
                    <a:pt x="21072" y="19508"/>
                  </a:lnTo>
                  <a:lnTo>
                    <a:pt x="20279" y="17984"/>
                  </a:lnTo>
                  <a:lnTo>
                    <a:pt x="19486" y="16460"/>
                  </a:lnTo>
                  <a:lnTo>
                    <a:pt x="17527" y="13557"/>
                  </a:lnTo>
                  <a:lnTo>
                    <a:pt x="15017" y="10873"/>
                  </a:lnTo>
                  <a:lnTo>
                    <a:pt x="12374" y="8333"/>
                  </a:lnTo>
                  <a:lnTo>
                    <a:pt x="9490" y="6023"/>
                  </a:lnTo>
                  <a:lnTo>
                    <a:pt x="6451" y="3846"/>
                  </a:lnTo>
                  <a:lnTo>
                    <a:pt x="3303" y="1814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3039" y="1814"/>
                  </a:lnTo>
                  <a:lnTo>
                    <a:pt x="6055" y="3846"/>
                  </a:lnTo>
                  <a:lnTo>
                    <a:pt x="9094" y="6023"/>
                  </a:lnTo>
                  <a:lnTo>
                    <a:pt x="12000" y="8333"/>
                  </a:lnTo>
                  <a:lnTo>
                    <a:pt x="14752" y="10873"/>
                  </a:lnTo>
                  <a:lnTo>
                    <a:pt x="17130" y="13557"/>
                  </a:lnTo>
                  <a:lnTo>
                    <a:pt x="19222" y="16460"/>
                  </a:lnTo>
                  <a:lnTo>
                    <a:pt x="20015" y="17984"/>
                  </a:lnTo>
                  <a:lnTo>
                    <a:pt x="20807" y="19580"/>
                  </a:lnTo>
                  <a:lnTo>
                    <a:pt x="21204" y="20584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987"/>
                  </a:lnTo>
                  <a:lnTo>
                    <a:pt x="17292" y="15465"/>
                  </a:lnTo>
                  <a:lnTo>
                    <a:pt x="12231" y="10123"/>
                  </a:lnTo>
                  <a:lnTo>
                    <a:pt x="6658" y="4908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6296" y="5061"/>
                  </a:lnTo>
                  <a:lnTo>
                    <a:pt x="12050" y="10429"/>
                  </a:lnTo>
                  <a:lnTo>
                    <a:pt x="17111" y="15925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661"/>
                  </a:lnTo>
                  <a:lnTo>
                    <a:pt x="11782" y="10017"/>
                  </a:lnTo>
                  <a:lnTo>
                    <a:pt x="637" y="0"/>
                  </a:lnTo>
                  <a:lnTo>
                    <a:pt x="0" y="0"/>
                  </a:lnTo>
                  <a:lnTo>
                    <a:pt x="5732" y="5322"/>
                  </a:lnTo>
                  <a:lnTo>
                    <a:pt x="11463" y="10643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864"/>
                  </a:moveTo>
                  <a:lnTo>
                    <a:pt x="0" y="21600"/>
                  </a:lnTo>
                  <a:lnTo>
                    <a:pt x="1364" y="18565"/>
                  </a:lnTo>
                  <a:lnTo>
                    <a:pt x="3183" y="15529"/>
                  </a:lnTo>
                  <a:lnTo>
                    <a:pt x="5432" y="12678"/>
                  </a:lnTo>
                  <a:lnTo>
                    <a:pt x="7857" y="9919"/>
                  </a:lnTo>
                  <a:lnTo>
                    <a:pt x="10888" y="7266"/>
                  </a:lnTo>
                  <a:lnTo>
                    <a:pt x="14046" y="4783"/>
                  </a:lnTo>
                  <a:lnTo>
                    <a:pt x="17684" y="2300"/>
                  </a:lnTo>
                  <a:lnTo>
                    <a:pt x="21600" y="0"/>
                  </a:lnTo>
                  <a:lnTo>
                    <a:pt x="21145" y="0"/>
                  </a:lnTo>
                  <a:lnTo>
                    <a:pt x="17381" y="2208"/>
                  </a:lnTo>
                  <a:lnTo>
                    <a:pt x="13895" y="4599"/>
                  </a:lnTo>
                  <a:lnTo>
                    <a:pt x="10737" y="7082"/>
                  </a:lnTo>
                  <a:lnTo>
                    <a:pt x="7857" y="9643"/>
                  </a:lnTo>
                  <a:lnTo>
                    <a:pt x="5432" y="12310"/>
                  </a:lnTo>
                  <a:lnTo>
                    <a:pt x="3335" y="15069"/>
                  </a:lnTo>
                  <a:lnTo>
                    <a:pt x="1516" y="17921"/>
                  </a:lnTo>
                  <a:lnTo>
                    <a:pt x="0" y="20864"/>
                  </a:lnTo>
                  <a:lnTo>
                    <a:pt x="0" y="20864"/>
                  </a:lnTo>
                  <a:close/>
                  <a:moveTo>
                    <a:pt x="0" y="20864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937" y="0"/>
                  </a:lnTo>
                  <a:lnTo>
                    <a:pt x="15002" y="4760"/>
                  </a:lnTo>
                  <a:lnTo>
                    <a:pt x="9473" y="9736"/>
                  </a:lnTo>
                  <a:lnTo>
                    <a:pt x="4423" y="15145"/>
                  </a:lnTo>
                  <a:lnTo>
                    <a:pt x="0" y="20735"/>
                  </a:lnTo>
                  <a:lnTo>
                    <a:pt x="0" y="21600"/>
                  </a:lnTo>
                  <a:lnTo>
                    <a:pt x="4423" y="15578"/>
                  </a:lnTo>
                  <a:lnTo>
                    <a:pt x="9473" y="10169"/>
                  </a:lnTo>
                  <a:lnTo>
                    <a:pt x="15223" y="497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155" y="0"/>
                  </a:lnTo>
                  <a:lnTo>
                    <a:pt x="9636" y="9771"/>
                  </a:lnTo>
                  <a:lnTo>
                    <a:pt x="4818" y="14914"/>
                  </a:lnTo>
                  <a:lnTo>
                    <a:pt x="0" y="20057"/>
                  </a:lnTo>
                  <a:lnTo>
                    <a:pt x="0" y="21600"/>
                  </a:lnTo>
                  <a:lnTo>
                    <a:pt x="10117" y="1028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5520"/>
              <a:chOff x="0" y="622440"/>
              <a:chExt cx="9140760" cy="24955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88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52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6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76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7481520" y="6243480"/>
            <a:ext cx="2746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6014-209B-4E74-B229-A14ED3C9679E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Unemployment in Germany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erike Wittman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rter 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9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1-201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440" name="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20"/>
                  </a:moveTo>
                  <a:lnTo>
                    <a:pt x="21600" y="0"/>
                  </a:lnTo>
                  <a:lnTo>
                    <a:pt x="21058" y="1291"/>
                  </a:lnTo>
                  <a:lnTo>
                    <a:pt x="20335" y="2671"/>
                  </a:lnTo>
                  <a:lnTo>
                    <a:pt x="18889" y="4972"/>
                  </a:lnTo>
                  <a:lnTo>
                    <a:pt x="17292" y="7272"/>
                  </a:lnTo>
                  <a:lnTo>
                    <a:pt x="15123" y="9573"/>
                  </a:lnTo>
                  <a:lnTo>
                    <a:pt x="12773" y="11950"/>
                  </a:lnTo>
                  <a:lnTo>
                    <a:pt x="10062" y="14328"/>
                  </a:lnTo>
                  <a:lnTo>
                    <a:pt x="7019" y="16769"/>
                  </a:lnTo>
                  <a:lnTo>
                    <a:pt x="3766" y="19146"/>
                  </a:lnTo>
                  <a:lnTo>
                    <a:pt x="0" y="21600"/>
                  </a:lnTo>
                  <a:lnTo>
                    <a:pt x="331" y="21600"/>
                  </a:lnTo>
                  <a:lnTo>
                    <a:pt x="4127" y="19146"/>
                  </a:lnTo>
                  <a:lnTo>
                    <a:pt x="7381" y="16769"/>
                  </a:lnTo>
                  <a:lnTo>
                    <a:pt x="10423" y="14328"/>
                  </a:lnTo>
                  <a:lnTo>
                    <a:pt x="13135" y="11950"/>
                  </a:lnTo>
                  <a:lnTo>
                    <a:pt x="15485" y="9573"/>
                  </a:lnTo>
                  <a:lnTo>
                    <a:pt x="17623" y="7272"/>
                  </a:lnTo>
                  <a:lnTo>
                    <a:pt x="19250" y="4972"/>
                  </a:lnTo>
                  <a:lnTo>
                    <a:pt x="20696" y="2671"/>
                  </a:lnTo>
                  <a:lnTo>
                    <a:pt x="21238" y="1828"/>
                  </a:lnTo>
                  <a:lnTo>
                    <a:pt x="21600" y="920"/>
                  </a:lnTo>
                  <a:lnTo>
                    <a:pt x="21600" y="920"/>
                  </a:lnTo>
                  <a:close/>
                  <a:moveTo>
                    <a:pt x="21600" y="92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6787" y="5462"/>
                  </a:lnTo>
                  <a:lnTo>
                    <a:pt x="11688" y="10924"/>
                  </a:lnTo>
                  <a:lnTo>
                    <a:pt x="5844" y="16386"/>
                  </a:lnTo>
                  <a:lnTo>
                    <a:pt x="0" y="21600"/>
                  </a:lnTo>
                  <a:lnTo>
                    <a:pt x="688" y="21600"/>
                  </a:lnTo>
                  <a:lnTo>
                    <a:pt x="6532" y="16634"/>
                  </a:lnTo>
                  <a:lnTo>
                    <a:pt x="11688" y="11669"/>
                  </a:lnTo>
                  <a:lnTo>
                    <a:pt x="21600" y="993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629" y="21600"/>
                  </a:lnTo>
                  <a:lnTo>
                    <a:pt x="12343" y="12706"/>
                  </a:lnTo>
                  <a:lnTo>
                    <a:pt x="21600" y="5082"/>
                  </a:lnTo>
                  <a:lnTo>
                    <a:pt x="21600" y="0"/>
                  </a:lnTo>
                  <a:lnTo>
                    <a:pt x="10800" y="11435"/>
                  </a:lnTo>
                  <a:lnTo>
                    <a:pt x="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444" name="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8000" y="21600"/>
                    </a:lnTo>
                    <a:lnTo>
                      <a:pt x="21600" y="21600"/>
                    </a:lnTo>
                    <a:lnTo>
                      <a:pt x="36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979" y="0"/>
                    </a:moveTo>
                    <a:lnTo>
                      <a:pt x="1490" y="0"/>
                    </a:lnTo>
                    <a:lnTo>
                      <a:pt x="5214" y="1081"/>
                    </a:lnTo>
                    <a:lnTo>
                      <a:pt x="8938" y="2222"/>
                    </a:lnTo>
                    <a:lnTo>
                      <a:pt x="11917" y="3448"/>
                    </a:lnTo>
                    <a:lnTo>
                      <a:pt x="14897" y="4739"/>
                    </a:lnTo>
                    <a:lnTo>
                      <a:pt x="16386" y="6061"/>
                    </a:lnTo>
                    <a:lnTo>
                      <a:pt x="18621" y="7442"/>
                    </a:lnTo>
                    <a:lnTo>
                      <a:pt x="19366" y="8848"/>
                    </a:lnTo>
                    <a:lnTo>
                      <a:pt x="20110" y="10320"/>
                    </a:lnTo>
                    <a:lnTo>
                      <a:pt x="19366" y="13232"/>
                    </a:lnTo>
                    <a:lnTo>
                      <a:pt x="15641" y="16140"/>
                    </a:lnTo>
                    <a:lnTo>
                      <a:pt x="13407" y="17551"/>
                    </a:lnTo>
                    <a:lnTo>
                      <a:pt x="9683" y="18958"/>
                    </a:lnTo>
                    <a:lnTo>
                      <a:pt x="5214" y="20309"/>
                    </a:lnTo>
                    <a:lnTo>
                      <a:pt x="0" y="21600"/>
                    </a:lnTo>
                    <a:lnTo>
                      <a:pt x="1490" y="21600"/>
                    </a:lnTo>
                    <a:lnTo>
                      <a:pt x="6703" y="20309"/>
                    </a:lnTo>
                    <a:lnTo>
                      <a:pt x="11172" y="18928"/>
                    </a:lnTo>
                    <a:lnTo>
                      <a:pt x="14897" y="17551"/>
                    </a:lnTo>
                    <a:lnTo>
                      <a:pt x="17131" y="16110"/>
                    </a:lnTo>
                    <a:lnTo>
                      <a:pt x="20855" y="13202"/>
                    </a:lnTo>
                    <a:lnTo>
                      <a:pt x="21600" y="10290"/>
                    </a:lnTo>
                    <a:lnTo>
                      <a:pt x="20855" y="8848"/>
                    </a:lnTo>
                    <a:lnTo>
                      <a:pt x="20110" y="7442"/>
                    </a:lnTo>
                    <a:lnTo>
                      <a:pt x="17876" y="6061"/>
                    </a:lnTo>
                    <a:lnTo>
                      <a:pt x="16386" y="4709"/>
                    </a:lnTo>
                    <a:lnTo>
                      <a:pt x="13407" y="3448"/>
                    </a:lnTo>
                    <a:lnTo>
                      <a:pt x="10428" y="2222"/>
                    </a:lnTo>
                    <a:lnTo>
                      <a:pt x="6703" y="1081"/>
                    </a:lnTo>
                    <a:lnTo>
                      <a:pt x="2979" y="0"/>
                    </a:lnTo>
                    <a:lnTo>
                      <a:pt x="2979" y="0"/>
                    </a:lnTo>
                    <a:close/>
                    <a:moveTo>
                      <a:pt x="2979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213" y="10079"/>
                    </a:moveTo>
                    <a:lnTo>
                      <a:pt x="20439" y="8638"/>
                    </a:lnTo>
                    <a:lnTo>
                      <a:pt x="18892" y="7232"/>
                    </a:lnTo>
                    <a:lnTo>
                      <a:pt x="16958" y="5880"/>
                    </a:lnTo>
                    <a:lnTo>
                      <a:pt x="14701" y="4589"/>
                    </a:lnTo>
                    <a:lnTo>
                      <a:pt x="11993" y="3328"/>
                    </a:lnTo>
                    <a:lnTo>
                      <a:pt x="8511" y="2162"/>
                    </a:lnTo>
                    <a:lnTo>
                      <a:pt x="5029" y="1021"/>
                    </a:lnTo>
                    <a:lnTo>
                      <a:pt x="774" y="0"/>
                    </a:lnTo>
                    <a:lnTo>
                      <a:pt x="0" y="0"/>
                    </a:lnTo>
                    <a:lnTo>
                      <a:pt x="4256" y="1021"/>
                    </a:lnTo>
                    <a:lnTo>
                      <a:pt x="7737" y="2162"/>
                    </a:lnTo>
                    <a:lnTo>
                      <a:pt x="11219" y="3328"/>
                    </a:lnTo>
                    <a:lnTo>
                      <a:pt x="13927" y="4589"/>
                    </a:lnTo>
                    <a:lnTo>
                      <a:pt x="16184" y="5880"/>
                    </a:lnTo>
                    <a:lnTo>
                      <a:pt x="18118" y="7232"/>
                    </a:lnTo>
                    <a:lnTo>
                      <a:pt x="19666" y="8638"/>
                    </a:lnTo>
                    <a:lnTo>
                      <a:pt x="20439" y="10079"/>
                    </a:lnTo>
                    <a:lnTo>
                      <a:pt x="20826" y="11581"/>
                    </a:lnTo>
                    <a:lnTo>
                      <a:pt x="20439" y="13052"/>
                    </a:lnTo>
                    <a:lnTo>
                      <a:pt x="19666" y="14548"/>
                    </a:lnTo>
                    <a:lnTo>
                      <a:pt x="18118" y="16020"/>
                    </a:lnTo>
                    <a:lnTo>
                      <a:pt x="16571" y="17461"/>
                    </a:lnTo>
                    <a:lnTo>
                      <a:pt x="13927" y="18903"/>
                    </a:lnTo>
                    <a:lnTo>
                      <a:pt x="11219" y="20279"/>
                    </a:lnTo>
                    <a:lnTo>
                      <a:pt x="7737" y="21600"/>
                    </a:lnTo>
                    <a:lnTo>
                      <a:pt x="8511" y="21600"/>
                    </a:lnTo>
                    <a:lnTo>
                      <a:pt x="11993" y="20279"/>
                    </a:lnTo>
                    <a:lnTo>
                      <a:pt x="14701" y="18903"/>
                    </a:lnTo>
                    <a:lnTo>
                      <a:pt x="17344" y="17461"/>
                    </a:lnTo>
                    <a:lnTo>
                      <a:pt x="18892" y="16020"/>
                    </a:lnTo>
                    <a:lnTo>
                      <a:pt x="20439" y="14548"/>
                    </a:lnTo>
                    <a:lnTo>
                      <a:pt x="21213" y="13052"/>
                    </a:lnTo>
                    <a:lnTo>
                      <a:pt x="21600" y="11581"/>
                    </a:lnTo>
                    <a:lnTo>
                      <a:pt x="21213" y="10079"/>
                    </a:lnTo>
                    <a:lnTo>
                      <a:pt x="21213" y="10079"/>
                    </a:lnTo>
                    <a:close/>
                    <a:moveTo>
                      <a:pt x="21213" y="1007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990" y="9629"/>
                    </a:moveTo>
                    <a:lnTo>
                      <a:pt x="20075" y="8458"/>
                    </a:lnTo>
                    <a:lnTo>
                      <a:pt x="18551" y="7292"/>
                    </a:lnTo>
                    <a:lnTo>
                      <a:pt x="16721" y="6151"/>
                    </a:lnTo>
                    <a:lnTo>
                      <a:pt x="14281" y="5010"/>
                    </a:lnTo>
                    <a:lnTo>
                      <a:pt x="11537" y="3809"/>
                    </a:lnTo>
                    <a:lnTo>
                      <a:pt x="8233" y="2612"/>
                    </a:lnTo>
                    <a:lnTo>
                      <a:pt x="4574" y="1351"/>
                    </a:lnTo>
                    <a:lnTo>
                      <a:pt x="610" y="0"/>
                    </a:lnTo>
                    <a:lnTo>
                      <a:pt x="0" y="0"/>
                    </a:lnTo>
                    <a:lnTo>
                      <a:pt x="4269" y="1351"/>
                    </a:lnTo>
                    <a:lnTo>
                      <a:pt x="7928" y="2612"/>
                    </a:lnTo>
                    <a:lnTo>
                      <a:pt x="10978" y="3839"/>
                    </a:lnTo>
                    <a:lnTo>
                      <a:pt x="13976" y="5010"/>
                    </a:lnTo>
                    <a:lnTo>
                      <a:pt x="16111" y="6181"/>
                    </a:lnTo>
                    <a:lnTo>
                      <a:pt x="17941" y="7322"/>
                    </a:lnTo>
                    <a:lnTo>
                      <a:pt x="19465" y="8458"/>
                    </a:lnTo>
                    <a:lnTo>
                      <a:pt x="20380" y="9629"/>
                    </a:lnTo>
                    <a:lnTo>
                      <a:pt x="20990" y="10950"/>
                    </a:lnTo>
                    <a:lnTo>
                      <a:pt x="20685" y="12301"/>
                    </a:lnTo>
                    <a:lnTo>
                      <a:pt x="20075" y="13678"/>
                    </a:lnTo>
                    <a:lnTo>
                      <a:pt x="18551" y="15119"/>
                    </a:lnTo>
                    <a:lnTo>
                      <a:pt x="16721" y="16620"/>
                    </a:lnTo>
                    <a:lnTo>
                      <a:pt x="13976" y="18212"/>
                    </a:lnTo>
                    <a:lnTo>
                      <a:pt x="10368" y="19858"/>
                    </a:lnTo>
                    <a:lnTo>
                      <a:pt x="6404" y="21600"/>
                    </a:lnTo>
                    <a:lnTo>
                      <a:pt x="7014" y="21600"/>
                    </a:lnTo>
                    <a:lnTo>
                      <a:pt x="10978" y="19858"/>
                    </a:lnTo>
                    <a:lnTo>
                      <a:pt x="14586" y="18212"/>
                    </a:lnTo>
                    <a:lnTo>
                      <a:pt x="17331" y="16620"/>
                    </a:lnTo>
                    <a:lnTo>
                      <a:pt x="19160" y="15119"/>
                    </a:lnTo>
                    <a:lnTo>
                      <a:pt x="20685" y="13678"/>
                    </a:lnTo>
                    <a:lnTo>
                      <a:pt x="21295" y="12301"/>
                    </a:lnTo>
                    <a:lnTo>
                      <a:pt x="21600" y="10950"/>
                    </a:lnTo>
                    <a:lnTo>
                      <a:pt x="20990" y="9629"/>
                    </a:lnTo>
                    <a:lnTo>
                      <a:pt x="20990" y="9629"/>
                    </a:lnTo>
                    <a:close/>
                    <a:moveTo>
                      <a:pt x="20990" y="962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109"/>
                    </a:moveTo>
                    <a:lnTo>
                      <a:pt x="20901" y="8668"/>
                    </a:lnTo>
                    <a:lnTo>
                      <a:pt x="19541" y="7232"/>
                    </a:lnTo>
                    <a:lnTo>
                      <a:pt x="17676" y="5880"/>
                    </a:lnTo>
                    <a:lnTo>
                      <a:pt x="15345" y="4559"/>
                    </a:lnTo>
                    <a:lnTo>
                      <a:pt x="12315" y="3298"/>
                    </a:lnTo>
                    <a:lnTo>
                      <a:pt x="8858" y="2132"/>
                    </a:lnTo>
                    <a:lnTo>
                      <a:pt x="4895" y="1021"/>
                    </a:lnTo>
                    <a:lnTo>
                      <a:pt x="466" y="0"/>
                    </a:lnTo>
                    <a:lnTo>
                      <a:pt x="0" y="0"/>
                    </a:lnTo>
                    <a:lnTo>
                      <a:pt x="4429" y="1021"/>
                    </a:lnTo>
                    <a:lnTo>
                      <a:pt x="8391" y="2132"/>
                    </a:lnTo>
                    <a:lnTo>
                      <a:pt x="11849" y="3298"/>
                    </a:lnTo>
                    <a:lnTo>
                      <a:pt x="14879" y="4559"/>
                    </a:lnTo>
                    <a:lnTo>
                      <a:pt x="17210" y="5880"/>
                    </a:lnTo>
                    <a:lnTo>
                      <a:pt x="19075" y="7232"/>
                    </a:lnTo>
                    <a:lnTo>
                      <a:pt x="20435" y="8668"/>
                    </a:lnTo>
                    <a:lnTo>
                      <a:pt x="21134" y="10109"/>
                    </a:lnTo>
                    <a:lnTo>
                      <a:pt x="21134" y="11641"/>
                    </a:lnTo>
                    <a:lnTo>
                      <a:pt x="20668" y="13172"/>
                    </a:lnTo>
                    <a:lnTo>
                      <a:pt x="19541" y="14669"/>
                    </a:lnTo>
                    <a:lnTo>
                      <a:pt x="17676" y="16140"/>
                    </a:lnTo>
                    <a:lnTo>
                      <a:pt x="15112" y="17581"/>
                    </a:lnTo>
                    <a:lnTo>
                      <a:pt x="12082" y="18958"/>
                    </a:lnTo>
                    <a:lnTo>
                      <a:pt x="8391" y="20309"/>
                    </a:lnTo>
                    <a:lnTo>
                      <a:pt x="3963" y="21600"/>
                    </a:lnTo>
                    <a:lnTo>
                      <a:pt x="4429" y="21600"/>
                    </a:lnTo>
                    <a:lnTo>
                      <a:pt x="8858" y="20309"/>
                    </a:lnTo>
                    <a:lnTo>
                      <a:pt x="12548" y="18958"/>
                    </a:lnTo>
                    <a:lnTo>
                      <a:pt x="15578" y="17581"/>
                    </a:lnTo>
                    <a:lnTo>
                      <a:pt x="18142" y="16140"/>
                    </a:lnTo>
                    <a:lnTo>
                      <a:pt x="20007" y="14669"/>
                    </a:lnTo>
                    <a:lnTo>
                      <a:pt x="21134" y="13172"/>
                    </a:lnTo>
                    <a:lnTo>
                      <a:pt x="21600" y="11641"/>
                    </a:lnTo>
                    <a:lnTo>
                      <a:pt x="21600" y="10109"/>
                    </a:lnTo>
                    <a:lnTo>
                      <a:pt x="21600" y="10109"/>
                    </a:lnTo>
                    <a:close/>
                    <a:moveTo>
                      <a:pt x="21600" y="1010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440"/>
                    </a:moveTo>
                    <a:lnTo>
                      <a:pt x="21035" y="9058"/>
                    </a:lnTo>
                    <a:lnTo>
                      <a:pt x="19905" y="7712"/>
                    </a:lnTo>
                    <a:lnTo>
                      <a:pt x="18021" y="6361"/>
                    </a:lnTo>
                    <a:lnTo>
                      <a:pt x="15603" y="5040"/>
                    </a:lnTo>
                    <a:lnTo>
                      <a:pt x="12590" y="3748"/>
                    </a:lnTo>
                    <a:lnTo>
                      <a:pt x="9199" y="2462"/>
                    </a:lnTo>
                    <a:lnTo>
                      <a:pt x="5086" y="1201"/>
                    </a:lnTo>
                    <a:lnTo>
                      <a:pt x="377" y="0"/>
                    </a:lnTo>
                    <a:lnTo>
                      <a:pt x="0" y="0"/>
                    </a:lnTo>
                    <a:lnTo>
                      <a:pt x="4709" y="1201"/>
                    </a:lnTo>
                    <a:lnTo>
                      <a:pt x="8822" y="2462"/>
                    </a:lnTo>
                    <a:lnTo>
                      <a:pt x="12213" y="3748"/>
                    </a:lnTo>
                    <a:lnTo>
                      <a:pt x="15227" y="5040"/>
                    </a:lnTo>
                    <a:lnTo>
                      <a:pt x="17644" y="6361"/>
                    </a:lnTo>
                    <a:lnTo>
                      <a:pt x="19528" y="7712"/>
                    </a:lnTo>
                    <a:lnTo>
                      <a:pt x="20658" y="9058"/>
                    </a:lnTo>
                    <a:lnTo>
                      <a:pt x="21223" y="10440"/>
                    </a:lnTo>
                    <a:lnTo>
                      <a:pt x="21223" y="11851"/>
                    </a:lnTo>
                    <a:lnTo>
                      <a:pt x="20658" y="13262"/>
                    </a:lnTo>
                    <a:lnTo>
                      <a:pt x="19340" y="14669"/>
                    </a:lnTo>
                    <a:lnTo>
                      <a:pt x="17456" y="16080"/>
                    </a:lnTo>
                    <a:lnTo>
                      <a:pt x="14850" y="17491"/>
                    </a:lnTo>
                    <a:lnTo>
                      <a:pt x="11648" y="18903"/>
                    </a:lnTo>
                    <a:lnTo>
                      <a:pt x="7880" y="20249"/>
                    </a:lnTo>
                    <a:lnTo>
                      <a:pt x="3579" y="21600"/>
                    </a:lnTo>
                    <a:lnTo>
                      <a:pt x="3956" y="21600"/>
                    </a:lnTo>
                    <a:lnTo>
                      <a:pt x="8257" y="20249"/>
                    </a:lnTo>
                    <a:lnTo>
                      <a:pt x="12024" y="18903"/>
                    </a:lnTo>
                    <a:lnTo>
                      <a:pt x="15227" y="17491"/>
                    </a:lnTo>
                    <a:lnTo>
                      <a:pt x="17833" y="16110"/>
                    </a:lnTo>
                    <a:lnTo>
                      <a:pt x="19716" y="14699"/>
                    </a:lnTo>
                    <a:lnTo>
                      <a:pt x="21035" y="13292"/>
                    </a:lnTo>
                    <a:lnTo>
                      <a:pt x="21600" y="11851"/>
                    </a:lnTo>
                    <a:lnTo>
                      <a:pt x="21600" y="10440"/>
                    </a:lnTo>
                    <a:lnTo>
                      <a:pt x="21600" y="10440"/>
                    </a:lnTo>
                    <a:close/>
                    <a:moveTo>
                      <a:pt x="21600" y="104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449" y="10650"/>
                    </a:moveTo>
                    <a:lnTo>
                      <a:pt x="20847" y="9178"/>
                    </a:lnTo>
                    <a:lnTo>
                      <a:pt x="20270" y="8428"/>
                    </a:lnTo>
                    <a:lnTo>
                      <a:pt x="19668" y="7712"/>
                    </a:lnTo>
                    <a:lnTo>
                      <a:pt x="18765" y="6991"/>
                    </a:lnTo>
                    <a:lnTo>
                      <a:pt x="17862" y="6271"/>
                    </a:lnTo>
                    <a:lnTo>
                      <a:pt x="16658" y="5580"/>
                    </a:lnTo>
                    <a:lnTo>
                      <a:pt x="15303" y="4890"/>
                    </a:lnTo>
                    <a:lnTo>
                      <a:pt x="12318" y="3598"/>
                    </a:lnTo>
                    <a:lnTo>
                      <a:pt x="8856" y="2342"/>
                    </a:lnTo>
                    <a:lnTo>
                      <a:pt x="4817" y="1141"/>
                    </a:lnTo>
                    <a:lnTo>
                      <a:pt x="301" y="0"/>
                    </a:lnTo>
                    <a:lnTo>
                      <a:pt x="0" y="0"/>
                    </a:lnTo>
                    <a:lnTo>
                      <a:pt x="4516" y="1141"/>
                    </a:lnTo>
                    <a:lnTo>
                      <a:pt x="8555" y="2342"/>
                    </a:lnTo>
                    <a:lnTo>
                      <a:pt x="12017" y="3598"/>
                    </a:lnTo>
                    <a:lnTo>
                      <a:pt x="15002" y="4920"/>
                    </a:lnTo>
                    <a:lnTo>
                      <a:pt x="16357" y="5610"/>
                    </a:lnTo>
                    <a:lnTo>
                      <a:pt x="17561" y="6301"/>
                    </a:lnTo>
                    <a:lnTo>
                      <a:pt x="18464" y="7022"/>
                    </a:lnTo>
                    <a:lnTo>
                      <a:pt x="19367" y="7742"/>
                    </a:lnTo>
                    <a:lnTo>
                      <a:pt x="20120" y="8458"/>
                    </a:lnTo>
                    <a:lnTo>
                      <a:pt x="20546" y="9178"/>
                    </a:lnTo>
                    <a:lnTo>
                      <a:pt x="20998" y="9929"/>
                    </a:lnTo>
                    <a:lnTo>
                      <a:pt x="21148" y="10650"/>
                    </a:lnTo>
                    <a:lnTo>
                      <a:pt x="21299" y="11401"/>
                    </a:lnTo>
                    <a:lnTo>
                      <a:pt x="21148" y="12151"/>
                    </a:lnTo>
                    <a:lnTo>
                      <a:pt x="20847" y="12872"/>
                    </a:lnTo>
                    <a:lnTo>
                      <a:pt x="20546" y="13618"/>
                    </a:lnTo>
                    <a:lnTo>
                      <a:pt x="19969" y="14338"/>
                    </a:lnTo>
                    <a:lnTo>
                      <a:pt x="19217" y="15089"/>
                    </a:lnTo>
                    <a:lnTo>
                      <a:pt x="18163" y="15810"/>
                    </a:lnTo>
                    <a:lnTo>
                      <a:pt x="17109" y="16530"/>
                    </a:lnTo>
                    <a:lnTo>
                      <a:pt x="14701" y="17852"/>
                    </a:lnTo>
                    <a:lnTo>
                      <a:pt x="11866" y="19138"/>
                    </a:lnTo>
                    <a:lnTo>
                      <a:pt x="8404" y="20399"/>
                    </a:lnTo>
                    <a:lnTo>
                      <a:pt x="4516" y="21600"/>
                    </a:lnTo>
                    <a:lnTo>
                      <a:pt x="4817" y="21600"/>
                    </a:lnTo>
                    <a:lnTo>
                      <a:pt x="8705" y="20399"/>
                    </a:lnTo>
                    <a:lnTo>
                      <a:pt x="12167" y="19138"/>
                    </a:lnTo>
                    <a:lnTo>
                      <a:pt x="15002" y="17882"/>
                    </a:lnTo>
                    <a:lnTo>
                      <a:pt x="17410" y="16560"/>
                    </a:lnTo>
                    <a:lnTo>
                      <a:pt x="18464" y="15840"/>
                    </a:lnTo>
                    <a:lnTo>
                      <a:pt x="19518" y="15119"/>
                    </a:lnTo>
                    <a:lnTo>
                      <a:pt x="20270" y="14368"/>
                    </a:lnTo>
                    <a:lnTo>
                      <a:pt x="20847" y="13648"/>
                    </a:lnTo>
                    <a:lnTo>
                      <a:pt x="21148" y="12902"/>
                    </a:lnTo>
                    <a:lnTo>
                      <a:pt x="21449" y="12151"/>
                    </a:lnTo>
                    <a:lnTo>
                      <a:pt x="21600" y="11401"/>
                    </a:lnTo>
                    <a:lnTo>
                      <a:pt x="21449" y="10650"/>
                    </a:lnTo>
                    <a:lnTo>
                      <a:pt x="21449" y="10650"/>
                    </a:lnTo>
                    <a:close/>
                    <a:moveTo>
                      <a:pt x="21449" y="1065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609" y="9719"/>
                    </a:moveTo>
                    <a:lnTo>
                      <a:pt x="4349" y="8158"/>
                    </a:lnTo>
                    <a:lnTo>
                      <a:pt x="6089" y="6661"/>
                    </a:lnTo>
                    <a:lnTo>
                      <a:pt x="8553" y="5280"/>
                    </a:lnTo>
                    <a:lnTo>
                      <a:pt x="11162" y="3959"/>
                    </a:lnTo>
                    <a:lnTo>
                      <a:pt x="12032" y="3358"/>
                    </a:lnTo>
                    <a:lnTo>
                      <a:pt x="13772" y="2788"/>
                    </a:lnTo>
                    <a:lnTo>
                      <a:pt x="15511" y="2222"/>
                    </a:lnTo>
                    <a:lnTo>
                      <a:pt x="16381" y="1712"/>
                    </a:lnTo>
                    <a:lnTo>
                      <a:pt x="18121" y="1231"/>
                    </a:lnTo>
                    <a:lnTo>
                      <a:pt x="18991" y="781"/>
                    </a:lnTo>
                    <a:lnTo>
                      <a:pt x="20730" y="360"/>
                    </a:lnTo>
                    <a:lnTo>
                      <a:pt x="21600" y="0"/>
                    </a:lnTo>
                    <a:lnTo>
                      <a:pt x="19860" y="0"/>
                    </a:lnTo>
                    <a:lnTo>
                      <a:pt x="18991" y="360"/>
                    </a:lnTo>
                    <a:lnTo>
                      <a:pt x="17251" y="781"/>
                    </a:lnTo>
                    <a:lnTo>
                      <a:pt x="16381" y="1231"/>
                    </a:lnTo>
                    <a:lnTo>
                      <a:pt x="14642" y="1712"/>
                    </a:lnTo>
                    <a:lnTo>
                      <a:pt x="13772" y="2222"/>
                    </a:lnTo>
                    <a:lnTo>
                      <a:pt x="12032" y="2788"/>
                    </a:lnTo>
                    <a:lnTo>
                      <a:pt x="10293" y="3358"/>
                    </a:lnTo>
                    <a:lnTo>
                      <a:pt x="9423" y="3959"/>
                    </a:lnTo>
                    <a:lnTo>
                      <a:pt x="6958" y="5280"/>
                    </a:lnTo>
                    <a:lnTo>
                      <a:pt x="4349" y="6661"/>
                    </a:lnTo>
                    <a:lnTo>
                      <a:pt x="2609" y="8158"/>
                    </a:lnTo>
                    <a:lnTo>
                      <a:pt x="870" y="9719"/>
                    </a:lnTo>
                    <a:lnTo>
                      <a:pt x="0" y="11401"/>
                    </a:lnTo>
                    <a:lnTo>
                      <a:pt x="870" y="13022"/>
                    </a:lnTo>
                    <a:lnTo>
                      <a:pt x="1740" y="14609"/>
                    </a:lnTo>
                    <a:lnTo>
                      <a:pt x="3479" y="16110"/>
                    </a:lnTo>
                    <a:lnTo>
                      <a:pt x="5219" y="17581"/>
                    </a:lnTo>
                    <a:lnTo>
                      <a:pt x="8553" y="18988"/>
                    </a:lnTo>
                    <a:lnTo>
                      <a:pt x="12902" y="20309"/>
                    </a:lnTo>
                    <a:lnTo>
                      <a:pt x="18121" y="21600"/>
                    </a:lnTo>
                    <a:lnTo>
                      <a:pt x="19860" y="21600"/>
                    </a:lnTo>
                    <a:lnTo>
                      <a:pt x="14642" y="20309"/>
                    </a:lnTo>
                    <a:lnTo>
                      <a:pt x="10293" y="18988"/>
                    </a:lnTo>
                    <a:lnTo>
                      <a:pt x="6958" y="17581"/>
                    </a:lnTo>
                    <a:lnTo>
                      <a:pt x="5219" y="16140"/>
                    </a:lnTo>
                    <a:lnTo>
                      <a:pt x="3479" y="14609"/>
                    </a:lnTo>
                    <a:lnTo>
                      <a:pt x="2609" y="13052"/>
                    </a:lnTo>
                    <a:lnTo>
                      <a:pt x="1740" y="11401"/>
                    </a:lnTo>
                    <a:lnTo>
                      <a:pt x="2609" y="9719"/>
                    </a:lnTo>
                    <a:lnTo>
                      <a:pt x="2609" y="9719"/>
                    </a:lnTo>
                    <a:close/>
                    <a:moveTo>
                      <a:pt x="2609" y="971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00" y="10320"/>
                    </a:moveTo>
                    <a:lnTo>
                      <a:pt x="2167" y="8758"/>
                    </a:lnTo>
                    <a:lnTo>
                      <a:pt x="3901" y="7262"/>
                    </a:lnTo>
                    <a:lnTo>
                      <a:pt x="6068" y="5850"/>
                    </a:lnTo>
                    <a:lnTo>
                      <a:pt x="9102" y="4499"/>
                    </a:lnTo>
                    <a:lnTo>
                      <a:pt x="11703" y="3208"/>
                    </a:lnTo>
                    <a:lnTo>
                      <a:pt x="15098" y="2042"/>
                    </a:lnTo>
                    <a:lnTo>
                      <a:pt x="18132" y="961"/>
                    </a:lnTo>
                    <a:lnTo>
                      <a:pt x="21600" y="0"/>
                    </a:lnTo>
                    <a:lnTo>
                      <a:pt x="20733" y="0"/>
                    </a:lnTo>
                    <a:lnTo>
                      <a:pt x="17266" y="961"/>
                    </a:lnTo>
                    <a:lnTo>
                      <a:pt x="14304" y="2042"/>
                    </a:lnTo>
                    <a:lnTo>
                      <a:pt x="11270" y="3208"/>
                    </a:lnTo>
                    <a:lnTo>
                      <a:pt x="8235" y="4499"/>
                    </a:lnTo>
                    <a:lnTo>
                      <a:pt x="5635" y="5850"/>
                    </a:lnTo>
                    <a:lnTo>
                      <a:pt x="3468" y="7262"/>
                    </a:lnTo>
                    <a:lnTo>
                      <a:pt x="1734" y="8758"/>
                    </a:lnTo>
                    <a:lnTo>
                      <a:pt x="433" y="10320"/>
                    </a:lnTo>
                    <a:lnTo>
                      <a:pt x="0" y="11881"/>
                    </a:lnTo>
                    <a:lnTo>
                      <a:pt x="867" y="13382"/>
                    </a:lnTo>
                    <a:lnTo>
                      <a:pt x="2167" y="14879"/>
                    </a:lnTo>
                    <a:lnTo>
                      <a:pt x="3901" y="16290"/>
                    </a:lnTo>
                    <a:lnTo>
                      <a:pt x="6935" y="17701"/>
                    </a:lnTo>
                    <a:lnTo>
                      <a:pt x="10403" y="19048"/>
                    </a:lnTo>
                    <a:lnTo>
                      <a:pt x="14665" y="20339"/>
                    </a:lnTo>
                    <a:lnTo>
                      <a:pt x="19866" y="21600"/>
                    </a:lnTo>
                    <a:lnTo>
                      <a:pt x="20733" y="21600"/>
                    </a:lnTo>
                    <a:lnTo>
                      <a:pt x="15532" y="20339"/>
                    </a:lnTo>
                    <a:lnTo>
                      <a:pt x="11270" y="19048"/>
                    </a:lnTo>
                    <a:lnTo>
                      <a:pt x="7802" y="17701"/>
                    </a:lnTo>
                    <a:lnTo>
                      <a:pt x="4768" y="16320"/>
                    </a:lnTo>
                    <a:lnTo>
                      <a:pt x="3034" y="14879"/>
                    </a:lnTo>
                    <a:lnTo>
                      <a:pt x="1734" y="13412"/>
                    </a:lnTo>
                    <a:lnTo>
                      <a:pt x="867" y="11881"/>
                    </a:lnTo>
                    <a:lnTo>
                      <a:pt x="1300" y="10320"/>
                    </a:lnTo>
                    <a:lnTo>
                      <a:pt x="1300" y="10320"/>
                    </a:lnTo>
                    <a:close/>
                    <a:moveTo>
                      <a:pt x="1300" y="1032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20989" y="0"/>
                    </a:lnTo>
                    <a:lnTo>
                      <a:pt x="16098" y="1111"/>
                    </a:lnTo>
                    <a:lnTo>
                      <a:pt x="12175" y="2312"/>
                    </a:lnTo>
                    <a:lnTo>
                      <a:pt x="8508" y="3538"/>
                    </a:lnTo>
                    <a:lnTo>
                      <a:pt x="5451" y="4859"/>
                    </a:lnTo>
                    <a:lnTo>
                      <a:pt x="3311" y="6241"/>
                    </a:lnTo>
                    <a:lnTo>
                      <a:pt x="1477" y="7652"/>
                    </a:lnTo>
                    <a:lnTo>
                      <a:pt x="306" y="9118"/>
                    </a:lnTo>
                    <a:lnTo>
                      <a:pt x="0" y="10620"/>
                    </a:lnTo>
                    <a:lnTo>
                      <a:pt x="306" y="12031"/>
                    </a:lnTo>
                    <a:lnTo>
                      <a:pt x="1223" y="13442"/>
                    </a:lnTo>
                    <a:lnTo>
                      <a:pt x="2394" y="14819"/>
                    </a:lnTo>
                    <a:lnTo>
                      <a:pt x="4534" y="16230"/>
                    </a:lnTo>
                    <a:lnTo>
                      <a:pt x="6979" y="17611"/>
                    </a:lnTo>
                    <a:lnTo>
                      <a:pt x="10036" y="18958"/>
                    </a:lnTo>
                    <a:lnTo>
                      <a:pt x="13704" y="20309"/>
                    </a:lnTo>
                    <a:lnTo>
                      <a:pt x="17626" y="21600"/>
                    </a:lnTo>
                    <a:lnTo>
                      <a:pt x="18238" y="21600"/>
                    </a:lnTo>
                    <a:lnTo>
                      <a:pt x="14315" y="20309"/>
                    </a:lnTo>
                    <a:lnTo>
                      <a:pt x="10647" y="18958"/>
                    </a:lnTo>
                    <a:lnTo>
                      <a:pt x="7591" y="17611"/>
                    </a:lnTo>
                    <a:lnTo>
                      <a:pt x="5145" y="16230"/>
                    </a:lnTo>
                    <a:lnTo>
                      <a:pt x="3006" y="14819"/>
                    </a:lnTo>
                    <a:lnTo>
                      <a:pt x="1783" y="13442"/>
                    </a:lnTo>
                    <a:lnTo>
                      <a:pt x="917" y="12031"/>
                    </a:lnTo>
                    <a:lnTo>
                      <a:pt x="611" y="10620"/>
                    </a:lnTo>
                    <a:lnTo>
                      <a:pt x="917" y="9118"/>
                    </a:lnTo>
                    <a:lnTo>
                      <a:pt x="2089" y="7652"/>
                    </a:lnTo>
                    <a:lnTo>
                      <a:pt x="3617" y="6241"/>
                    </a:lnTo>
                    <a:lnTo>
                      <a:pt x="6062" y="4859"/>
                    </a:lnTo>
                    <a:lnTo>
                      <a:pt x="9119" y="3538"/>
                    </a:lnTo>
                    <a:lnTo>
                      <a:pt x="12481" y="2312"/>
                    </a:lnTo>
                    <a:lnTo>
                      <a:pt x="16709" y="1111"/>
                    </a:lnTo>
                    <a:lnTo>
                      <a:pt x="21600" y="0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2" y="10740"/>
                    </a:moveTo>
                    <a:lnTo>
                      <a:pt x="903" y="9239"/>
                    </a:lnTo>
                    <a:lnTo>
                      <a:pt x="2032" y="7802"/>
                    </a:lnTo>
                    <a:lnTo>
                      <a:pt x="3613" y="6391"/>
                    </a:lnTo>
                    <a:lnTo>
                      <a:pt x="6096" y="5010"/>
                    </a:lnTo>
                    <a:lnTo>
                      <a:pt x="8994" y="3658"/>
                    </a:lnTo>
                    <a:lnTo>
                      <a:pt x="12606" y="2402"/>
                    </a:lnTo>
                    <a:lnTo>
                      <a:pt x="16896" y="1171"/>
                    </a:lnTo>
                    <a:lnTo>
                      <a:pt x="21600" y="0"/>
                    </a:lnTo>
                    <a:lnTo>
                      <a:pt x="21148" y="0"/>
                    </a:lnTo>
                    <a:lnTo>
                      <a:pt x="16445" y="1171"/>
                    </a:lnTo>
                    <a:lnTo>
                      <a:pt x="12155" y="2402"/>
                    </a:lnTo>
                    <a:lnTo>
                      <a:pt x="8542" y="3688"/>
                    </a:lnTo>
                    <a:lnTo>
                      <a:pt x="5645" y="5010"/>
                    </a:lnTo>
                    <a:lnTo>
                      <a:pt x="3161" y="6391"/>
                    </a:lnTo>
                    <a:lnTo>
                      <a:pt x="1580" y="7802"/>
                    </a:lnTo>
                    <a:lnTo>
                      <a:pt x="452" y="9269"/>
                    </a:lnTo>
                    <a:lnTo>
                      <a:pt x="0" y="10740"/>
                    </a:lnTo>
                    <a:lnTo>
                      <a:pt x="226" y="12181"/>
                    </a:lnTo>
                    <a:lnTo>
                      <a:pt x="1129" y="13588"/>
                    </a:lnTo>
                    <a:lnTo>
                      <a:pt x="2484" y="14999"/>
                    </a:lnTo>
                    <a:lnTo>
                      <a:pt x="4516" y="16380"/>
                    </a:lnTo>
                    <a:lnTo>
                      <a:pt x="7187" y="17761"/>
                    </a:lnTo>
                    <a:lnTo>
                      <a:pt x="10348" y="19078"/>
                    </a:lnTo>
                    <a:lnTo>
                      <a:pt x="13961" y="20369"/>
                    </a:lnTo>
                    <a:lnTo>
                      <a:pt x="18213" y="21600"/>
                    </a:lnTo>
                    <a:lnTo>
                      <a:pt x="18665" y="21600"/>
                    </a:lnTo>
                    <a:lnTo>
                      <a:pt x="14413" y="20369"/>
                    </a:lnTo>
                    <a:lnTo>
                      <a:pt x="10800" y="19078"/>
                    </a:lnTo>
                    <a:lnTo>
                      <a:pt x="7639" y="17761"/>
                    </a:lnTo>
                    <a:lnTo>
                      <a:pt x="4967" y="16380"/>
                    </a:lnTo>
                    <a:lnTo>
                      <a:pt x="2935" y="14999"/>
                    </a:lnTo>
                    <a:lnTo>
                      <a:pt x="1580" y="13588"/>
                    </a:lnTo>
                    <a:lnTo>
                      <a:pt x="677" y="12181"/>
                    </a:lnTo>
                    <a:lnTo>
                      <a:pt x="452" y="10740"/>
                    </a:lnTo>
                    <a:lnTo>
                      <a:pt x="452" y="10740"/>
                    </a:lnTo>
                    <a:close/>
                    <a:moveTo>
                      <a:pt x="452" y="107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53" y="10500"/>
                    </a:moveTo>
                    <a:lnTo>
                      <a:pt x="852" y="8998"/>
                    </a:lnTo>
                    <a:lnTo>
                      <a:pt x="2087" y="7532"/>
                    </a:lnTo>
                    <a:lnTo>
                      <a:pt x="3850" y="6121"/>
                    </a:lnTo>
                    <a:lnTo>
                      <a:pt x="6318" y="4709"/>
                    </a:lnTo>
                    <a:lnTo>
                      <a:pt x="9287" y="3448"/>
                    </a:lnTo>
                    <a:lnTo>
                      <a:pt x="12989" y="2222"/>
                    </a:lnTo>
                    <a:lnTo>
                      <a:pt x="17045" y="1081"/>
                    </a:lnTo>
                    <a:lnTo>
                      <a:pt x="21600" y="0"/>
                    </a:lnTo>
                    <a:lnTo>
                      <a:pt x="21247" y="0"/>
                    </a:lnTo>
                    <a:lnTo>
                      <a:pt x="16692" y="1051"/>
                    </a:lnTo>
                    <a:lnTo>
                      <a:pt x="12637" y="2192"/>
                    </a:lnTo>
                    <a:lnTo>
                      <a:pt x="9140" y="3418"/>
                    </a:lnTo>
                    <a:lnTo>
                      <a:pt x="6142" y="4709"/>
                    </a:lnTo>
                    <a:lnTo>
                      <a:pt x="3673" y="6091"/>
                    </a:lnTo>
                    <a:lnTo>
                      <a:pt x="1734" y="7532"/>
                    </a:lnTo>
                    <a:lnTo>
                      <a:pt x="529" y="8998"/>
                    </a:lnTo>
                    <a:lnTo>
                      <a:pt x="0" y="10500"/>
                    </a:lnTo>
                    <a:lnTo>
                      <a:pt x="176" y="12031"/>
                    </a:lnTo>
                    <a:lnTo>
                      <a:pt x="852" y="13558"/>
                    </a:lnTo>
                    <a:lnTo>
                      <a:pt x="2263" y="15089"/>
                    </a:lnTo>
                    <a:lnTo>
                      <a:pt x="4379" y="16590"/>
                    </a:lnTo>
                    <a:lnTo>
                      <a:pt x="6671" y="17882"/>
                    </a:lnTo>
                    <a:lnTo>
                      <a:pt x="9287" y="19138"/>
                    </a:lnTo>
                    <a:lnTo>
                      <a:pt x="12460" y="20399"/>
                    </a:lnTo>
                    <a:lnTo>
                      <a:pt x="15987" y="21600"/>
                    </a:lnTo>
                    <a:lnTo>
                      <a:pt x="16340" y="21600"/>
                    </a:lnTo>
                    <a:lnTo>
                      <a:pt x="12813" y="20399"/>
                    </a:lnTo>
                    <a:lnTo>
                      <a:pt x="9639" y="19138"/>
                    </a:lnTo>
                    <a:lnTo>
                      <a:pt x="7024" y="17882"/>
                    </a:lnTo>
                    <a:lnTo>
                      <a:pt x="4731" y="16590"/>
                    </a:lnTo>
                    <a:lnTo>
                      <a:pt x="2616" y="15089"/>
                    </a:lnTo>
                    <a:lnTo>
                      <a:pt x="1205" y="13558"/>
                    </a:lnTo>
                    <a:lnTo>
                      <a:pt x="529" y="12031"/>
                    </a:lnTo>
                    <a:lnTo>
                      <a:pt x="353" y="10500"/>
                    </a:lnTo>
                    <a:lnTo>
                      <a:pt x="353" y="10500"/>
                    </a:lnTo>
                    <a:close/>
                    <a:moveTo>
                      <a:pt x="353" y="1050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65" y="9749"/>
                    </a:moveTo>
                    <a:lnTo>
                      <a:pt x="1239" y="8548"/>
                    </a:lnTo>
                    <a:lnTo>
                      <a:pt x="2477" y="7382"/>
                    </a:lnTo>
                    <a:lnTo>
                      <a:pt x="4155" y="6181"/>
                    </a:lnTo>
                    <a:lnTo>
                      <a:pt x="6477" y="4980"/>
                    </a:lnTo>
                    <a:lnTo>
                      <a:pt x="9419" y="3778"/>
                    </a:lnTo>
                    <a:lnTo>
                      <a:pt x="12800" y="2552"/>
                    </a:lnTo>
                    <a:lnTo>
                      <a:pt x="16981" y="1291"/>
                    </a:lnTo>
                    <a:lnTo>
                      <a:pt x="19123" y="661"/>
                    </a:lnTo>
                    <a:lnTo>
                      <a:pt x="21600" y="0"/>
                    </a:lnTo>
                    <a:lnTo>
                      <a:pt x="21290" y="0"/>
                    </a:lnTo>
                    <a:lnTo>
                      <a:pt x="18813" y="661"/>
                    </a:lnTo>
                    <a:lnTo>
                      <a:pt x="16516" y="1291"/>
                    </a:lnTo>
                    <a:lnTo>
                      <a:pt x="14503" y="1922"/>
                    </a:lnTo>
                    <a:lnTo>
                      <a:pt x="12490" y="2552"/>
                    </a:lnTo>
                    <a:lnTo>
                      <a:pt x="9110" y="3778"/>
                    </a:lnTo>
                    <a:lnTo>
                      <a:pt x="6168" y="4980"/>
                    </a:lnTo>
                    <a:lnTo>
                      <a:pt x="3871" y="6181"/>
                    </a:lnTo>
                    <a:lnTo>
                      <a:pt x="2168" y="7352"/>
                    </a:lnTo>
                    <a:lnTo>
                      <a:pt x="929" y="8518"/>
                    </a:lnTo>
                    <a:lnTo>
                      <a:pt x="155" y="9719"/>
                    </a:lnTo>
                    <a:lnTo>
                      <a:pt x="0" y="11010"/>
                    </a:lnTo>
                    <a:lnTo>
                      <a:pt x="310" y="12361"/>
                    </a:lnTo>
                    <a:lnTo>
                      <a:pt x="1239" y="13708"/>
                    </a:lnTo>
                    <a:lnTo>
                      <a:pt x="2942" y="15149"/>
                    </a:lnTo>
                    <a:lnTo>
                      <a:pt x="3871" y="15870"/>
                    </a:lnTo>
                    <a:lnTo>
                      <a:pt x="5084" y="16620"/>
                    </a:lnTo>
                    <a:lnTo>
                      <a:pt x="6323" y="17401"/>
                    </a:lnTo>
                    <a:lnTo>
                      <a:pt x="7871" y="18212"/>
                    </a:lnTo>
                    <a:lnTo>
                      <a:pt x="9419" y="19018"/>
                    </a:lnTo>
                    <a:lnTo>
                      <a:pt x="11277" y="19858"/>
                    </a:lnTo>
                    <a:lnTo>
                      <a:pt x="13110" y="20699"/>
                    </a:lnTo>
                    <a:lnTo>
                      <a:pt x="15277" y="21600"/>
                    </a:lnTo>
                    <a:lnTo>
                      <a:pt x="15587" y="21600"/>
                    </a:lnTo>
                    <a:lnTo>
                      <a:pt x="13419" y="20699"/>
                    </a:lnTo>
                    <a:lnTo>
                      <a:pt x="11561" y="19858"/>
                    </a:lnTo>
                    <a:lnTo>
                      <a:pt x="9729" y="19018"/>
                    </a:lnTo>
                    <a:lnTo>
                      <a:pt x="8181" y="18212"/>
                    </a:lnTo>
                    <a:lnTo>
                      <a:pt x="6632" y="17401"/>
                    </a:lnTo>
                    <a:lnTo>
                      <a:pt x="5394" y="16650"/>
                    </a:lnTo>
                    <a:lnTo>
                      <a:pt x="4155" y="15870"/>
                    </a:lnTo>
                    <a:lnTo>
                      <a:pt x="3252" y="15149"/>
                    </a:lnTo>
                    <a:lnTo>
                      <a:pt x="1548" y="13708"/>
                    </a:lnTo>
                    <a:lnTo>
                      <a:pt x="619" y="12361"/>
                    </a:lnTo>
                    <a:lnTo>
                      <a:pt x="310" y="11040"/>
                    </a:lnTo>
                    <a:lnTo>
                      <a:pt x="465" y="9749"/>
                    </a:lnTo>
                    <a:lnTo>
                      <a:pt x="465" y="9749"/>
                    </a:lnTo>
                    <a:close/>
                    <a:moveTo>
                      <a:pt x="465" y="974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24"/>
                  </a:moveTo>
                  <a:lnTo>
                    <a:pt x="1502" y="3480"/>
                  </a:lnTo>
                  <a:lnTo>
                    <a:pt x="3433" y="6137"/>
                  </a:lnTo>
                  <a:lnTo>
                    <a:pt x="5758" y="8793"/>
                  </a:lnTo>
                  <a:lnTo>
                    <a:pt x="8118" y="11357"/>
                  </a:lnTo>
                  <a:lnTo>
                    <a:pt x="10907" y="13998"/>
                  </a:lnTo>
                  <a:lnTo>
                    <a:pt x="13911" y="16563"/>
                  </a:lnTo>
                  <a:lnTo>
                    <a:pt x="17309" y="19127"/>
                  </a:lnTo>
                  <a:lnTo>
                    <a:pt x="20956" y="21600"/>
                  </a:lnTo>
                  <a:lnTo>
                    <a:pt x="21600" y="21600"/>
                  </a:lnTo>
                  <a:lnTo>
                    <a:pt x="17738" y="19035"/>
                  </a:lnTo>
                  <a:lnTo>
                    <a:pt x="14340" y="16379"/>
                  </a:lnTo>
                  <a:lnTo>
                    <a:pt x="11122" y="13723"/>
                  </a:lnTo>
                  <a:lnTo>
                    <a:pt x="8332" y="10991"/>
                  </a:lnTo>
                  <a:lnTo>
                    <a:pt x="5758" y="8335"/>
                  </a:lnTo>
                  <a:lnTo>
                    <a:pt x="3648" y="5587"/>
                  </a:lnTo>
                  <a:lnTo>
                    <a:pt x="1717" y="2748"/>
                  </a:lnTo>
                  <a:lnTo>
                    <a:pt x="0" y="0"/>
                  </a:lnTo>
                  <a:lnTo>
                    <a:pt x="0" y="824"/>
                  </a:lnTo>
                  <a:lnTo>
                    <a:pt x="0" y="824"/>
                  </a:lnTo>
                  <a:close/>
                  <a:moveTo>
                    <a:pt x="0" y="824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21"/>
                  </a:moveTo>
                  <a:lnTo>
                    <a:pt x="10277" y="12169"/>
                  </a:lnTo>
                  <a:lnTo>
                    <a:pt x="20458" y="21600"/>
                  </a:lnTo>
                  <a:lnTo>
                    <a:pt x="21600" y="21600"/>
                  </a:lnTo>
                  <a:lnTo>
                    <a:pt x="15891" y="16732"/>
                  </a:lnTo>
                  <a:lnTo>
                    <a:pt x="10848" y="11256"/>
                  </a:lnTo>
                  <a:lnTo>
                    <a:pt x="0" y="0"/>
                  </a:lnTo>
                  <a:lnTo>
                    <a:pt x="0" y="1521"/>
                  </a:lnTo>
                  <a:lnTo>
                    <a:pt x="0" y="1521"/>
                  </a:lnTo>
                  <a:close/>
                  <a:moveTo>
                    <a:pt x="0" y="1521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802"/>
                  </a:lnTo>
                  <a:lnTo>
                    <a:pt x="21336" y="20149"/>
                  </a:lnTo>
                  <a:lnTo>
                    <a:pt x="21072" y="19508"/>
                  </a:lnTo>
                  <a:lnTo>
                    <a:pt x="20279" y="17984"/>
                  </a:lnTo>
                  <a:lnTo>
                    <a:pt x="19486" y="16460"/>
                  </a:lnTo>
                  <a:lnTo>
                    <a:pt x="17527" y="13557"/>
                  </a:lnTo>
                  <a:lnTo>
                    <a:pt x="15017" y="10873"/>
                  </a:lnTo>
                  <a:lnTo>
                    <a:pt x="12374" y="8333"/>
                  </a:lnTo>
                  <a:lnTo>
                    <a:pt x="9490" y="6023"/>
                  </a:lnTo>
                  <a:lnTo>
                    <a:pt x="6451" y="3846"/>
                  </a:lnTo>
                  <a:lnTo>
                    <a:pt x="3303" y="1814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3039" y="1814"/>
                  </a:lnTo>
                  <a:lnTo>
                    <a:pt x="6055" y="3846"/>
                  </a:lnTo>
                  <a:lnTo>
                    <a:pt x="9094" y="6023"/>
                  </a:lnTo>
                  <a:lnTo>
                    <a:pt x="12000" y="8333"/>
                  </a:lnTo>
                  <a:lnTo>
                    <a:pt x="14752" y="10873"/>
                  </a:lnTo>
                  <a:lnTo>
                    <a:pt x="17130" y="13557"/>
                  </a:lnTo>
                  <a:lnTo>
                    <a:pt x="19222" y="16460"/>
                  </a:lnTo>
                  <a:lnTo>
                    <a:pt x="20015" y="17984"/>
                  </a:lnTo>
                  <a:lnTo>
                    <a:pt x="20807" y="19580"/>
                  </a:lnTo>
                  <a:lnTo>
                    <a:pt x="21204" y="20584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987"/>
                  </a:lnTo>
                  <a:lnTo>
                    <a:pt x="17292" y="15465"/>
                  </a:lnTo>
                  <a:lnTo>
                    <a:pt x="12231" y="10123"/>
                  </a:lnTo>
                  <a:lnTo>
                    <a:pt x="6658" y="4908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6296" y="5061"/>
                  </a:lnTo>
                  <a:lnTo>
                    <a:pt x="12050" y="10429"/>
                  </a:lnTo>
                  <a:lnTo>
                    <a:pt x="17111" y="15925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661"/>
                  </a:lnTo>
                  <a:lnTo>
                    <a:pt x="11782" y="10017"/>
                  </a:lnTo>
                  <a:lnTo>
                    <a:pt x="637" y="0"/>
                  </a:lnTo>
                  <a:lnTo>
                    <a:pt x="0" y="0"/>
                  </a:lnTo>
                  <a:lnTo>
                    <a:pt x="5732" y="5322"/>
                  </a:lnTo>
                  <a:lnTo>
                    <a:pt x="11463" y="10643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864"/>
                  </a:moveTo>
                  <a:lnTo>
                    <a:pt x="0" y="21600"/>
                  </a:lnTo>
                  <a:lnTo>
                    <a:pt x="1364" y="18565"/>
                  </a:lnTo>
                  <a:lnTo>
                    <a:pt x="3183" y="15529"/>
                  </a:lnTo>
                  <a:lnTo>
                    <a:pt x="5432" y="12678"/>
                  </a:lnTo>
                  <a:lnTo>
                    <a:pt x="7857" y="9919"/>
                  </a:lnTo>
                  <a:lnTo>
                    <a:pt x="10888" y="7266"/>
                  </a:lnTo>
                  <a:lnTo>
                    <a:pt x="14046" y="4783"/>
                  </a:lnTo>
                  <a:lnTo>
                    <a:pt x="17684" y="2300"/>
                  </a:lnTo>
                  <a:lnTo>
                    <a:pt x="21600" y="0"/>
                  </a:lnTo>
                  <a:lnTo>
                    <a:pt x="21145" y="0"/>
                  </a:lnTo>
                  <a:lnTo>
                    <a:pt x="17381" y="2208"/>
                  </a:lnTo>
                  <a:lnTo>
                    <a:pt x="13895" y="4599"/>
                  </a:lnTo>
                  <a:lnTo>
                    <a:pt x="10737" y="7082"/>
                  </a:lnTo>
                  <a:lnTo>
                    <a:pt x="7857" y="9643"/>
                  </a:lnTo>
                  <a:lnTo>
                    <a:pt x="5432" y="12310"/>
                  </a:lnTo>
                  <a:lnTo>
                    <a:pt x="3335" y="15069"/>
                  </a:lnTo>
                  <a:lnTo>
                    <a:pt x="1516" y="17921"/>
                  </a:lnTo>
                  <a:lnTo>
                    <a:pt x="0" y="20864"/>
                  </a:lnTo>
                  <a:lnTo>
                    <a:pt x="0" y="20864"/>
                  </a:lnTo>
                  <a:close/>
                  <a:moveTo>
                    <a:pt x="0" y="20864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937" y="0"/>
                  </a:lnTo>
                  <a:lnTo>
                    <a:pt x="15002" y="4760"/>
                  </a:lnTo>
                  <a:lnTo>
                    <a:pt x="9473" y="9736"/>
                  </a:lnTo>
                  <a:lnTo>
                    <a:pt x="4423" y="15145"/>
                  </a:lnTo>
                  <a:lnTo>
                    <a:pt x="0" y="20735"/>
                  </a:lnTo>
                  <a:lnTo>
                    <a:pt x="0" y="21600"/>
                  </a:lnTo>
                  <a:lnTo>
                    <a:pt x="4423" y="15578"/>
                  </a:lnTo>
                  <a:lnTo>
                    <a:pt x="9473" y="10169"/>
                  </a:lnTo>
                  <a:lnTo>
                    <a:pt x="15223" y="497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155" y="0"/>
                  </a:lnTo>
                  <a:lnTo>
                    <a:pt x="9636" y="9771"/>
                  </a:lnTo>
                  <a:lnTo>
                    <a:pt x="4818" y="14914"/>
                  </a:lnTo>
                  <a:lnTo>
                    <a:pt x="0" y="20057"/>
                  </a:lnTo>
                  <a:lnTo>
                    <a:pt x="0" y="21600"/>
                  </a:lnTo>
                  <a:lnTo>
                    <a:pt x="10117" y="1028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4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4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1440" y="622440"/>
              <a:ext cx="9140760" cy="2495520"/>
              <a:chOff x="1440" y="622440"/>
              <a:chExt cx="9140760" cy="2495520"/>
            </a:xfrm>
          </p:grpSpPr>
          <p:sp>
            <p:nvSpPr>
              <p:cNvPr id="469" name=""/>
              <p:cNvSpPr/>
              <p:nvPr/>
            </p:nvSpPr>
            <p:spPr>
              <a:xfrm>
                <a:off x="1440" y="124488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440" y="311652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440" y="24926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440" y="186876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44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144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4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6" name=""/>
          <p:cNvSpPr txBox="1"/>
          <p:nvPr/>
        </p:nvSpPr>
        <p:spPr>
          <a:xfrm>
            <a:off x="7481520" y="6243480"/>
            <a:ext cx="2746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D066-882F-4CE7-A680-03C3640B678F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150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irishtimes.com/newspaper/breaking/2012/0329/breaking18.htm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staffingindustry.com/eng/Research-Publications/Daily-News/Germany-Economists-expect-unemployment-rate-to-increase-again-in-201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</a:rPr>
              <a:t>http://www.dw.de/dw/article/0,,15846172,00.html?maca=en-aa-top-861-rd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www.indexmundi.com/germany/unemployment_rate.htm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480" name="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20"/>
                  </a:moveTo>
                  <a:lnTo>
                    <a:pt x="21600" y="0"/>
                  </a:lnTo>
                  <a:lnTo>
                    <a:pt x="21058" y="1291"/>
                  </a:lnTo>
                  <a:lnTo>
                    <a:pt x="20335" y="2671"/>
                  </a:lnTo>
                  <a:lnTo>
                    <a:pt x="18889" y="4972"/>
                  </a:lnTo>
                  <a:lnTo>
                    <a:pt x="17292" y="7272"/>
                  </a:lnTo>
                  <a:lnTo>
                    <a:pt x="15123" y="9573"/>
                  </a:lnTo>
                  <a:lnTo>
                    <a:pt x="12773" y="11950"/>
                  </a:lnTo>
                  <a:lnTo>
                    <a:pt x="10062" y="14328"/>
                  </a:lnTo>
                  <a:lnTo>
                    <a:pt x="7019" y="16769"/>
                  </a:lnTo>
                  <a:lnTo>
                    <a:pt x="3766" y="19146"/>
                  </a:lnTo>
                  <a:lnTo>
                    <a:pt x="0" y="21600"/>
                  </a:lnTo>
                  <a:lnTo>
                    <a:pt x="331" y="21600"/>
                  </a:lnTo>
                  <a:lnTo>
                    <a:pt x="4127" y="19146"/>
                  </a:lnTo>
                  <a:lnTo>
                    <a:pt x="7381" y="16769"/>
                  </a:lnTo>
                  <a:lnTo>
                    <a:pt x="10423" y="14328"/>
                  </a:lnTo>
                  <a:lnTo>
                    <a:pt x="13135" y="11950"/>
                  </a:lnTo>
                  <a:lnTo>
                    <a:pt x="15485" y="9573"/>
                  </a:lnTo>
                  <a:lnTo>
                    <a:pt x="17623" y="7272"/>
                  </a:lnTo>
                  <a:lnTo>
                    <a:pt x="19250" y="4972"/>
                  </a:lnTo>
                  <a:lnTo>
                    <a:pt x="20696" y="2671"/>
                  </a:lnTo>
                  <a:lnTo>
                    <a:pt x="21238" y="1828"/>
                  </a:lnTo>
                  <a:lnTo>
                    <a:pt x="21600" y="920"/>
                  </a:lnTo>
                  <a:lnTo>
                    <a:pt x="21600" y="920"/>
                  </a:lnTo>
                  <a:close/>
                  <a:moveTo>
                    <a:pt x="21600" y="92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6787" y="5462"/>
                  </a:lnTo>
                  <a:lnTo>
                    <a:pt x="11688" y="10924"/>
                  </a:lnTo>
                  <a:lnTo>
                    <a:pt x="5844" y="16386"/>
                  </a:lnTo>
                  <a:lnTo>
                    <a:pt x="0" y="21600"/>
                  </a:lnTo>
                  <a:lnTo>
                    <a:pt x="688" y="21600"/>
                  </a:lnTo>
                  <a:lnTo>
                    <a:pt x="6532" y="16634"/>
                  </a:lnTo>
                  <a:lnTo>
                    <a:pt x="11688" y="11669"/>
                  </a:lnTo>
                  <a:lnTo>
                    <a:pt x="21600" y="993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629" y="21600"/>
                  </a:lnTo>
                  <a:lnTo>
                    <a:pt x="12343" y="12706"/>
                  </a:lnTo>
                  <a:lnTo>
                    <a:pt x="21600" y="5082"/>
                  </a:lnTo>
                  <a:lnTo>
                    <a:pt x="21600" y="0"/>
                  </a:lnTo>
                  <a:lnTo>
                    <a:pt x="10800" y="11435"/>
                  </a:lnTo>
                  <a:lnTo>
                    <a:pt x="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484" name="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8000" y="21600"/>
                    </a:lnTo>
                    <a:lnTo>
                      <a:pt x="21600" y="21600"/>
                    </a:lnTo>
                    <a:lnTo>
                      <a:pt x="36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979" y="0"/>
                    </a:moveTo>
                    <a:lnTo>
                      <a:pt x="1490" y="0"/>
                    </a:lnTo>
                    <a:lnTo>
                      <a:pt x="5214" y="1081"/>
                    </a:lnTo>
                    <a:lnTo>
                      <a:pt x="8938" y="2222"/>
                    </a:lnTo>
                    <a:lnTo>
                      <a:pt x="11917" y="3448"/>
                    </a:lnTo>
                    <a:lnTo>
                      <a:pt x="14897" y="4739"/>
                    </a:lnTo>
                    <a:lnTo>
                      <a:pt x="16386" y="6061"/>
                    </a:lnTo>
                    <a:lnTo>
                      <a:pt x="18621" y="7442"/>
                    </a:lnTo>
                    <a:lnTo>
                      <a:pt x="19366" y="8848"/>
                    </a:lnTo>
                    <a:lnTo>
                      <a:pt x="20110" y="10320"/>
                    </a:lnTo>
                    <a:lnTo>
                      <a:pt x="19366" y="13232"/>
                    </a:lnTo>
                    <a:lnTo>
                      <a:pt x="15641" y="16140"/>
                    </a:lnTo>
                    <a:lnTo>
                      <a:pt x="13407" y="17551"/>
                    </a:lnTo>
                    <a:lnTo>
                      <a:pt x="9683" y="18958"/>
                    </a:lnTo>
                    <a:lnTo>
                      <a:pt x="5214" y="20309"/>
                    </a:lnTo>
                    <a:lnTo>
                      <a:pt x="0" y="21600"/>
                    </a:lnTo>
                    <a:lnTo>
                      <a:pt x="1490" y="21600"/>
                    </a:lnTo>
                    <a:lnTo>
                      <a:pt x="6703" y="20309"/>
                    </a:lnTo>
                    <a:lnTo>
                      <a:pt x="11172" y="18928"/>
                    </a:lnTo>
                    <a:lnTo>
                      <a:pt x="14897" y="17551"/>
                    </a:lnTo>
                    <a:lnTo>
                      <a:pt x="17131" y="16110"/>
                    </a:lnTo>
                    <a:lnTo>
                      <a:pt x="20855" y="13202"/>
                    </a:lnTo>
                    <a:lnTo>
                      <a:pt x="21600" y="10290"/>
                    </a:lnTo>
                    <a:lnTo>
                      <a:pt x="20855" y="8848"/>
                    </a:lnTo>
                    <a:lnTo>
                      <a:pt x="20110" y="7442"/>
                    </a:lnTo>
                    <a:lnTo>
                      <a:pt x="17876" y="6061"/>
                    </a:lnTo>
                    <a:lnTo>
                      <a:pt x="16386" y="4709"/>
                    </a:lnTo>
                    <a:lnTo>
                      <a:pt x="13407" y="3448"/>
                    </a:lnTo>
                    <a:lnTo>
                      <a:pt x="10428" y="2222"/>
                    </a:lnTo>
                    <a:lnTo>
                      <a:pt x="6703" y="1081"/>
                    </a:lnTo>
                    <a:lnTo>
                      <a:pt x="2979" y="0"/>
                    </a:lnTo>
                    <a:lnTo>
                      <a:pt x="2979" y="0"/>
                    </a:lnTo>
                    <a:close/>
                    <a:moveTo>
                      <a:pt x="2979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213" y="10079"/>
                    </a:moveTo>
                    <a:lnTo>
                      <a:pt x="20439" y="8638"/>
                    </a:lnTo>
                    <a:lnTo>
                      <a:pt x="18892" y="7232"/>
                    </a:lnTo>
                    <a:lnTo>
                      <a:pt x="16958" y="5880"/>
                    </a:lnTo>
                    <a:lnTo>
                      <a:pt x="14701" y="4589"/>
                    </a:lnTo>
                    <a:lnTo>
                      <a:pt x="11993" y="3328"/>
                    </a:lnTo>
                    <a:lnTo>
                      <a:pt x="8511" y="2162"/>
                    </a:lnTo>
                    <a:lnTo>
                      <a:pt x="5029" y="1021"/>
                    </a:lnTo>
                    <a:lnTo>
                      <a:pt x="774" y="0"/>
                    </a:lnTo>
                    <a:lnTo>
                      <a:pt x="0" y="0"/>
                    </a:lnTo>
                    <a:lnTo>
                      <a:pt x="4256" y="1021"/>
                    </a:lnTo>
                    <a:lnTo>
                      <a:pt x="7737" y="2162"/>
                    </a:lnTo>
                    <a:lnTo>
                      <a:pt x="11219" y="3328"/>
                    </a:lnTo>
                    <a:lnTo>
                      <a:pt x="13927" y="4589"/>
                    </a:lnTo>
                    <a:lnTo>
                      <a:pt x="16184" y="5880"/>
                    </a:lnTo>
                    <a:lnTo>
                      <a:pt x="18118" y="7232"/>
                    </a:lnTo>
                    <a:lnTo>
                      <a:pt x="19666" y="8638"/>
                    </a:lnTo>
                    <a:lnTo>
                      <a:pt x="20439" y="10079"/>
                    </a:lnTo>
                    <a:lnTo>
                      <a:pt x="20826" y="11581"/>
                    </a:lnTo>
                    <a:lnTo>
                      <a:pt x="20439" y="13052"/>
                    </a:lnTo>
                    <a:lnTo>
                      <a:pt x="19666" y="14548"/>
                    </a:lnTo>
                    <a:lnTo>
                      <a:pt x="18118" y="16020"/>
                    </a:lnTo>
                    <a:lnTo>
                      <a:pt x="16571" y="17461"/>
                    </a:lnTo>
                    <a:lnTo>
                      <a:pt x="13927" y="18903"/>
                    </a:lnTo>
                    <a:lnTo>
                      <a:pt x="11219" y="20279"/>
                    </a:lnTo>
                    <a:lnTo>
                      <a:pt x="7737" y="21600"/>
                    </a:lnTo>
                    <a:lnTo>
                      <a:pt x="8511" y="21600"/>
                    </a:lnTo>
                    <a:lnTo>
                      <a:pt x="11993" y="20279"/>
                    </a:lnTo>
                    <a:lnTo>
                      <a:pt x="14701" y="18903"/>
                    </a:lnTo>
                    <a:lnTo>
                      <a:pt x="17344" y="17461"/>
                    </a:lnTo>
                    <a:lnTo>
                      <a:pt x="18892" y="16020"/>
                    </a:lnTo>
                    <a:lnTo>
                      <a:pt x="20439" y="14548"/>
                    </a:lnTo>
                    <a:lnTo>
                      <a:pt x="21213" y="13052"/>
                    </a:lnTo>
                    <a:lnTo>
                      <a:pt x="21600" y="11581"/>
                    </a:lnTo>
                    <a:lnTo>
                      <a:pt x="21213" y="10079"/>
                    </a:lnTo>
                    <a:lnTo>
                      <a:pt x="21213" y="10079"/>
                    </a:lnTo>
                    <a:close/>
                    <a:moveTo>
                      <a:pt x="21213" y="1007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990" y="9629"/>
                    </a:moveTo>
                    <a:lnTo>
                      <a:pt x="20075" y="8458"/>
                    </a:lnTo>
                    <a:lnTo>
                      <a:pt x="18551" y="7292"/>
                    </a:lnTo>
                    <a:lnTo>
                      <a:pt x="16721" y="6151"/>
                    </a:lnTo>
                    <a:lnTo>
                      <a:pt x="14281" y="5010"/>
                    </a:lnTo>
                    <a:lnTo>
                      <a:pt x="11537" y="3809"/>
                    </a:lnTo>
                    <a:lnTo>
                      <a:pt x="8233" y="2612"/>
                    </a:lnTo>
                    <a:lnTo>
                      <a:pt x="4574" y="1351"/>
                    </a:lnTo>
                    <a:lnTo>
                      <a:pt x="610" y="0"/>
                    </a:lnTo>
                    <a:lnTo>
                      <a:pt x="0" y="0"/>
                    </a:lnTo>
                    <a:lnTo>
                      <a:pt x="4269" y="1351"/>
                    </a:lnTo>
                    <a:lnTo>
                      <a:pt x="7928" y="2612"/>
                    </a:lnTo>
                    <a:lnTo>
                      <a:pt x="10978" y="3839"/>
                    </a:lnTo>
                    <a:lnTo>
                      <a:pt x="13976" y="5010"/>
                    </a:lnTo>
                    <a:lnTo>
                      <a:pt x="16111" y="6181"/>
                    </a:lnTo>
                    <a:lnTo>
                      <a:pt x="17941" y="7322"/>
                    </a:lnTo>
                    <a:lnTo>
                      <a:pt x="19465" y="8458"/>
                    </a:lnTo>
                    <a:lnTo>
                      <a:pt x="20380" y="9629"/>
                    </a:lnTo>
                    <a:lnTo>
                      <a:pt x="20990" y="10950"/>
                    </a:lnTo>
                    <a:lnTo>
                      <a:pt x="20685" y="12301"/>
                    </a:lnTo>
                    <a:lnTo>
                      <a:pt x="20075" y="13678"/>
                    </a:lnTo>
                    <a:lnTo>
                      <a:pt x="18551" y="15119"/>
                    </a:lnTo>
                    <a:lnTo>
                      <a:pt x="16721" y="16620"/>
                    </a:lnTo>
                    <a:lnTo>
                      <a:pt x="13976" y="18212"/>
                    </a:lnTo>
                    <a:lnTo>
                      <a:pt x="10368" y="19858"/>
                    </a:lnTo>
                    <a:lnTo>
                      <a:pt x="6404" y="21600"/>
                    </a:lnTo>
                    <a:lnTo>
                      <a:pt x="7014" y="21600"/>
                    </a:lnTo>
                    <a:lnTo>
                      <a:pt x="10978" y="19858"/>
                    </a:lnTo>
                    <a:lnTo>
                      <a:pt x="14586" y="18212"/>
                    </a:lnTo>
                    <a:lnTo>
                      <a:pt x="17331" y="16620"/>
                    </a:lnTo>
                    <a:lnTo>
                      <a:pt x="19160" y="15119"/>
                    </a:lnTo>
                    <a:lnTo>
                      <a:pt x="20685" y="13678"/>
                    </a:lnTo>
                    <a:lnTo>
                      <a:pt x="21295" y="12301"/>
                    </a:lnTo>
                    <a:lnTo>
                      <a:pt x="21600" y="10950"/>
                    </a:lnTo>
                    <a:lnTo>
                      <a:pt x="20990" y="9629"/>
                    </a:lnTo>
                    <a:lnTo>
                      <a:pt x="20990" y="9629"/>
                    </a:lnTo>
                    <a:close/>
                    <a:moveTo>
                      <a:pt x="20990" y="962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109"/>
                    </a:moveTo>
                    <a:lnTo>
                      <a:pt x="20901" y="8668"/>
                    </a:lnTo>
                    <a:lnTo>
                      <a:pt x="19541" y="7232"/>
                    </a:lnTo>
                    <a:lnTo>
                      <a:pt x="17676" y="5880"/>
                    </a:lnTo>
                    <a:lnTo>
                      <a:pt x="15345" y="4559"/>
                    </a:lnTo>
                    <a:lnTo>
                      <a:pt x="12315" y="3298"/>
                    </a:lnTo>
                    <a:lnTo>
                      <a:pt x="8858" y="2132"/>
                    </a:lnTo>
                    <a:lnTo>
                      <a:pt x="4895" y="1021"/>
                    </a:lnTo>
                    <a:lnTo>
                      <a:pt x="466" y="0"/>
                    </a:lnTo>
                    <a:lnTo>
                      <a:pt x="0" y="0"/>
                    </a:lnTo>
                    <a:lnTo>
                      <a:pt x="4429" y="1021"/>
                    </a:lnTo>
                    <a:lnTo>
                      <a:pt x="8391" y="2132"/>
                    </a:lnTo>
                    <a:lnTo>
                      <a:pt x="11849" y="3298"/>
                    </a:lnTo>
                    <a:lnTo>
                      <a:pt x="14879" y="4559"/>
                    </a:lnTo>
                    <a:lnTo>
                      <a:pt x="17210" y="5880"/>
                    </a:lnTo>
                    <a:lnTo>
                      <a:pt x="19075" y="7232"/>
                    </a:lnTo>
                    <a:lnTo>
                      <a:pt x="20435" y="8668"/>
                    </a:lnTo>
                    <a:lnTo>
                      <a:pt x="21134" y="10109"/>
                    </a:lnTo>
                    <a:lnTo>
                      <a:pt x="21134" y="11641"/>
                    </a:lnTo>
                    <a:lnTo>
                      <a:pt x="20668" y="13172"/>
                    </a:lnTo>
                    <a:lnTo>
                      <a:pt x="19541" y="14669"/>
                    </a:lnTo>
                    <a:lnTo>
                      <a:pt x="17676" y="16140"/>
                    </a:lnTo>
                    <a:lnTo>
                      <a:pt x="15112" y="17581"/>
                    </a:lnTo>
                    <a:lnTo>
                      <a:pt x="12082" y="18958"/>
                    </a:lnTo>
                    <a:lnTo>
                      <a:pt x="8391" y="20309"/>
                    </a:lnTo>
                    <a:lnTo>
                      <a:pt x="3963" y="21600"/>
                    </a:lnTo>
                    <a:lnTo>
                      <a:pt x="4429" y="21600"/>
                    </a:lnTo>
                    <a:lnTo>
                      <a:pt x="8858" y="20309"/>
                    </a:lnTo>
                    <a:lnTo>
                      <a:pt x="12548" y="18958"/>
                    </a:lnTo>
                    <a:lnTo>
                      <a:pt x="15578" y="17581"/>
                    </a:lnTo>
                    <a:lnTo>
                      <a:pt x="18142" y="16140"/>
                    </a:lnTo>
                    <a:lnTo>
                      <a:pt x="20007" y="14669"/>
                    </a:lnTo>
                    <a:lnTo>
                      <a:pt x="21134" y="13172"/>
                    </a:lnTo>
                    <a:lnTo>
                      <a:pt x="21600" y="11641"/>
                    </a:lnTo>
                    <a:lnTo>
                      <a:pt x="21600" y="10109"/>
                    </a:lnTo>
                    <a:lnTo>
                      <a:pt x="21600" y="10109"/>
                    </a:lnTo>
                    <a:close/>
                    <a:moveTo>
                      <a:pt x="21600" y="1010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440"/>
                    </a:moveTo>
                    <a:lnTo>
                      <a:pt x="21035" y="9058"/>
                    </a:lnTo>
                    <a:lnTo>
                      <a:pt x="19905" y="7712"/>
                    </a:lnTo>
                    <a:lnTo>
                      <a:pt x="18021" y="6361"/>
                    </a:lnTo>
                    <a:lnTo>
                      <a:pt x="15603" y="5040"/>
                    </a:lnTo>
                    <a:lnTo>
                      <a:pt x="12590" y="3748"/>
                    </a:lnTo>
                    <a:lnTo>
                      <a:pt x="9199" y="2462"/>
                    </a:lnTo>
                    <a:lnTo>
                      <a:pt x="5086" y="1201"/>
                    </a:lnTo>
                    <a:lnTo>
                      <a:pt x="377" y="0"/>
                    </a:lnTo>
                    <a:lnTo>
                      <a:pt x="0" y="0"/>
                    </a:lnTo>
                    <a:lnTo>
                      <a:pt x="4709" y="1201"/>
                    </a:lnTo>
                    <a:lnTo>
                      <a:pt x="8822" y="2462"/>
                    </a:lnTo>
                    <a:lnTo>
                      <a:pt x="12213" y="3748"/>
                    </a:lnTo>
                    <a:lnTo>
                      <a:pt x="15227" y="5040"/>
                    </a:lnTo>
                    <a:lnTo>
                      <a:pt x="17644" y="6361"/>
                    </a:lnTo>
                    <a:lnTo>
                      <a:pt x="19528" y="7712"/>
                    </a:lnTo>
                    <a:lnTo>
                      <a:pt x="20658" y="9058"/>
                    </a:lnTo>
                    <a:lnTo>
                      <a:pt x="21223" y="10440"/>
                    </a:lnTo>
                    <a:lnTo>
                      <a:pt x="21223" y="11851"/>
                    </a:lnTo>
                    <a:lnTo>
                      <a:pt x="20658" y="13262"/>
                    </a:lnTo>
                    <a:lnTo>
                      <a:pt x="19340" y="14669"/>
                    </a:lnTo>
                    <a:lnTo>
                      <a:pt x="17456" y="16080"/>
                    </a:lnTo>
                    <a:lnTo>
                      <a:pt x="14850" y="17491"/>
                    </a:lnTo>
                    <a:lnTo>
                      <a:pt x="11648" y="18903"/>
                    </a:lnTo>
                    <a:lnTo>
                      <a:pt x="7880" y="20249"/>
                    </a:lnTo>
                    <a:lnTo>
                      <a:pt x="3579" y="21600"/>
                    </a:lnTo>
                    <a:lnTo>
                      <a:pt x="3956" y="21600"/>
                    </a:lnTo>
                    <a:lnTo>
                      <a:pt x="8257" y="20249"/>
                    </a:lnTo>
                    <a:lnTo>
                      <a:pt x="12024" y="18903"/>
                    </a:lnTo>
                    <a:lnTo>
                      <a:pt x="15227" y="17491"/>
                    </a:lnTo>
                    <a:lnTo>
                      <a:pt x="17833" y="16110"/>
                    </a:lnTo>
                    <a:lnTo>
                      <a:pt x="19716" y="14699"/>
                    </a:lnTo>
                    <a:lnTo>
                      <a:pt x="21035" y="13292"/>
                    </a:lnTo>
                    <a:lnTo>
                      <a:pt x="21600" y="11851"/>
                    </a:lnTo>
                    <a:lnTo>
                      <a:pt x="21600" y="10440"/>
                    </a:lnTo>
                    <a:lnTo>
                      <a:pt x="21600" y="10440"/>
                    </a:lnTo>
                    <a:close/>
                    <a:moveTo>
                      <a:pt x="21600" y="104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449" y="10650"/>
                    </a:moveTo>
                    <a:lnTo>
                      <a:pt x="20847" y="9178"/>
                    </a:lnTo>
                    <a:lnTo>
                      <a:pt x="20270" y="8428"/>
                    </a:lnTo>
                    <a:lnTo>
                      <a:pt x="19668" y="7712"/>
                    </a:lnTo>
                    <a:lnTo>
                      <a:pt x="18765" y="6991"/>
                    </a:lnTo>
                    <a:lnTo>
                      <a:pt x="17862" y="6271"/>
                    </a:lnTo>
                    <a:lnTo>
                      <a:pt x="16658" y="5580"/>
                    </a:lnTo>
                    <a:lnTo>
                      <a:pt x="15303" y="4890"/>
                    </a:lnTo>
                    <a:lnTo>
                      <a:pt x="12318" y="3598"/>
                    </a:lnTo>
                    <a:lnTo>
                      <a:pt x="8856" y="2342"/>
                    </a:lnTo>
                    <a:lnTo>
                      <a:pt x="4817" y="1141"/>
                    </a:lnTo>
                    <a:lnTo>
                      <a:pt x="301" y="0"/>
                    </a:lnTo>
                    <a:lnTo>
                      <a:pt x="0" y="0"/>
                    </a:lnTo>
                    <a:lnTo>
                      <a:pt x="4516" y="1141"/>
                    </a:lnTo>
                    <a:lnTo>
                      <a:pt x="8555" y="2342"/>
                    </a:lnTo>
                    <a:lnTo>
                      <a:pt x="12017" y="3598"/>
                    </a:lnTo>
                    <a:lnTo>
                      <a:pt x="15002" y="4920"/>
                    </a:lnTo>
                    <a:lnTo>
                      <a:pt x="16357" y="5610"/>
                    </a:lnTo>
                    <a:lnTo>
                      <a:pt x="17561" y="6301"/>
                    </a:lnTo>
                    <a:lnTo>
                      <a:pt x="18464" y="7022"/>
                    </a:lnTo>
                    <a:lnTo>
                      <a:pt x="19367" y="7742"/>
                    </a:lnTo>
                    <a:lnTo>
                      <a:pt x="20120" y="8458"/>
                    </a:lnTo>
                    <a:lnTo>
                      <a:pt x="20546" y="9178"/>
                    </a:lnTo>
                    <a:lnTo>
                      <a:pt x="20998" y="9929"/>
                    </a:lnTo>
                    <a:lnTo>
                      <a:pt x="21148" y="10650"/>
                    </a:lnTo>
                    <a:lnTo>
                      <a:pt x="21299" y="11401"/>
                    </a:lnTo>
                    <a:lnTo>
                      <a:pt x="21148" y="12151"/>
                    </a:lnTo>
                    <a:lnTo>
                      <a:pt x="20847" y="12872"/>
                    </a:lnTo>
                    <a:lnTo>
                      <a:pt x="20546" y="13618"/>
                    </a:lnTo>
                    <a:lnTo>
                      <a:pt x="19969" y="14338"/>
                    </a:lnTo>
                    <a:lnTo>
                      <a:pt x="19217" y="15089"/>
                    </a:lnTo>
                    <a:lnTo>
                      <a:pt x="18163" y="15810"/>
                    </a:lnTo>
                    <a:lnTo>
                      <a:pt x="17109" y="16530"/>
                    </a:lnTo>
                    <a:lnTo>
                      <a:pt x="14701" y="17852"/>
                    </a:lnTo>
                    <a:lnTo>
                      <a:pt x="11866" y="19138"/>
                    </a:lnTo>
                    <a:lnTo>
                      <a:pt x="8404" y="20399"/>
                    </a:lnTo>
                    <a:lnTo>
                      <a:pt x="4516" y="21600"/>
                    </a:lnTo>
                    <a:lnTo>
                      <a:pt x="4817" y="21600"/>
                    </a:lnTo>
                    <a:lnTo>
                      <a:pt x="8705" y="20399"/>
                    </a:lnTo>
                    <a:lnTo>
                      <a:pt x="12167" y="19138"/>
                    </a:lnTo>
                    <a:lnTo>
                      <a:pt x="15002" y="17882"/>
                    </a:lnTo>
                    <a:lnTo>
                      <a:pt x="17410" y="16560"/>
                    </a:lnTo>
                    <a:lnTo>
                      <a:pt x="18464" y="15840"/>
                    </a:lnTo>
                    <a:lnTo>
                      <a:pt x="19518" y="15119"/>
                    </a:lnTo>
                    <a:lnTo>
                      <a:pt x="20270" y="14368"/>
                    </a:lnTo>
                    <a:lnTo>
                      <a:pt x="20847" y="13648"/>
                    </a:lnTo>
                    <a:lnTo>
                      <a:pt x="21148" y="12902"/>
                    </a:lnTo>
                    <a:lnTo>
                      <a:pt x="21449" y="12151"/>
                    </a:lnTo>
                    <a:lnTo>
                      <a:pt x="21600" y="11401"/>
                    </a:lnTo>
                    <a:lnTo>
                      <a:pt x="21449" y="10650"/>
                    </a:lnTo>
                    <a:lnTo>
                      <a:pt x="21449" y="10650"/>
                    </a:lnTo>
                    <a:close/>
                    <a:moveTo>
                      <a:pt x="21449" y="1065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609" y="9719"/>
                    </a:moveTo>
                    <a:lnTo>
                      <a:pt x="4349" y="8158"/>
                    </a:lnTo>
                    <a:lnTo>
                      <a:pt x="6089" y="6661"/>
                    </a:lnTo>
                    <a:lnTo>
                      <a:pt x="8553" y="5280"/>
                    </a:lnTo>
                    <a:lnTo>
                      <a:pt x="11162" y="3959"/>
                    </a:lnTo>
                    <a:lnTo>
                      <a:pt x="12032" y="3358"/>
                    </a:lnTo>
                    <a:lnTo>
                      <a:pt x="13772" y="2788"/>
                    </a:lnTo>
                    <a:lnTo>
                      <a:pt x="15511" y="2222"/>
                    </a:lnTo>
                    <a:lnTo>
                      <a:pt x="16381" y="1712"/>
                    </a:lnTo>
                    <a:lnTo>
                      <a:pt x="18121" y="1231"/>
                    </a:lnTo>
                    <a:lnTo>
                      <a:pt x="18991" y="781"/>
                    </a:lnTo>
                    <a:lnTo>
                      <a:pt x="20730" y="360"/>
                    </a:lnTo>
                    <a:lnTo>
                      <a:pt x="21600" y="0"/>
                    </a:lnTo>
                    <a:lnTo>
                      <a:pt x="19860" y="0"/>
                    </a:lnTo>
                    <a:lnTo>
                      <a:pt x="18991" y="360"/>
                    </a:lnTo>
                    <a:lnTo>
                      <a:pt x="17251" y="781"/>
                    </a:lnTo>
                    <a:lnTo>
                      <a:pt x="16381" y="1231"/>
                    </a:lnTo>
                    <a:lnTo>
                      <a:pt x="14642" y="1712"/>
                    </a:lnTo>
                    <a:lnTo>
                      <a:pt x="13772" y="2222"/>
                    </a:lnTo>
                    <a:lnTo>
                      <a:pt x="12032" y="2788"/>
                    </a:lnTo>
                    <a:lnTo>
                      <a:pt x="10293" y="3358"/>
                    </a:lnTo>
                    <a:lnTo>
                      <a:pt x="9423" y="3959"/>
                    </a:lnTo>
                    <a:lnTo>
                      <a:pt x="6958" y="5280"/>
                    </a:lnTo>
                    <a:lnTo>
                      <a:pt x="4349" y="6661"/>
                    </a:lnTo>
                    <a:lnTo>
                      <a:pt x="2609" y="8158"/>
                    </a:lnTo>
                    <a:lnTo>
                      <a:pt x="870" y="9719"/>
                    </a:lnTo>
                    <a:lnTo>
                      <a:pt x="0" y="11401"/>
                    </a:lnTo>
                    <a:lnTo>
                      <a:pt x="870" y="13022"/>
                    </a:lnTo>
                    <a:lnTo>
                      <a:pt x="1740" y="14609"/>
                    </a:lnTo>
                    <a:lnTo>
                      <a:pt x="3479" y="16110"/>
                    </a:lnTo>
                    <a:lnTo>
                      <a:pt x="5219" y="17581"/>
                    </a:lnTo>
                    <a:lnTo>
                      <a:pt x="8553" y="18988"/>
                    </a:lnTo>
                    <a:lnTo>
                      <a:pt x="12902" y="20309"/>
                    </a:lnTo>
                    <a:lnTo>
                      <a:pt x="18121" y="21600"/>
                    </a:lnTo>
                    <a:lnTo>
                      <a:pt x="19860" y="21600"/>
                    </a:lnTo>
                    <a:lnTo>
                      <a:pt x="14642" y="20309"/>
                    </a:lnTo>
                    <a:lnTo>
                      <a:pt x="10293" y="18988"/>
                    </a:lnTo>
                    <a:lnTo>
                      <a:pt x="6958" y="17581"/>
                    </a:lnTo>
                    <a:lnTo>
                      <a:pt x="5219" y="16140"/>
                    </a:lnTo>
                    <a:lnTo>
                      <a:pt x="3479" y="14609"/>
                    </a:lnTo>
                    <a:lnTo>
                      <a:pt x="2609" y="13052"/>
                    </a:lnTo>
                    <a:lnTo>
                      <a:pt x="1740" y="11401"/>
                    </a:lnTo>
                    <a:lnTo>
                      <a:pt x="2609" y="9719"/>
                    </a:lnTo>
                    <a:lnTo>
                      <a:pt x="2609" y="9719"/>
                    </a:lnTo>
                    <a:close/>
                    <a:moveTo>
                      <a:pt x="2609" y="971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00" y="10320"/>
                    </a:moveTo>
                    <a:lnTo>
                      <a:pt x="2167" y="8758"/>
                    </a:lnTo>
                    <a:lnTo>
                      <a:pt x="3901" y="7262"/>
                    </a:lnTo>
                    <a:lnTo>
                      <a:pt x="6068" y="5850"/>
                    </a:lnTo>
                    <a:lnTo>
                      <a:pt x="9102" y="4499"/>
                    </a:lnTo>
                    <a:lnTo>
                      <a:pt x="11703" y="3208"/>
                    </a:lnTo>
                    <a:lnTo>
                      <a:pt x="15098" y="2042"/>
                    </a:lnTo>
                    <a:lnTo>
                      <a:pt x="18132" y="961"/>
                    </a:lnTo>
                    <a:lnTo>
                      <a:pt x="21600" y="0"/>
                    </a:lnTo>
                    <a:lnTo>
                      <a:pt x="20733" y="0"/>
                    </a:lnTo>
                    <a:lnTo>
                      <a:pt x="17266" y="961"/>
                    </a:lnTo>
                    <a:lnTo>
                      <a:pt x="14304" y="2042"/>
                    </a:lnTo>
                    <a:lnTo>
                      <a:pt x="11270" y="3208"/>
                    </a:lnTo>
                    <a:lnTo>
                      <a:pt x="8235" y="4499"/>
                    </a:lnTo>
                    <a:lnTo>
                      <a:pt x="5635" y="5850"/>
                    </a:lnTo>
                    <a:lnTo>
                      <a:pt x="3468" y="7262"/>
                    </a:lnTo>
                    <a:lnTo>
                      <a:pt x="1734" y="8758"/>
                    </a:lnTo>
                    <a:lnTo>
                      <a:pt x="433" y="10320"/>
                    </a:lnTo>
                    <a:lnTo>
                      <a:pt x="0" y="11881"/>
                    </a:lnTo>
                    <a:lnTo>
                      <a:pt x="867" y="13382"/>
                    </a:lnTo>
                    <a:lnTo>
                      <a:pt x="2167" y="14879"/>
                    </a:lnTo>
                    <a:lnTo>
                      <a:pt x="3901" y="16290"/>
                    </a:lnTo>
                    <a:lnTo>
                      <a:pt x="6935" y="17701"/>
                    </a:lnTo>
                    <a:lnTo>
                      <a:pt x="10403" y="19048"/>
                    </a:lnTo>
                    <a:lnTo>
                      <a:pt x="14665" y="20339"/>
                    </a:lnTo>
                    <a:lnTo>
                      <a:pt x="19866" y="21600"/>
                    </a:lnTo>
                    <a:lnTo>
                      <a:pt x="20733" y="21600"/>
                    </a:lnTo>
                    <a:lnTo>
                      <a:pt x="15532" y="20339"/>
                    </a:lnTo>
                    <a:lnTo>
                      <a:pt x="11270" y="19048"/>
                    </a:lnTo>
                    <a:lnTo>
                      <a:pt x="7802" y="17701"/>
                    </a:lnTo>
                    <a:lnTo>
                      <a:pt x="4768" y="16320"/>
                    </a:lnTo>
                    <a:lnTo>
                      <a:pt x="3034" y="14879"/>
                    </a:lnTo>
                    <a:lnTo>
                      <a:pt x="1734" y="13412"/>
                    </a:lnTo>
                    <a:lnTo>
                      <a:pt x="867" y="11881"/>
                    </a:lnTo>
                    <a:lnTo>
                      <a:pt x="1300" y="10320"/>
                    </a:lnTo>
                    <a:lnTo>
                      <a:pt x="1300" y="10320"/>
                    </a:lnTo>
                    <a:close/>
                    <a:moveTo>
                      <a:pt x="1300" y="1032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20989" y="0"/>
                    </a:lnTo>
                    <a:lnTo>
                      <a:pt x="16098" y="1111"/>
                    </a:lnTo>
                    <a:lnTo>
                      <a:pt x="12175" y="2312"/>
                    </a:lnTo>
                    <a:lnTo>
                      <a:pt x="8508" y="3538"/>
                    </a:lnTo>
                    <a:lnTo>
                      <a:pt x="5451" y="4859"/>
                    </a:lnTo>
                    <a:lnTo>
                      <a:pt x="3311" y="6241"/>
                    </a:lnTo>
                    <a:lnTo>
                      <a:pt x="1477" y="7652"/>
                    </a:lnTo>
                    <a:lnTo>
                      <a:pt x="306" y="9118"/>
                    </a:lnTo>
                    <a:lnTo>
                      <a:pt x="0" y="10620"/>
                    </a:lnTo>
                    <a:lnTo>
                      <a:pt x="306" y="12031"/>
                    </a:lnTo>
                    <a:lnTo>
                      <a:pt x="1223" y="13442"/>
                    </a:lnTo>
                    <a:lnTo>
                      <a:pt x="2394" y="14819"/>
                    </a:lnTo>
                    <a:lnTo>
                      <a:pt x="4534" y="16230"/>
                    </a:lnTo>
                    <a:lnTo>
                      <a:pt x="6979" y="17611"/>
                    </a:lnTo>
                    <a:lnTo>
                      <a:pt x="10036" y="18958"/>
                    </a:lnTo>
                    <a:lnTo>
                      <a:pt x="13704" y="20309"/>
                    </a:lnTo>
                    <a:lnTo>
                      <a:pt x="17626" y="21600"/>
                    </a:lnTo>
                    <a:lnTo>
                      <a:pt x="18238" y="21600"/>
                    </a:lnTo>
                    <a:lnTo>
                      <a:pt x="14315" y="20309"/>
                    </a:lnTo>
                    <a:lnTo>
                      <a:pt x="10647" y="18958"/>
                    </a:lnTo>
                    <a:lnTo>
                      <a:pt x="7591" y="17611"/>
                    </a:lnTo>
                    <a:lnTo>
                      <a:pt x="5145" y="16230"/>
                    </a:lnTo>
                    <a:lnTo>
                      <a:pt x="3006" y="14819"/>
                    </a:lnTo>
                    <a:lnTo>
                      <a:pt x="1783" y="13442"/>
                    </a:lnTo>
                    <a:lnTo>
                      <a:pt x="917" y="12031"/>
                    </a:lnTo>
                    <a:lnTo>
                      <a:pt x="611" y="10620"/>
                    </a:lnTo>
                    <a:lnTo>
                      <a:pt x="917" y="9118"/>
                    </a:lnTo>
                    <a:lnTo>
                      <a:pt x="2089" y="7652"/>
                    </a:lnTo>
                    <a:lnTo>
                      <a:pt x="3617" y="6241"/>
                    </a:lnTo>
                    <a:lnTo>
                      <a:pt x="6062" y="4859"/>
                    </a:lnTo>
                    <a:lnTo>
                      <a:pt x="9119" y="3538"/>
                    </a:lnTo>
                    <a:lnTo>
                      <a:pt x="12481" y="2312"/>
                    </a:lnTo>
                    <a:lnTo>
                      <a:pt x="16709" y="1111"/>
                    </a:lnTo>
                    <a:lnTo>
                      <a:pt x="21600" y="0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2" y="10740"/>
                    </a:moveTo>
                    <a:lnTo>
                      <a:pt x="903" y="9239"/>
                    </a:lnTo>
                    <a:lnTo>
                      <a:pt x="2032" y="7802"/>
                    </a:lnTo>
                    <a:lnTo>
                      <a:pt x="3613" y="6391"/>
                    </a:lnTo>
                    <a:lnTo>
                      <a:pt x="6096" y="5010"/>
                    </a:lnTo>
                    <a:lnTo>
                      <a:pt x="8994" y="3658"/>
                    </a:lnTo>
                    <a:lnTo>
                      <a:pt x="12606" y="2402"/>
                    </a:lnTo>
                    <a:lnTo>
                      <a:pt x="16896" y="1171"/>
                    </a:lnTo>
                    <a:lnTo>
                      <a:pt x="21600" y="0"/>
                    </a:lnTo>
                    <a:lnTo>
                      <a:pt x="21148" y="0"/>
                    </a:lnTo>
                    <a:lnTo>
                      <a:pt x="16445" y="1171"/>
                    </a:lnTo>
                    <a:lnTo>
                      <a:pt x="12155" y="2402"/>
                    </a:lnTo>
                    <a:lnTo>
                      <a:pt x="8542" y="3688"/>
                    </a:lnTo>
                    <a:lnTo>
                      <a:pt x="5645" y="5010"/>
                    </a:lnTo>
                    <a:lnTo>
                      <a:pt x="3161" y="6391"/>
                    </a:lnTo>
                    <a:lnTo>
                      <a:pt x="1580" y="7802"/>
                    </a:lnTo>
                    <a:lnTo>
                      <a:pt x="452" y="9269"/>
                    </a:lnTo>
                    <a:lnTo>
                      <a:pt x="0" y="10740"/>
                    </a:lnTo>
                    <a:lnTo>
                      <a:pt x="226" y="12181"/>
                    </a:lnTo>
                    <a:lnTo>
                      <a:pt x="1129" y="13588"/>
                    </a:lnTo>
                    <a:lnTo>
                      <a:pt x="2484" y="14999"/>
                    </a:lnTo>
                    <a:lnTo>
                      <a:pt x="4516" y="16380"/>
                    </a:lnTo>
                    <a:lnTo>
                      <a:pt x="7187" y="17761"/>
                    </a:lnTo>
                    <a:lnTo>
                      <a:pt x="10348" y="19078"/>
                    </a:lnTo>
                    <a:lnTo>
                      <a:pt x="13961" y="20369"/>
                    </a:lnTo>
                    <a:lnTo>
                      <a:pt x="18213" y="21600"/>
                    </a:lnTo>
                    <a:lnTo>
                      <a:pt x="18665" y="21600"/>
                    </a:lnTo>
                    <a:lnTo>
                      <a:pt x="14413" y="20369"/>
                    </a:lnTo>
                    <a:lnTo>
                      <a:pt x="10800" y="19078"/>
                    </a:lnTo>
                    <a:lnTo>
                      <a:pt x="7639" y="17761"/>
                    </a:lnTo>
                    <a:lnTo>
                      <a:pt x="4967" y="16380"/>
                    </a:lnTo>
                    <a:lnTo>
                      <a:pt x="2935" y="14999"/>
                    </a:lnTo>
                    <a:lnTo>
                      <a:pt x="1580" y="13588"/>
                    </a:lnTo>
                    <a:lnTo>
                      <a:pt x="677" y="12181"/>
                    </a:lnTo>
                    <a:lnTo>
                      <a:pt x="452" y="10740"/>
                    </a:lnTo>
                    <a:lnTo>
                      <a:pt x="452" y="10740"/>
                    </a:lnTo>
                    <a:close/>
                    <a:moveTo>
                      <a:pt x="452" y="107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53" y="10500"/>
                    </a:moveTo>
                    <a:lnTo>
                      <a:pt x="852" y="8998"/>
                    </a:lnTo>
                    <a:lnTo>
                      <a:pt x="2087" y="7532"/>
                    </a:lnTo>
                    <a:lnTo>
                      <a:pt x="3850" y="6121"/>
                    </a:lnTo>
                    <a:lnTo>
                      <a:pt x="6318" y="4709"/>
                    </a:lnTo>
                    <a:lnTo>
                      <a:pt x="9287" y="3448"/>
                    </a:lnTo>
                    <a:lnTo>
                      <a:pt x="12989" y="2222"/>
                    </a:lnTo>
                    <a:lnTo>
                      <a:pt x="17045" y="1081"/>
                    </a:lnTo>
                    <a:lnTo>
                      <a:pt x="21600" y="0"/>
                    </a:lnTo>
                    <a:lnTo>
                      <a:pt x="21247" y="0"/>
                    </a:lnTo>
                    <a:lnTo>
                      <a:pt x="16692" y="1051"/>
                    </a:lnTo>
                    <a:lnTo>
                      <a:pt x="12637" y="2192"/>
                    </a:lnTo>
                    <a:lnTo>
                      <a:pt x="9140" y="3418"/>
                    </a:lnTo>
                    <a:lnTo>
                      <a:pt x="6142" y="4709"/>
                    </a:lnTo>
                    <a:lnTo>
                      <a:pt x="3673" y="6091"/>
                    </a:lnTo>
                    <a:lnTo>
                      <a:pt x="1734" y="7532"/>
                    </a:lnTo>
                    <a:lnTo>
                      <a:pt x="529" y="8998"/>
                    </a:lnTo>
                    <a:lnTo>
                      <a:pt x="0" y="10500"/>
                    </a:lnTo>
                    <a:lnTo>
                      <a:pt x="176" y="12031"/>
                    </a:lnTo>
                    <a:lnTo>
                      <a:pt x="852" y="13558"/>
                    </a:lnTo>
                    <a:lnTo>
                      <a:pt x="2263" y="15089"/>
                    </a:lnTo>
                    <a:lnTo>
                      <a:pt x="4379" y="16590"/>
                    </a:lnTo>
                    <a:lnTo>
                      <a:pt x="6671" y="17882"/>
                    </a:lnTo>
                    <a:lnTo>
                      <a:pt x="9287" y="19138"/>
                    </a:lnTo>
                    <a:lnTo>
                      <a:pt x="12460" y="20399"/>
                    </a:lnTo>
                    <a:lnTo>
                      <a:pt x="15987" y="21600"/>
                    </a:lnTo>
                    <a:lnTo>
                      <a:pt x="16340" y="21600"/>
                    </a:lnTo>
                    <a:lnTo>
                      <a:pt x="12813" y="20399"/>
                    </a:lnTo>
                    <a:lnTo>
                      <a:pt x="9639" y="19138"/>
                    </a:lnTo>
                    <a:lnTo>
                      <a:pt x="7024" y="17882"/>
                    </a:lnTo>
                    <a:lnTo>
                      <a:pt x="4731" y="16590"/>
                    </a:lnTo>
                    <a:lnTo>
                      <a:pt x="2616" y="15089"/>
                    </a:lnTo>
                    <a:lnTo>
                      <a:pt x="1205" y="13558"/>
                    </a:lnTo>
                    <a:lnTo>
                      <a:pt x="529" y="12031"/>
                    </a:lnTo>
                    <a:lnTo>
                      <a:pt x="353" y="10500"/>
                    </a:lnTo>
                    <a:lnTo>
                      <a:pt x="353" y="10500"/>
                    </a:lnTo>
                    <a:close/>
                    <a:moveTo>
                      <a:pt x="353" y="1050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65" y="9749"/>
                    </a:moveTo>
                    <a:lnTo>
                      <a:pt x="1239" y="8548"/>
                    </a:lnTo>
                    <a:lnTo>
                      <a:pt x="2477" y="7382"/>
                    </a:lnTo>
                    <a:lnTo>
                      <a:pt x="4155" y="6181"/>
                    </a:lnTo>
                    <a:lnTo>
                      <a:pt x="6477" y="4980"/>
                    </a:lnTo>
                    <a:lnTo>
                      <a:pt x="9419" y="3778"/>
                    </a:lnTo>
                    <a:lnTo>
                      <a:pt x="12800" y="2552"/>
                    </a:lnTo>
                    <a:lnTo>
                      <a:pt x="16981" y="1291"/>
                    </a:lnTo>
                    <a:lnTo>
                      <a:pt x="19123" y="661"/>
                    </a:lnTo>
                    <a:lnTo>
                      <a:pt x="21600" y="0"/>
                    </a:lnTo>
                    <a:lnTo>
                      <a:pt x="21290" y="0"/>
                    </a:lnTo>
                    <a:lnTo>
                      <a:pt x="18813" y="661"/>
                    </a:lnTo>
                    <a:lnTo>
                      <a:pt x="16516" y="1291"/>
                    </a:lnTo>
                    <a:lnTo>
                      <a:pt x="14503" y="1922"/>
                    </a:lnTo>
                    <a:lnTo>
                      <a:pt x="12490" y="2552"/>
                    </a:lnTo>
                    <a:lnTo>
                      <a:pt x="9110" y="3778"/>
                    </a:lnTo>
                    <a:lnTo>
                      <a:pt x="6168" y="4980"/>
                    </a:lnTo>
                    <a:lnTo>
                      <a:pt x="3871" y="6181"/>
                    </a:lnTo>
                    <a:lnTo>
                      <a:pt x="2168" y="7352"/>
                    </a:lnTo>
                    <a:lnTo>
                      <a:pt x="929" y="8518"/>
                    </a:lnTo>
                    <a:lnTo>
                      <a:pt x="155" y="9719"/>
                    </a:lnTo>
                    <a:lnTo>
                      <a:pt x="0" y="11010"/>
                    </a:lnTo>
                    <a:lnTo>
                      <a:pt x="310" y="12361"/>
                    </a:lnTo>
                    <a:lnTo>
                      <a:pt x="1239" y="13708"/>
                    </a:lnTo>
                    <a:lnTo>
                      <a:pt x="2942" y="15149"/>
                    </a:lnTo>
                    <a:lnTo>
                      <a:pt x="3871" y="15870"/>
                    </a:lnTo>
                    <a:lnTo>
                      <a:pt x="5084" y="16620"/>
                    </a:lnTo>
                    <a:lnTo>
                      <a:pt x="6323" y="17401"/>
                    </a:lnTo>
                    <a:lnTo>
                      <a:pt x="7871" y="18212"/>
                    </a:lnTo>
                    <a:lnTo>
                      <a:pt x="9419" y="19018"/>
                    </a:lnTo>
                    <a:lnTo>
                      <a:pt x="11277" y="19858"/>
                    </a:lnTo>
                    <a:lnTo>
                      <a:pt x="13110" y="20699"/>
                    </a:lnTo>
                    <a:lnTo>
                      <a:pt x="15277" y="21600"/>
                    </a:lnTo>
                    <a:lnTo>
                      <a:pt x="15587" y="21600"/>
                    </a:lnTo>
                    <a:lnTo>
                      <a:pt x="13419" y="20699"/>
                    </a:lnTo>
                    <a:lnTo>
                      <a:pt x="11561" y="19858"/>
                    </a:lnTo>
                    <a:lnTo>
                      <a:pt x="9729" y="19018"/>
                    </a:lnTo>
                    <a:lnTo>
                      <a:pt x="8181" y="18212"/>
                    </a:lnTo>
                    <a:lnTo>
                      <a:pt x="6632" y="17401"/>
                    </a:lnTo>
                    <a:lnTo>
                      <a:pt x="5394" y="16650"/>
                    </a:lnTo>
                    <a:lnTo>
                      <a:pt x="4155" y="15870"/>
                    </a:lnTo>
                    <a:lnTo>
                      <a:pt x="3252" y="15149"/>
                    </a:lnTo>
                    <a:lnTo>
                      <a:pt x="1548" y="13708"/>
                    </a:lnTo>
                    <a:lnTo>
                      <a:pt x="619" y="12361"/>
                    </a:lnTo>
                    <a:lnTo>
                      <a:pt x="310" y="11040"/>
                    </a:lnTo>
                    <a:lnTo>
                      <a:pt x="465" y="9749"/>
                    </a:lnTo>
                    <a:lnTo>
                      <a:pt x="465" y="9749"/>
                    </a:lnTo>
                    <a:close/>
                    <a:moveTo>
                      <a:pt x="465" y="974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24"/>
                  </a:moveTo>
                  <a:lnTo>
                    <a:pt x="1502" y="3480"/>
                  </a:lnTo>
                  <a:lnTo>
                    <a:pt x="3433" y="6137"/>
                  </a:lnTo>
                  <a:lnTo>
                    <a:pt x="5758" y="8793"/>
                  </a:lnTo>
                  <a:lnTo>
                    <a:pt x="8118" y="11357"/>
                  </a:lnTo>
                  <a:lnTo>
                    <a:pt x="10907" y="13998"/>
                  </a:lnTo>
                  <a:lnTo>
                    <a:pt x="13911" y="16563"/>
                  </a:lnTo>
                  <a:lnTo>
                    <a:pt x="17309" y="19127"/>
                  </a:lnTo>
                  <a:lnTo>
                    <a:pt x="20956" y="21600"/>
                  </a:lnTo>
                  <a:lnTo>
                    <a:pt x="21600" y="21600"/>
                  </a:lnTo>
                  <a:lnTo>
                    <a:pt x="17738" y="19035"/>
                  </a:lnTo>
                  <a:lnTo>
                    <a:pt x="14340" y="16379"/>
                  </a:lnTo>
                  <a:lnTo>
                    <a:pt x="11122" y="13723"/>
                  </a:lnTo>
                  <a:lnTo>
                    <a:pt x="8332" y="10991"/>
                  </a:lnTo>
                  <a:lnTo>
                    <a:pt x="5758" y="8335"/>
                  </a:lnTo>
                  <a:lnTo>
                    <a:pt x="3648" y="5587"/>
                  </a:lnTo>
                  <a:lnTo>
                    <a:pt x="1717" y="2748"/>
                  </a:lnTo>
                  <a:lnTo>
                    <a:pt x="0" y="0"/>
                  </a:lnTo>
                  <a:lnTo>
                    <a:pt x="0" y="824"/>
                  </a:lnTo>
                  <a:lnTo>
                    <a:pt x="0" y="824"/>
                  </a:lnTo>
                  <a:close/>
                  <a:moveTo>
                    <a:pt x="0" y="824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21"/>
                  </a:moveTo>
                  <a:lnTo>
                    <a:pt x="10277" y="12169"/>
                  </a:lnTo>
                  <a:lnTo>
                    <a:pt x="20458" y="21600"/>
                  </a:lnTo>
                  <a:lnTo>
                    <a:pt x="21600" y="21600"/>
                  </a:lnTo>
                  <a:lnTo>
                    <a:pt x="15891" y="16732"/>
                  </a:lnTo>
                  <a:lnTo>
                    <a:pt x="10848" y="11256"/>
                  </a:lnTo>
                  <a:lnTo>
                    <a:pt x="0" y="0"/>
                  </a:lnTo>
                  <a:lnTo>
                    <a:pt x="0" y="1521"/>
                  </a:lnTo>
                  <a:lnTo>
                    <a:pt x="0" y="1521"/>
                  </a:lnTo>
                  <a:close/>
                  <a:moveTo>
                    <a:pt x="0" y="1521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802"/>
                  </a:lnTo>
                  <a:lnTo>
                    <a:pt x="21336" y="20149"/>
                  </a:lnTo>
                  <a:lnTo>
                    <a:pt x="21072" y="19508"/>
                  </a:lnTo>
                  <a:lnTo>
                    <a:pt x="20279" y="17984"/>
                  </a:lnTo>
                  <a:lnTo>
                    <a:pt x="19486" y="16460"/>
                  </a:lnTo>
                  <a:lnTo>
                    <a:pt x="17527" y="13557"/>
                  </a:lnTo>
                  <a:lnTo>
                    <a:pt x="15017" y="10873"/>
                  </a:lnTo>
                  <a:lnTo>
                    <a:pt x="12374" y="8333"/>
                  </a:lnTo>
                  <a:lnTo>
                    <a:pt x="9490" y="6023"/>
                  </a:lnTo>
                  <a:lnTo>
                    <a:pt x="6451" y="3846"/>
                  </a:lnTo>
                  <a:lnTo>
                    <a:pt x="3303" y="1814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3039" y="1814"/>
                  </a:lnTo>
                  <a:lnTo>
                    <a:pt x="6055" y="3846"/>
                  </a:lnTo>
                  <a:lnTo>
                    <a:pt x="9094" y="6023"/>
                  </a:lnTo>
                  <a:lnTo>
                    <a:pt x="12000" y="8333"/>
                  </a:lnTo>
                  <a:lnTo>
                    <a:pt x="14752" y="10873"/>
                  </a:lnTo>
                  <a:lnTo>
                    <a:pt x="17130" y="13557"/>
                  </a:lnTo>
                  <a:lnTo>
                    <a:pt x="19222" y="16460"/>
                  </a:lnTo>
                  <a:lnTo>
                    <a:pt x="20015" y="17984"/>
                  </a:lnTo>
                  <a:lnTo>
                    <a:pt x="20807" y="19580"/>
                  </a:lnTo>
                  <a:lnTo>
                    <a:pt x="21204" y="20584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987"/>
                  </a:lnTo>
                  <a:lnTo>
                    <a:pt x="17292" y="15465"/>
                  </a:lnTo>
                  <a:lnTo>
                    <a:pt x="12231" y="10123"/>
                  </a:lnTo>
                  <a:lnTo>
                    <a:pt x="6658" y="4908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6296" y="5061"/>
                  </a:lnTo>
                  <a:lnTo>
                    <a:pt x="12050" y="10429"/>
                  </a:lnTo>
                  <a:lnTo>
                    <a:pt x="17111" y="15925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661"/>
                  </a:lnTo>
                  <a:lnTo>
                    <a:pt x="11782" y="10017"/>
                  </a:lnTo>
                  <a:lnTo>
                    <a:pt x="637" y="0"/>
                  </a:lnTo>
                  <a:lnTo>
                    <a:pt x="0" y="0"/>
                  </a:lnTo>
                  <a:lnTo>
                    <a:pt x="5732" y="5322"/>
                  </a:lnTo>
                  <a:lnTo>
                    <a:pt x="11463" y="10643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864"/>
                  </a:moveTo>
                  <a:lnTo>
                    <a:pt x="0" y="21600"/>
                  </a:lnTo>
                  <a:lnTo>
                    <a:pt x="1364" y="18565"/>
                  </a:lnTo>
                  <a:lnTo>
                    <a:pt x="3183" y="15529"/>
                  </a:lnTo>
                  <a:lnTo>
                    <a:pt x="5432" y="12678"/>
                  </a:lnTo>
                  <a:lnTo>
                    <a:pt x="7857" y="9919"/>
                  </a:lnTo>
                  <a:lnTo>
                    <a:pt x="10888" y="7266"/>
                  </a:lnTo>
                  <a:lnTo>
                    <a:pt x="14046" y="4783"/>
                  </a:lnTo>
                  <a:lnTo>
                    <a:pt x="17684" y="2300"/>
                  </a:lnTo>
                  <a:lnTo>
                    <a:pt x="21600" y="0"/>
                  </a:lnTo>
                  <a:lnTo>
                    <a:pt x="21145" y="0"/>
                  </a:lnTo>
                  <a:lnTo>
                    <a:pt x="17381" y="2208"/>
                  </a:lnTo>
                  <a:lnTo>
                    <a:pt x="13895" y="4599"/>
                  </a:lnTo>
                  <a:lnTo>
                    <a:pt x="10737" y="7082"/>
                  </a:lnTo>
                  <a:lnTo>
                    <a:pt x="7857" y="9643"/>
                  </a:lnTo>
                  <a:lnTo>
                    <a:pt x="5432" y="12310"/>
                  </a:lnTo>
                  <a:lnTo>
                    <a:pt x="3335" y="15069"/>
                  </a:lnTo>
                  <a:lnTo>
                    <a:pt x="1516" y="17921"/>
                  </a:lnTo>
                  <a:lnTo>
                    <a:pt x="0" y="20864"/>
                  </a:lnTo>
                  <a:lnTo>
                    <a:pt x="0" y="20864"/>
                  </a:lnTo>
                  <a:close/>
                  <a:moveTo>
                    <a:pt x="0" y="20864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937" y="0"/>
                  </a:lnTo>
                  <a:lnTo>
                    <a:pt x="15002" y="4760"/>
                  </a:lnTo>
                  <a:lnTo>
                    <a:pt x="9473" y="9736"/>
                  </a:lnTo>
                  <a:lnTo>
                    <a:pt x="4423" y="15145"/>
                  </a:lnTo>
                  <a:lnTo>
                    <a:pt x="0" y="20735"/>
                  </a:lnTo>
                  <a:lnTo>
                    <a:pt x="0" y="21600"/>
                  </a:lnTo>
                  <a:lnTo>
                    <a:pt x="4423" y="15578"/>
                  </a:lnTo>
                  <a:lnTo>
                    <a:pt x="9473" y="10169"/>
                  </a:lnTo>
                  <a:lnTo>
                    <a:pt x="15223" y="497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155" y="0"/>
                  </a:lnTo>
                  <a:lnTo>
                    <a:pt x="9636" y="9771"/>
                  </a:lnTo>
                  <a:lnTo>
                    <a:pt x="4818" y="14914"/>
                  </a:lnTo>
                  <a:lnTo>
                    <a:pt x="0" y="20057"/>
                  </a:lnTo>
                  <a:lnTo>
                    <a:pt x="0" y="21600"/>
                  </a:lnTo>
                  <a:lnTo>
                    <a:pt x="10117" y="1028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44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44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4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1440" y="622440"/>
              <a:ext cx="9140760" cy="2495520"/>
              <a:chOff x="1440" y="622440"/>
              <a:chExt cx="9140760" cy="2495520"/>
            </a:xfrm>
          </p:grpSpPr>
          <p:sp>
            <p:nvSpPr>
              <p:cNvPr id="509" name=""/>
              <p:cNvSpPr/>
              <p:nvPr/>
            </p:nvSpPr>
            <p:spPr>
              <a:xfrm>
                <a:off x="1440" y="124488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440" y="311652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440" y="24926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440" y="186876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44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144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4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"/>
          <p:cNvSpPr txBox="1"/>
          <p:nvPr/>
        </p:nvSpPr>
        <p:spPr>
          <a:xfrm>
            <a:off x="7481520" y="6243480"/>
            <a:ext cx="2746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4044-4DF5-46C4-8C3F-798EE31C0E7E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778040" y="965160"/>
            <a:ext cx="6019920" cy="49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119" name="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20"/>
                  </a:moveTo>
                  <a:lnTo>
                    <a:pt x="21600" y="0"/>
                  </a:lnTo>
                  <a:lnTo>
                    <a:pt x="21058" y="1291"/>
                  </a:lnTo>
                  <a:lnTo>
                    <a:pt x="20335" y="2671"/>
                  </a:lnTo>
                  <a:lnTo>
                    <a:pt x="18889" y="4972"/>
                  </a:lnTo>
                  <a:lnTo>
                    <a:pt x="17292" y="7272"/>
                  </a:lnTo>
                  <a:lnTo>
                    <a:pt x="15123" y="9573"/>
                  </a:lnTo>
                  <a:lnTo>
                    <a:pt x="12773" y="11950"/>
                  </a:lnTo>
                  <a:lnTo>
                    <a:pt x="10062" y="14328"/>
                  </a:lnTo>
                  <a:lnTo>
                    <a:pt x="7019" y="16769"/>
                  </a:lnTo>
                  <a:lnTo>
                    <a:pt x="3766" y="19146"/>
                  </a:lnTo>
                  <a:lnTo>
                    <a:pt x="0" y="21600"/>
                  </a:lnTo>
                  <a:lnTo>
                    <a:pt x="331" y="21600"/>
                  </a:lnTo>
                  <a:lnTo>
                    <a:pt x="4127" y="19146"/>
                  </a:lnTo>
                  <a:lnTo>
                    <a:pt x="7381" y="16769"/>
                  </a:lnTo>
                  <a:lnTo>
                    <a:pt x="10423" y="14328"/>
                  </a:lnTo>
                  <a:lnTo>
                    <a:pt x="13135" y="11950"/>
                  </a:lnTo>
                  <a:lnTo>
                    <a:pt x="15485" y="9573"/>
                  </a:lnTo>
                  <a:lnTo>
                    <a:pt x="17623" y="7272"/>
                  </a:lnTo>
                  <a:lnTo>
                    <a:pt x="19250" y="4972"/>
                  </a:lnTo>
                  <a:lnTo>
                    <a:pt x="20696" y="2671"/>
                  </a:lnTo>
                  <a:lnTo>
                    <a:pt x="21238" y="1828"/>
                  </a:lnTo>
                  <a:lnTo>
                    <a:pt x="21600" y="920"/>
                  </a:lnTo>
                  <a:lnTo>
                    <a:pt x="21600" y="920"/>
                  </a:lnTo>
                  <a:close/>
                  <a:moveTo>
                    <a:pt x="21600" y="92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6787" y="5462"/>
                  </a:lnTo>
                  <a:lnTo>
                    <a:pt x="11688" y="10924"/>
                  </a:lnTo>
                  <a:lnTo>
                    <a:pt x="5844" y="16386"/>
                  </a:lnTo>
                  <a:lnTo>
                    <a:pt x="0" y="21600"/>
                  </a:lnTo>
                  <a:lnTo>
                    <a:pt x="688" y="21600"/>
                  </a:lnTo>
                  <a:lnTo>
                    <a:pt x="6532" y="16634"/>
                  </a:lnTo>
                  <a:lnTo>
                    <a:pt x="11688" y="11669"/>
                  </a:lnTo>
                  <a:lnTo>
                    <a:pt x="21600" y="993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629" y="21600"/>
                  </a:lnTo>
                  <a:lnTo>
                    <a:pt x="12343" y="12706"/>
                  </a:lnTo>
                  <a:lnTo>
                    <a:pt x="21600" y="5082"/>
                  </a:lnTo>
                  <a:lnTo>
                    <a:pt x="21600" y="0"/>
                  </a:lnTo>
                  <a:lnTo>
                    <a:pt x="10800" y="11435"/>
                  </a:lnTo>
                  <a:lnTo>
                    <a:pt x="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123" name="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8000" y="21600"/>
                    </a:lnTo>
                    <a:lnTo>
                      <a:pt x="21600" y="21600"/>
                    </a:lnTo>
                    <a:lnTo>
                      <a:pt x="36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979" y="0"/>
                    </a:moveTo>
                    <a:lnTo>
                      <a:pt x="1490" y="0"/>
                    </a:lnTo>
                    <a:lnTo>
                      <a:pt x="5214" y="1081"/>
                    </a:lnTo>
                    <a:lnTo>
                      <a:pt x="8938" y="2222"/>
                    </a:lnTo>
                    <a:lnTo>
                      <a:pt x="11917" y="3448"/>
                    </a:lnTo>
                    <a:lnTo>
                      <a:pt x="14897" y="4739"/>
                    </a:lnTo>
                    <a:lnTo>
                      <a:pt x="16386" y="6061"/>
                    </a:lnTo>
                    <a:lnTo>
                      <a:pt x="18621" y="7442"/>
                    </a:lnTo>
                    <a:lnTo>
                      <a:pt x="19366" y="8848"/>
                    </a:lnTo>
                    <a:lnTo>
                      <a:pt x="20110" y="10320"/>
                    </a:lnTo>
                    <a:lnTo>
                      <a:pt x="19366" y="13232"/>
                    </a:lnTo>
                    <a:lnTo>
                      <a:pt x="15641" y="16140"/>
                    </a:lnTo>
                    <a:lnTo>
                      <a:pt x="13407" y="17551"/>
                    </a:lnTo>
                    <a:lnTo>
                      <a:pt x="9683" y="18958"/>
                    </a:lnTo>
                    <a:lnTo>
                      <a:pt x="5214" y="20309"/>
                    </a:lnTo>
                    <a:lnTo>
                      <a:pt x="0" y="21600"/>
                    </a:lnTo>
                    <a:lnTo>
                      <a:pt x="1490" y="21600"/>
                    </a:lnTo>
                    <a:lnTo>
                      <a:pt x="6703" y="20309"/>
                    </a:lnTo>
                    <a:lnTo>
                      <a:pt x="11172" y="18928"/>
                    </a:lnTo>
                    <a:lnTo>
                      <a:pt x="14897" y="17551"/>
                    </a:lnTo>
                    <a:lnTo>
                      <a:pt x="17131" y="16110"/>
                    </a:lnTo>
                    <a:lnTo>
                      <a:pt x="20855" y="13202"/>
                    </a:lnTo>
                    <a:lnTo>
                      <a:pt x="21600" y="10290"/>
                    </a:lnTo>
                    <a:lnTo>
                      <a:pt x="20855" y="8848"/>
                    </a:lnTo>
                    <a:lnTo>
                      <a:pt x="20110" y="7442"/>
                    </a:lnTo>
                    <a:lnTo>
                      <a:pt x="17876" y="6061"/>
                    </a:lnTo>
                    <a:lnTo>
                      <a:pt x="16386" y="4709"/>
                    </a:lnTo>
                    <a:lnTo>
                      <a:pt x="13407" y="3448"/>
                    </a:lnTo>
                    <a:lnTo>
                      <a:pt x="10428" y="2222"/>
                    </a:lnTo>
                    <a:lnTo>
                      <a:pt x="6703" y="1081"/>
                    </a:lnTo>
                    <a:lnTo>
                      <a:pt x="2979" y="0"/>
                    </a:lnTo>
                    <a:lnTo>
                      <a:pt x="2979" y="0"/>
                    </a:lnTo>
                    <a:close/>
                    <a:moveTo>
                      <a:pt x="2979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213" y="10079"/>
                    </a:moveTo>
                    <a:lnTo>
                      <a:pt x="20439" y="8638"/>
                    </a:lnTo>
                    <a:lnTo>
                      <a:pt x="18892" y="7232"/>
                    </a:lnTo>
                    <a:lnTo>
                      <a:pt x="16958" y="5880"/>
                    </a:lnTo>
                    <a:lnTo>
                      <a:pt x="14701" y="4589"/>
                    </a:lnTo>
                    <a:lnTo>
                      <a:pt x="11993" y="3328"/>
                    </a:lnTo>
                    <a:lnTo>
                      <a:pt x="8511" y="2162"/>
                    </a:lnTo>
                    <a:lnTo>
                      <a:pt x="5029" y="1021"/>
                    </a:lnTo>
                    <a:lnTo>
                      <a:pt x="774" y="0"/>
                    </a:lnTo>
                    <a:lnTo>
                      <a:pt x="0" y="0"/>
                    </a:lnTo>
                    <a:lnTo>
                      <a:pt x="4256" y="1021"/>
                    </a:lnTo>
                    <a:lnTo>
                      <a:pt x="7737" y="2162"/>
                    </a:lnTo>
                    <a:lnTo>
                      <a:pt x="11219" y="3328"/>
                    </a:lnTo>
                    <a:lnTo>
                      <a:pt x="13927" y="4589"/>
                    </a:lnTo>
                    <a:lnTo>
                      <a:pt x="16184" y="5880"/>
                    </a:lnTo>
                    <a:lnTo>
                      <a:pt x="18118" y="7232"/>
                    </a:lnTo>
                    <a:lnTo>
                      <a:pt x="19666" y="8638"/>
                    </a:lnTo>
                    <a:lnTo>
                      <a:pt x="20439" y="10079"/>
                    </a:lnTo>
                    <a:lnTo>
                      <a:pt x="20826" y="11581"/>
                    </a:lnTo>
                    <a:lnTo>
                      <a:pt x="20439" y="13052"/>
                    </a:lnTo>
                    <a:lnTo>
                      <a:pt x="19666" y="14548"/>
                    </a:lnTo>
                    <a:lnTo>
                      <a:pt x="18118" y="16020"/>
                    </a:lnTo>
                    <a:lnTo>
                      <a:pt x="16571" y="17461"/>
                    </a:lnTo>
                    <a:lnTo>
                      <a:pt x="13927" y="18903"/>
                    </a:lnTo>
                    <a:lnTo>
                      <a:pt x="11219" y="20279"/>
                    </a:lnTo>
                    <a:lnTo>
                      <a:pt x="7737" y="21600"/>
                    </a:lnTo>
                    <a:lnTo>
                      <a:pt x="8511" y="21600"/>
                    </a:lnTo>
                    <a:lnTo>
                      <a:pt x="11993" y="20279"/>
                    </a:lnTo>
                    <a:lnTo>
                      <a:pt x="14701" y="18903"/>
                    </a:lnTo>
                    <a:lnTo>
                      <a:pt x="17344" y="17461"/>
                    </a:lnTo>
                    <a:lnTo>
                      <a:pt x="18892" y="16020"/>
                    </a:lnTo>
                    <a:lnTo>
                      <a:pt x="20439" y="14548"/>
                    </a:lnTo>
                    <a:lnTo>
                      <a:pt x="21213" y="13052"/>
                    </a:lnTo>
                    <a:lnTo>
                      <a:pt x="21600" y="11581"/>
                    </a:lnTo>
                    <a:lnTo>
                      <a:pt x="21213" y="10079"/>
                    </a:lnTo>
                    <a:lnTo>
                      <a:pt x="21213" y="10079"/>
                    </a:lnTo>
                    <a:close/>
                    <a:moveTo>
                      <a:pt x="21213" y="1007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990" y="9629"/>
                    </a:moveTo>
                    <a:lnTo>
                      <a:pt x="20075" y="8458"/>
                    </a:lnTo>
                    <a:lnTo>
                      <a:pt x="18551" y="7292"/>
                    </a:lnTo>
                    <a:lnTo>
                      <a:pt x="16721" y="6151"/>
                    </a:lnTo>
                    <a:lnTo>
                      <a:pt x="14281" y="5010"/>
                    </a:lnTo>
                    <a:lnTo>
                      <a:pt x="11537" y="3809"/>
                    </a:lnTo>
                    <a:lnTo>
                      <a:pt x="8233" y="2612"/>
                    </a:lnTo>
                    <a:lnTo>
                      <a:pt x="4574" y="1351"/>
                    </a:lnTo>
                    <a:lnTo>
                      <a:pt x="610" y="0"/>
                    </a:lnTo>
                    <a:lnTo>
                      <a:pt x="0" y="0"/>
                    </a:lnTo>
                    <a:lnTo>
                      <a:pt x="4269" y="1351"/>
                    </a:lnTo>
                    <a:lnTo>
                      <a:pt x="7928" y="2612"/>
                    </a:lnTo>
                    <a:lnTo>
                      <a:pt x="10978" y="3839"/>
                    </a:lnTo>
                    <a:lnTo>
                      <a:pt x="13976" y="5010"/>
                    </a:lnTo>
                    <a:lnTo>
                      <a:pt x="16111" y="6181"/>
                    </a:lnTo>
                    <a:lnTo>
                      <a:pt x="17941" y="7322"/>
                    </a:lnTo>
                    <a:lnTo>
                      <a:pt x="19465" y="8458"/>
                    </a:lnTo>
                    <a:lnTo>
                      <a:pt x="20380" y="9629"/>
                    </a:lnTo>
                    <a:lnTo>
                      <a:pt x="20990" y="10950"/>
                    </a:lnTo>
                    <a:lnTo>
                      <a:pt x="20685" y="12301"/>
                    </a:lnTo>
                    <a:lnTo>
                      <a:pt x="20075" y="13678"/>
                    </a:lnTo>
                    <a:lnTo>
                      <a:pt x="18551" y="15119"/>
                    </a:lnTo>
                    <a:lnTo>
                      <a:pt x="16721" y="16620"/>
                    </a:lnTo>
                    <a:lnTo>
                      <a:pt x="13976" y="18212"/>
                    </a:lnTo>
                    <a:lnTo>
                      <a:pt x="10368" y="19858"/>
                    </a:lnTo>
                    <a:lnTo>
                      <a:pt x="6404" y="21600"/>
                    </a:lnTo>
                    <a:lnTo>
                      <a:pt x="7014" y="21600"/>
                    </a:lnTo>
                    <a:lnTo>
                      <a:pt x="10978" y="19858"/>
                    </a:lnTo>
                    <a:lnTo>
                      <a:pt x="14586" y="18212"/>
                    </a:lnTo>
                    <a:lnTo>
                      <a:pt x="17331" y="16620"/>
                    </a:lnTo>
                    <a:lnTo>
                      <a:pt x="19160" y="15119"/>
                    </a:lnTo>
                    <a:lnTo>
                      <a:pt x="20685" y="13678"/>
                    </a:lnTo>
                    <a:lnTo>
                      <a:pt x="21295" y="12301"/>
                    </a:lnTo>
                    <a:lnTo>
                      <a:pt x="21600" y="10950"/>
                    </a:lnTo>
                    <a:lnTo>
                      <a:pt x="20990" y="9629"/>
                    </a:lnTo>
                    <a:lnTo>
                      <a:pt x="20990" y="9629"/>
                    </a:lnTo>
                    <a:close/>
                    <a:moveTo>
                      <a:pt x="20990" y="962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109"/>
                    </a:moveTo>
                    <a:lnTo>
                      <a:pt x="20901" y="8668"/>
                    </a:lnTo>
                    <a:lnTo>
                      <a:pt x="19541" y="7232"/>
                    </a:lnTo>
                    <a:lnTo>
                      <a:pt x="17676" y="5880"/>
                    </a:lnTo>
                    <a:lnTo>
                      <a:pt x="15345" y="4559"/>
                    </a:lnTo>
                    <a:lnTo>
                      <a:pt x="12315" y="3298"/>
                    </a:lnTo>
                    <a:lnTo>
                      <a:pt x="8858" y="2132"/>
                    </a:lnTo>
                    <a:lnTo>
                      <a:pt x="4895" y="1021"/>
                    </a:lnTo>
                    <a:lnTo>
                      <a:pt x="466" y="0"/>
                    </a:lnTo>
                    <a:lnTo>
                      <a:pt x="0" y="0"/>
                    </a:lnTo>
                    <a:lnTo>
                      <a:pt x="4429" y="1021"/>
                    </a:lnTo>
                    <a:lnTo>
                      <a:pt x="8391" y="2132"/>
                    </a:lnTo>
                    <a:lnTo>
                      <a:pt x="11849" y="3298"/>
                    </a:lnTo>
                    <a:lnTo>
                      <a:pt x="14879" y="4559"/>
                    </a:lnTo>
                    <a:lnTo>
                      <a:pt x="17210" y="5880"/>
                    </a:lnTo>
                    <a:lnTo>
                      <a:pt x="19075" y="7232"/>
                    </a:lnTo>
                    <a:lnTo>
                      <a:pt x="20435" y="8668"/>
                    </a:lnTo>
                    <a:lnTo>
                      <a:pt x="21134" y="10109"/>
                    </a:lnTo>
                    <a:lnTo>
                      <a:pt x="21134" y="11641"/>
                    </a:lnTo>
                    <a:lnTo>
                      <a:pt x="20668" y="13172"/>
                    </a:lnTo>
                    <a:lnTo>
                      <a:pt x="19541" y="14669"/>
                    </a:lnTo>
                    <a:lnTo>
                      <a:pt x="17676" y="16140"/>
                    </a:lnTo>
                    <a:lnTo>
                      <a:pt x="15112" y="17581"/>
                    </a:lnTo>
                    <a:lnTo>
                      <a:pt x="12082" y="18958"/>
                    </a:lnTo>
                    <a:lnTo>
                      <a:pt x="8391" y="20309"/>
                    </a:lnTo>
                    <a:lnTo>
                      <a:pt x="3963" y="21600"/>
                    </a:lnTo>
                    <a:lnTo>
                      <a:pt x="4429" y="21600"/>
                    </a:lnTo>
                    <a:lnTo>
                      <a:pt x="8858" y="20309"/>
                    </a:lnTo>
                    <a:lnTo>
                      <a:pt x="12548" y="18958"/>
                    </a:lnTo>
                    <a:lnTo>
                      <a:pt x="15578" y="17581"/>
                    </a:lnTo>
                    <a:lnTo>
                      <a:pt x="18142" y="16140"/>
                    </a:lnTo>
                    <a:lnTo>
                      <a:pt x="20007" y="14669"/>
                    </a:lnTo>
                    <a:lnTo>
                      <a:pt x="21134" y="13172"/>
                    </a:lnTo>
                    <a:lnTo>
                      <a:pt x="21600" y="11641"/>
                    </a:lnTo>
                    <a:lnTo>
                      <a:pt x="21600" y="10109"/>
                    </a:lnTo>
                    <a:lnTo>
                      <a:pt x="21600" y="10109"/>
                    </a:lnTo>
                    <a:close/>
                    <a:moveTo>
                      <a:pt x="21600" y="1010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440"/>
                    </a:moveTo>
                    <a:lnTo>
                      <a:pt x="21035" y="9058"/>
                    </a:lnTo>
                    <a:lnTo>
                      <a:pt x="19905" y="7712"/>
                    </a:lnTo>
                    <a:lnTo>
                      <a:pt x="18021" y="6361"/>
                    </a:lnTo>
                    <a:lnTo>
                      <a:pt x="15603" y="5040"/>
                    </a:lnTo>
                    <a:lnTo>
                      <a:pt x="12590" y="3748"/>
                    </a:lnTo>
                    <a:lnTo>
                      <a:pt x="9199" y="2462"/>
                    </a:lnTo>
                    <a:lnTo>
                      <a:pt x="5086" y="1201"/>
                    </a:lnTo>
                    <a:lnTo>
                      <a:pt x="377" y="0"/>
                    </a:lnTo>
                    <a:lnTo>
                      <a:pt x="0" y="0"/>
                    </a:lnTo>
                    <a:lnTo>
                      <a:pt x="4709" y="1201"/>
                    </a:lnTo>
                    <a:lnTo>
                      <a:pt x="8822" y="2462"/>
                    </a:lnTo>
                    <a:lnTo>
                      <a:pt x="12213" y="3748"/>
                    </a:lnTo>
                    <a:lnTo>
                      <a:pt x="15227" y="5040"/>
                    </a:lnTo>
                    <a:lnTo>
                      <a:pt x="17644" y="6361"/>
                    </a:lnTo>
                    <a:lnTo>
                      <a:pt x="19528" y="7712"/>
                    </a:lnTo>
                    <a:lnTo>
                      <a:pt x="20658" y="9058"/>
                    </a:lnTo>
                    <a:lnTo>
                      <a:pt x="21223" y="10440"/>
                    </a:lnTo>
                    <a:lnTo>
                      <a:pt x="21223" y="11851"/>
                    </a:lnTo>
                    <a:lnTo>
                      <a:pt x="20658" y="13262"/>
                    </a:lnTo>
                    <a:lnTo>
                      <a:pt x="19340" y="14669"/>
                    </a:lnTo>
                    <a:lnTo>
                      <a:pt x="17456" y="16080"/>
                    </a:lnTo>
                    <a:lnTo>
                      <a:pt x="14850" y="17491"/>
                    </a:lnTo>
                    <a:lnTo>
                      <a:pt x="11648" y="18903"/>
                    </a:lnTo>
                    <a:lnTo>
                      <a:pt x="7880" y="20249"/>
                    </a:lnTo>
                    <a:lnTo>
                      <a:pt x="3579" y="21600"/>
                    </a:lnTo>
                    <a:lnTo>
                      <a:pt x="3956" y="21600"/>
                    </a:lnTo>
                    <a:lnTo>
                      <a:pt x="8257" y="20249"/>
                    </a:lnTo>
                    <a:lnTo>
                      <a:pt x="12024" y="18903"/>
                    </a:lnTo>
                    <a:lnTo>
                      <a:pt x="15227" y="17491"/>
                    </a:lnTo>
                    <a:lnTo>
                      <a:pt x="17833" y="16110"/>
                    </a:lnTo>
                    <a:lnTo>
                      <a:pt x="19716" y="14699"/>
                    </a:lnTo>
                    <a:lnTo>
                      <a:pt x="21035" y="13292"/>
                    </a:lnTo>
                    <a:lnTo>
                      <a:pt x="21600" y="11851"/>
                    </a:lnTo>
                    <a:lnTo>
                      <a:pt x="21600" y="10440"/>
                    </a:lnTo>
                    <a:lnTo>
                      <a:pt x="21600" y="10440"/>
                    </a:lnTo>
                    <a:close/>
                    <a:moveTo>
                      <a:pt x="21600" y="104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449" y="10650"/>
                    </a:moveTo>
                    <a:lnTo>
                      <a:pt x="20847" y="9178"/>
                    </a:lnTo>
                    <a:lnTo>
                      <a:pt x="20270" y="8428"/>
                    </a:lnTo>
                    <a:lnTo>
                      <a:pt x="19668" y="7712"/>
                    </a:lnTo>
                    <a:lnTo>
                      <a:pt x="18765" y="6991"/>
                    </a:lnTo>
                    <a:lnTo>
                      <a:pt x="17862" y="6271"/>
                    </a:lnTo>
                    <a:lnTo>
                      <a:pt x="16658" y="5580"/>
                    </a:lnTo>
                    <a:lnTo>
                      <a:pt x="15303" y="4890"/>
                    </a:lnTo>
                    <a:lnTo>
                      <a:pt x="12318" y="3598"/>
                    </a:lnTo>
                    <a:lnTo>
                      <a:pt x="8856" y="2342"/>
                    </a:lnTo>
                    <a:lnTo>
                      <a:pt x="4817" y="1141"/>
                    </a:lnTo>
                    <a:lnTo>
                      <a:pt x="301" y="0"/>
                    </a:lnTo>
                    <a:lnTo>
                      <a:pt x="0" y="0"/>
                    </a:lnTo>
                    <a:lnTo>
                      <a:pt x="4516" y="1141"/>
                    </a:lnTo>
                    <a:lnTo>
                      <a:pt x="8555" y="2342"/>
                    </a:lnTo>
                    <a:lnTo>
                      <a:pt x="12017" y="3598"/>
                    </a:lnTo>
                    <a:lnTo>
                      <a:pt x="15002" y="4920"/>
                    </a:lnTo>
                    <a:lnTo>
                      <a:pt x="16357" y="5610"/>
                    </a:lnTo>
                    <a:lnTo>
                      <a:pt x="17561" y="6301"/>
                    </a:lnTo>
                    <a:lnTo>
                      <a:pt x="18464" y="7022"/>
                    </a:lnTo>
                    <a:lnTo>
                      <a:pt x="19367" y="7742"/>
                    </a:lnTo>
                    <a:lnTo>
                      <a:pt x="20120" y="8458"/>
                    </a:lnTo>
                    <a:lnTo>
                      <a:pt x="20546" y="9178"/>
                    </a:lnTo>
                    <a:lnTo>
                      <a:pt x="20998" y="9929"/>
                    </a:lnTo>
                    <a:lnTo>
                      <a:pt x="21148" y="10650"/>
                    </a:lnTo>
                    <a:lnTo>
                      <a:pt x="21299" y="11401"/>
                    </a:lnTo>
                    <a:lnTo>
                      <a:pt x="21148" y="12151"/>
                    </a:lnTo>
                    <a:lnTo>
                      <a:pt x="20847" y="12872"/>
                    </a:lnTo>
                    <a:lnTo>
                      <a:pt x="20546" y="13618"/>
                    </a:lnTo>
                    <a:lnTo>
                      <a:pt x="19969" y="14338"/>
                    </a:lnTo>
                    <a:lnTo>
                      <a:pt x="19217" y="15089"/>
                    </a:lnTo>
                    <a:lnTo>
                      <a:pt x="18163" y="15810"/>
                    </a:lnTo>
                    <a:lnTo>
                      <a:pt x="17109" y="16530"/>
                    </a:lnTo>
                    <a:lnTo>
                      <a:pt x="14701" y="17852"/>
                    </a:lnTo>
                    <a:lnTo>
                      <a:pt x="11866" y="19138"/>
                    </a:lnTo>
                    <a:lnTo>
                      <a:pt x="8404" y="20399"/>
                    </a:lnTo>
                    <a:lnTo>
                      <a:pt x="4516" y="21600"/>
                    </a:lnTo>
                    <a:lnTo>
                      <a:pt x="4817" y="21600"/>
                    </a:lnTo>
                    <a:lnTo>
                      <a:pt x="8705" y="20399"/>
                    </a:lnTo>
                    <a:lnTo>
                      <a:pt x="12167" y="19138"/>
                    </a:lnTo>
                    <a:lnTo>
                      <a:pt x="15002" y="17882"/>
                    </a:lnTo>
                    <a:lnTo>
                      <a:pt x="17410" y="16560"/>
                    </a:lnTo>
                    <a:lnTo>
                      <a:pt x="18464" y="15840"/>
                    </a:lnTo>
                    <a:lnTo>
                      <a:pt x="19518" y="15119"/>
                    </a:lnTo>
                    <a:lnTo>
                      <a:pt x="20270" y="14368"/>
                    </a:lnTo>
                    <a:lnTo>
                      <a:pt x="20847" y="13648"/>
                    </a:lnTo>
                    <a:lnTo>
                      <a:pt x="21148" y="12902"/>
                    </a:lnTo>
                    <a:lnTo>
                      <a:pt x="21449" y="12151"/>
                    </a:lnTo>
                    <a:lnTo>
                      <a:pt x="21600" y="11401"/>
                    </a:lnTo>
                    <a:lnTo>
                      <a:pt x="21449" y="10650"/>
                    </a:lnTo>
                    <a:lnTo>
                      <a:pt x="21449" y="10650"/>
                    </a:lnTo>
                    <a:close/>
                    <a:moveTo>
                      <a:pt x="21449" y="1065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609" y="9719"/>
                    </a:moveTo>
                    <a:lnTo>
                      <a:pt x="4349" y="8158"/>
                    </a:lnTo>
                    <a:lnTo>
                      <a:pt x="6089" y="6661"/>
                    </a:lnTo>
                    <a:lnTo>
                      <a:pt x="8553" y="5280"/>
                    </a:lnTo>
                    <a:lnTo>
                      <a:pt x="11162" y="3959"/>
                    </a:lnTo>
                    <a:lnTo>
                      <a:pt x="12032" y="3358"/>
                    </a:lnTo>
                    <a:lnTo>
                      <a:pt x="13772" y="2788"/>
                    </a:lnTo>
                    <a:lnTo>
                      <a:pt x="15511" y="2222"/>
                    </a:lnTo>
                    <a:lnTo>
                      <a:pt x="16381" y="1712"/>
                    </a:lnTo>
                    <a:lnTo>
                      <a:pt x="18121" y="1231"/>
                    </a:lnTo>
                    <a:lnTo>
                      <a:pt x="18991" y="781"/>
                    </a:lnTo>
                    <a:lnTo>
                      <a:pt x="20730" y="360"/>
                    </a:lnTo>
                    <a:lnTo>
                      <a:pt x="21600" y="0"/>
                    </a:lnTo>
                    <a:lnTo>
                      <a:pt x="19860" y="0"/>
                    </a:lnTo>
                    <a:lnTo>
                      <a:pt x="18991" y="360"/>
                    </a:lnTo>
                    <a:lnTo>
                      <a:pt x="17251" y="781"/>
                    </a:lnTo>
                    <a:lnTo>
                      <a:pt x="16381" y="1231"/>
                    </a:lnTo>
                    <a:lnTo>
                      <a:pt x="14642" y="1712"/>
                    </a:lnTo>
                    <a:lnTo>
                      <a:pt x="13772" y="2222"/>
                    </a:lnTo>
                    <a:lnTo>
                      <a:pt x="12032" y="2788"/>
                    </a:lnTo>
                    <a:lnTo>
                      <a:pt x="10293" y="3358"/>
                    </a:lnTo>
                    <a:lnTo>
                      <a:pt x="9423" y="3959"/>
                    </a:lnTo>
                    <a:lnTo>
                      <a:pt x="6958" y="5280"/>
                    </a:lnTo>
                    <a:lnTo>
                      <a:pt x="4349" y="6661"/>
                    </a:lnTo>
                    <a:lnTo>
                      <a:pt x="2609" y="8158"/>
                    </a:lnTo>
                    <a:lnTo>
                      <a:pt x="870" y="9719"/>
                    </a:lnTo>
                    <a:lnTo>
                      <a:pt x="0" y="11401"/>
                    </a:lnTo>
                    <a:lnTo>
                      <a:pt x="870" y="13022"/>
                    </a:lnTo>
                    <a:lnTo>
                      <a:pt x="1740" y="14609"/>
                    </a:lnTo>
                    <a:lnTo>
                      <a:pt x="3479" y="16110"/>
                    </a:lnTo>
                    <a:lnTo>
                      <a:pt x="5219" y="17581"/>
                    </a:lnTo>
                    <a:lnTo>
                      <a:pt x="8553" y="18988"/>
                    </a:lnTo>
                    <a:lnTo>
                      <a:pt x="12902" y="20309"/>
                    </a:lnTo>
                    <a:lnTo>
                      <a:pt x="18121" y="21600"/>
                    </a:lnTo>
                    <a:lnTo>
                      <a:pt x="19860" y="21600"/>
                    </a:lnTo>
                    <a:lnTo>
                      <a:pt x="14642" y="20309"/>
                    </a:lnTo>
                    <a:lnTo>
                      <a:pt x="10293" y="18988"/>
                    </a:lnTo>
                    <a:lnTo>
                      <a:pt x="6958" y="17581"/>
                    </a:lnTo>
                    <a:lnTo>
                      <a:pt x="5219" y="16140"/>
                    </a:lnTo>
                    <a:lnTo>
                      <a:pt x="3479" y="14609"/>
                    </a:lnTo>
                    <a:lnTo>
                      <a:pt x="2609" y="13052"/>
                    </a:lnTo>
                    <a:lnTo>
                      <a:pt x="1740" y="11401"/>
                    </a:lnTo>
                    <a:lnTo>
                      <a:pt x="2609" y="9719"/>
                    </a:lnTo>
                    <a:lnTo>
                      <a:pt x="2609" y="9719"/>
                    </a:lnTo>
                    <a:close/>
                    <a:moveTo>
                      <a:pt x="2609" y="971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00" y="10320"/>
                    </a:moveTo>
                    <a:lnTo>
                      <a:pt x="2167" y="8758"/>
                    </a:lnTo>
                    <a:lnTo>
                      <a:pt x="3901" y="7262"/>
                    </a:lnTo>
                    <a:lnTo>
                      <a:pt x="6068" y="5850"/>
                    </a:lnTo>
                    <a:lnTo>
                      <a:pt x="9102" y="4499"/>
                    </a:lnTo>
                    <a:lnTo>
                      <a:pt x="11703" y="3208"/>
                    </a:lnTo>
                    <a:lnTo>
                      <a:pt x="15098" y="2042"/>
                    </a:lnTo>
                    <a:lnTo>
                      <a:pt x="18132" y="961"/>
                    </a:lnTo>
                    <a:lnTo>
                      <a:pt x="21600" y="0"/>
                    </a:lnTo>
                    <a:lnTo>
                      <a:pt x="20733" y="0"/>
                    </a:lnTo>
                    <a:lnTo>
                      <a:pt x="17266" y="961"/>
                    </a:lnTo>
                    <a:lnTo>
                      <a:pt x="14304" y="2042"/>
                    </a:lnTo>
                    <a:lnTo>
                      <a:pt x="11270" y="3208"/>
                    </a:lnTo>
                    <a:lnTo>
                      <a:pt x="8235" y="4499"/>
                    </a:lnTo>
                    <a:lnTo>
                      <a:pt x="5635" y="5850"/>
                    </a:lnTo>
                    <a:lnTo>
                      <a:pt x="3468" y="7262"/>
                    </a:lnTo>
                    <a:lnTo>
                      <a:pt x="1734" y="8758"/>
                    </a:lnTo>
                    <a:lnTo>
                      <a:pt x="433" y="10320"/>
                    </a:lnTo>
                    <a:lnTo>
                      <a:pt x="0" y="11881"/>
                    </a:lnTo>
                    <a:lnTo>
                      <a:pt x="867" y="13382"/>
                    </a:lnTo>
                    <a:lnTo>
                      <a:pt x="2167" y="14879"/>
                    </a:lnTo>
                    <a:lnTo>
                      <a:pt x="3901" y="16290"/>
                    </a:lnTo>
                    <a:lnTo>
                      <a:pt x="6935" y="17701"/>
                    </a:lnTo>
                    <a:lnTo>
                      <a:pt x="10403" y="19048"/>
                    </a:lnTo>
                    <a:lnTo>
                      <a:pt x="14665" y="20339"/>
                    </a:lnTo>
                    <a:lnTo>
                      <a:pt x="19866" y="21600"/>
                    </a:lnTo>
                    <a:lnTo>
                      <a:pt x="20733" y="21600"/>
                    </a:lnTo>
                    <a:lnTo>
                      <a:pt x="15532" y="20339"/>
                    </a:lnTo>
                    <a:lnTo>
                      <a:pt x="11270" y="19048"/>
                    </a:lnTo>
                    <a:lnTo>
                      <a:pt x="7802" y="17701"/>
                    </a:lnTo>
                    <a:lnTo>
                      <a:pt x="4768" y="16320"/>
                    </a:lnTo>
                    <a:lnTo>
                      <a:pt x="3034" y="14879"/>
                    </a:lnTo>
                    <a:lnTo>
                      <a:pt x="1734" y="13412"/>
                    </a:lnTo>
                    <a:lnTo>
                      <a:pt x="867" y="11881"/>
                    </a:lnTo>
                    <a:lnTo>
                      <a:pt x="1300" y="10320"/>
                    </a:lnTo>
                    <a:lnTo>
                      <a:pt x="1300" y="10320"/>
                    </a:lnTo>
                    <a:close/>
                    <a:moveTo>
                      <a:pt x="1300" y="1032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20989" y="0"/>
                    </a:lnTo>
                    <a:lnTo>
                      <a:pt x="16098" y="1111"/>
                    </a:lnTo>
                    <a:lnTo>
                      <a:pt x="12175" y="2312"/>
                    </a:lnTo>
                    <a:lnTo>
                      <a:pt x="8508" y="3538"/>
                    </a:lnTo>
                    <a:lnTo>
                      <a:pt x="5451" y="4859"/>
                    </a:lnTo>
                    <a:lnTo>
                      <a:pt x="3311" y="6241"/>
                    </a:lnTo>
                    <a:lnTo>
                      <a:pt x="1477" y="7652"/>
                    </a:lnTo>
                    <a:lnTo>
                      <a:pt x="306" y="9118"/>
                    </a:lnTo>
                    <a:lnTo>
                      <a:pt x="0" y="10620"/>
                    </a:lnTo>
                    <a:lnTo>
                      <a:pt x="306" y="12031"/>
                    </a:lnTo>
                    <a:lnTo>
                      <a:pt x="1223" y="13442"/>
                    </a:lnTo>
                    <a:lnTo>
                      <a:pt x="2394" y="14819"/>
                    </a:lnTo>
                    <a:lnTo>
                      <a:pt x="4534" y="16230"/>
                    </a:lnTo>
                    <a:lnTo>
                      <a:pt x="6979" y="17611"/>
                    </a:lnTo>
                    <a:lnTo>
                      <a:pt x="10036" y="18958"/>
                    </a:lnTo>
                    <a:lnTo>
                      <a:pt x="13704" y="20309"/>
                    </a:lnTo>
                    <a:lnTo>
                      <a:pt x="17626" y="21600"/>
                    </a:lnTo>
                    <a:lnTo>
                      <a:pt x="18238" y="21600"/>
                    </a:lnTo>
                    <a:lnTo>
                      <a:pt x="14315" y="20309"/>
                    </a:lnTo>
                    <a:lnTo>
                      <a:pt x="10647" y="18958"/>
                    </a:lnTo>
                    <a:lnTo>
                      <a:pt x="7591" y="17611"/>
                    </a:lnTo>
                    <a:lnTo>
                      <a:pt x="5145" y="16230"/>
                    </a:lnTo>
                    <a:lnTo>
                      <a:pt x="3006" y="14819"/>
                    </a:lnTo>
                    <a:lnTo>
                      <a:pt x="1783" y="13442"/>
                    </a:lnTo>
                    <a:lnTo>
                      <a:pt x="917" y="12031"/>
                    </a:lnTo>
                    <a:lnTo>
                      <a:pt x="611" y="10620"/>
                    </a:lnTo>
                    <a:lnTo>
                      <a:pt x="917" y="9118"/>
                    </a:lnTo>
                    <a:lnTo>
                      <a:pt x="2089" y="7652"/>
                    </a:lnTo>
                    <a:lnTo>
                      <a:pt x="3617" y="6241"/>
                    </a:lnTo>
                    <a:lnTo>
                      <a:pt x="6062" y="4859"/>
                    </a:lnTo>
                    <a:lnTo>
                      <a:pt x="9119" y="3538"/>
                    </a:lnTo>
                    <a:lnTo>
                      <a:pt x="12481" y="2312"/>
                    </a:lnTo>
                    <a:lnTo>
                      <a:pt x="16709" y="1111"/>
                    </a:lnTo>
                    <a:lnTo>
                      <a:pt x="21600" y="0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2" y="10740"/>
                    </a:moveTo>
                    <a:lnTo>
                      <a:pt x="903" y="9239"/>
                    </a:lnTo>
                    <a:lnTo>
                      <a:pt x="2032" y="7802"/>
                    </a:lnTo>
                    <a:lnTo>
                      <a:pt x="3613" y="6391"/>
                    </a:lnTo>
                    <a:lnTo>
                      <a:pt x="6096" y="5010"/>
                    </a:lnTo>
                    <a:lnTo>
                      <a:pt x="8994" y="3658"/>
                    </a:lnTo>
                    <a:lnTo>
                      <a:pt x="12606" y="2402"/>
                    </a:lnTo>
                    <a:lnTo>
                      <a:pt x="16896" y="1171"/>
                    </a:lnTo>
                    <a:lnTo>
                      <a:pt x="21600" y="0"/>
                    </a:lnTo>
                    <a:lnTo>
                      <a:pt x="21148" y="0"/>
                    </a:lnTo>
                    <a:lnTo>
                      <a:pt x="16445" y="1171"/>
                    </a:lnTo>
                    <a:lnTo>
                      <a:pt x="12155" y="2402"/>
                    </a:lnTo>
                    <a:lnTo>
                      <a:pt x="8542" y="3688"/>
                    </a:lnTo>
                    <a:lnTo>
                      <a:pt x="5645" y="5010"/>
                    </a:lnTo>
                    <a:lnTo>
                      <a:pt x="3161" y="6391"/>
                    </a:lnTo>
                    <a:lnTo>
                      <a:pt x="1580" y="7802"/>
                    </a:lnTo>
                    <a:lnTo>
                      <a:pt x="452" y="9269"/>
                    </a:lnTo>
                    <a:lnTo>
                      <a:pt x="0" y="10740"/>
                    </a:lnTo>
                    <a:lnTo>
                      <a:pt x="226" y="12181"/>
                    </a:lnTo>
                    <a:lnTo>
                      <a:pt x="1129" y="13588"/>
                    </a:lnTo>
                    <a:lnTo>
                      <a:pt x="2484" y="14999"/>
                    </a:lnTo>
                    <a:lnTo>
                      <a:pt x="4516" y="16380"/>
                    </a:lnTo>
                    <a:lnTo>
                      <a:pt x="7187" y="17761"/>
                    </a:lnTo>
                    <a:lnTo>
                      <a:pt x="10348" y="19078"/>
                    </a:lnTo>
                    <a:lnTo>
                      <a:pt x="13961" y="20369"/>
                    </a:lnTo>
                    <a:lnTo>
                      <a:pt x="18213" y="21600"/>
                    </a:lnTo>
                    <a:lnTo>
                      <a:pt x="18665" y="21600"/>
                    </a:lnTo>
                    <a:lnTo>
                      <a:pt x="14413" y="20369"/>
                    </a:lnTo>
                    <a:lnTo>
                      <a:pt x="10800" y="19078"/>
                    </a:lnTo>
                    <a:lnTo>
                      <a:pt x="7639" y="17761"/>
                    </a:lnTo>
                    <a:lnTo>
                      <a:pt x="4967" y="16380"/>
                    </a:lnTo>
                    <a:lnTo>
                      <a:pt x="2935" y="14999"/>
                    </a:lnTo>
                    <a:lnTo>
                      <a:pt x="1580" y="13588"/>
                    </a:lnTo>
                    <a:lnTo>
                      <a:pt x="677" y="12181"/>
                    </a:lnTo>
                    <a:lnTo>
                      <a:pt x="452" y="10740"/>
                    </a:lnTo>
                    <a:lnTo>
                      <a:pt x="452" y="10740"/>
                    </a:lnTo>
                    <a:close/>
                    <a:moveTo>
                      <a:pt x="452" y="107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53" y="10500"/>
                    </a:moveTo>
                    <a:lnTo>
                      <a:pt x="852" y="8998"/>
                    </a:lnTo>
                    <a:lnTo>
                      <a:pt x="2087" y="7532"/>
                    </a:lnTo>
                    <a:lnTo>
                      <a:pt x="3850" y="6121"/>
                    </a:lnTo>
                    <a:lnTo>
                      <a:pt x="6318" y="4709"/>
                    </a:lnTo>
                    <a:lnTo>
                      <a:pt x="9287" y="3448"/>
                    </a:lnTo>
                    <a:lnTo>
                      <a:pt x="12989" y="2222"/>
                    </a:lnTo>
                    <a:lnTo>
                      <a:pt x="17045" y="1081"/>
                    </a:lnTo>
                    <a:lnTo>
                      <a:pt x="21600" y="0"/>
                    </a:lnTo>
                    <a:lnTo>
                      <a:pt x="21247" y="0"/>
                    </a:lnTo>
                    <a:lnTo>
                      <a:pt x="16692" y="1051"/>
                    </a:lnTo>
                    <a:lnTo>
                      <a:pt x="12637" y="2192"/>
                    </a:lnTo>
                    <a:lnTo>
                      <a:pt x="9140" y="3418"/>
                    </a:lnTo>
                    <a:lnTo>
                      <a:pt x="6142" y="4709"/>
                    </a:lnTo>
                    <a:lnTo>
                      <a:pt x="3673" y="6091"/>
                    </a:lnTo>
                    <a:lnTo>
                      <a:pt x="1734" y="7532"/>
                    </a:lnTo>
                    <a:lnTo>
                      <a:pt x="529" y="8998"/>
                    </a:lnTo>
                    <a:lnTo>
                      <a:pt x="0" y="10500"/>
                    </a:lnTo>
                    <a:lnTo>
                      <a:pt x="176" y="12031"/>
                    </a:lnTo>
                    <a:lnTo>
                      <a:pt x="852" y="13558"/>
                    </a:lnTo>
                    <a:lnTo>
                      <a:pt x="2263" y="15089"/>
                    </a:lnTo>
                    <a:lnTo>
                      <a:pt x="4379" y="16590"/>
                    </a:lnTo>
                    <a:lnTo>
                      <a:pt x="6671" y="17882"/>
                    </a:lnTo>
                    <a:lnTo>
                      <a:pt x="9287" y="19138"/>
                    </a:lnTo>
                    <a:lnTo>
                      <a:pt x="12460" y="20399"/>
                    </a:lnTo>
                    <a:lnTo>
                      <a:pt x="15987" y="21600"/>
                    </a:lnTo>
                    <a:lnTo>
                      <a:pt x="16340" y="21600"/>
                    </a:lnTo>
                    <a:lnTo>
                      <a:pt x="12813" y="20399"/>
                    </a:lnTo>
                    <a:lnTo>
                      <a:pt x="9639" y="19138"/>
                    </a:lnTo>
                    <a:lnTo>
                      <a:pt x="7024" y="17882"/>
                    </a:lnTo>
                    <a:lnTo>
                      <a:pt x="4731" y="16590"/>
                    </a:lnTo>
                    <a:lnTo>
                      <a:pt x="2616" y="15089"/>
                    </a:lnTo>
                    <a:lnTo>
                      <a:pt x="1205" y="13558"/>
                    </a:lnTo>
                    <a:lnTo>
                      <a:pt x="529" y="12031"/>
                    </a:lnTo>
                    <a:lnTo>
                      <a:pt x="353" y="10500"/>
                    </a:lnTo>
                    <a:lnTo>
                      <a:pt x="353" y="10500"/>
                    </a:lnTo>
                    <a:close/>
                    <a:moveTo>
                      <a:pt x="353" y="1050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65" y="9749"/>
                    </a:moveTo>
                    <a:lnTo>
                      <a:pt x="1239" y="8548"/>
                    </a:lnTo>
                    <a:lnTo>
                      <a:pt x="2477" y="7382"/>
                    </a:lnTo>
                    <a:lnTo>
                      <a:pt x="4155" y="6181"/>
                    </a:lnTo>
                    <a:lnTo>
                      <a:pt x="6477" y="4980"/>
                    </a:lnTo>
                    <a:lnTo>
                      <a:pt x="9419" y="3778"/>
                    </a:lnTo>
                    <a:lnTo>
                      <a:pt x="12800" y="2552"/>
                    </a:lnTo>
                    <a:lnTo>
                      <a:pt x="16981" y="1291"/>
                    </a:lnTo>
                    <a:lnTo>
                      <a:pt x="19123" y="661"/>
                    </a:lnTo>
                    <a:lnTo>
                      <a:pt x="21600" y="0"/>
                    </a:lnTo>
                    <a:lnTo>
                      <a:pt x="21290" y="0"/>
                    </a:lnTo>
                    <a:lnTo>
                      <a:pt x="18813" y="661"/>
                    </a:lnTo>
                    <a:lnTo>
                      <a:pt x="16516" y="1291"/>
                    </a:lnTo>
                    <a:lnTo>
                      <a:pt x="14503" y="1922"/>
                    </a:lnTo>
                    <a:lnTo>
                      <a:pt x="12490" y="2552"/>
                    </a:lnTo>
                    <a:lnTo>
                      <a:pt x="9110" y="3778"/>
                    </a:lnTo>
                    <a:lnTo>
                      <a:pt x="6168" y="4980"/>
                    </a:lnTo>
                    <a:lnTo>
                      <a:pt x="3871" y="6181"/>
                    </a:lnTo>
                    <a:lnTo>
                      <a:pt x="2168" y="7352"/>
                    </a:lnTo>
                    <a:lnTo>
                      <a:pt x="929" y="8518"/>
                    </a:lnTo>
                    <a:lnTo>
                      <a:pt x="155" y="9719"/>
                    </a:lnTo>
                    <a:lnTo>
                      <a:pt x="0" y="11010"/>
                    </a:lnTo>
                    <a:lnTo>
                      <a:pt x="310" y="12361"/>
                    </a:lnTo>
                    <a:lnTo>
                      <a:pt x="1239" y="13708"/>
                    </a:lnTo>
                    <a:lnTo>
                      <a:pt x="2942" y="15149"/>
                    </a:lnTo>
                    <a:lnTo>
                      <a:pt x="3871" y="15870"/>
                    </a:lnTo>
                    <a:lnTo>
                      <a:pt x="5084" y="16620"/>
                    </a:lnTo>
                    <a:lnTo>
                      <a:pt x="6323" y="17401"/>
                    </a:lnTo>
                    <a:lnTo>
                      <a:pt x="7871" y="18212"/>
                    </a:lnTo>
                    <a:lnTo>
                      <a:pt x="9419" y="19018"/>
                    </a:lnTo>
                    <a:lnTo>
                      <a:pt x="11277" y="19858"/>
                    </a:lnTo>
                    <a:lnTo>
                      <a:pt x="13110" y="20699"/>
                    </a:lnTo>
                    <a:lnTo>
                      <a:pt x="15277" y="21600"/>
                    </a:lnTo>
                    <a:lnTo>
                      <a:pt x="15587" y="21600"/>
                    </a:lnTo>
                    <a:lnTo>
                      <a:pt x="13419" y="20699"/>
                    </a:lnTo>
                    <a:lnTo>
                      <a:pt x="11561" y="19858"/>
                    </a:lnTo>
                    <a:lnTo>
                      <a:pt x="9729" y="19018"/>
                    </a:lnTo>
                    <a:lnTo>
                      <a:pt x="8181" y="18212"/>
                    </a:lnTo>
                    <a:lnTo>
                      <a:pt x="6632" y="17401"/>
                    </a:lnTo>
                    <a:lnTo>
                      <a:pt x="5394" y="16650"/>
                    </a:lnTo>
                    <a:lnTo>
                      <a:pt x="4155" y="15870"/>
                    </a:lnTo>
                    <a:lnTo>
                      <a:pt x="3252" y="15149"/>
                    </a:lnTo>
                    <a:lnTo>
                      <a:pt x="1548" y="13708"/>
                    </a:lnTo>
                    <a:lnTo>
                      <a:pt x="619" y="12361"/>
                    </a:lnTo>
                    <a:lnTo>
                      <a:pt x="310" y="11040"/>
                    </a:lnTo>
                    <a:lnTo>
                      <a:pt x="465" y="9749"/>
                    </a:lnTo>
                    <a:lnTo>
                      <a:pt x="465" y="9749"/>
                    </a:lnTo>
                    <a:close/>
                    <a:moveTo>
                      <a:pt x="465" y="974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24"/>
                  </a:moveTo>
                  <a:lnTo>
                    <a:pt x="1502" y="3480"/>
                  </a:lnTo>
                  <a:lnTo>
                    <a:pt x="3433" y="6137"/>
                  </a:lnTo>
                  <a:lnTo>
                    <a:pt x="5758" y="8793"/>
                  </a:lnTo>
                  <a:lnTo>
                    <a:pt x="8118" y="11357"/>
                  </a:lnTo>
                  <a:lnTo>
                    <a:pt x="10907" y="13998"/>
                  </a:lnTo>
                  <a:lnTo>
                    <a:pt x="13911" y="16563"/>
                  </a:lnTo>
                  <a:lnTo>
                    <a:pt x="17309" y="19127"/>
                  </a:lnTo>
                  <a:lnTo>
                    <a:pt x="20956" y="21600"/>
                  </a:lnTo>
                  <a:lnTo>
                    <a:pt x="21600" y="21600"/>
                  </a:lnTo>
                  <a:lnTo>
                    <a:pt x="17738" y="19035"/>
                  </a:lnTo>
                  <a:lnTo>
                    <a:pt x="14340" y="16379"/>
                  </a:lnTo>
                  <a:lnTo>
                    <a:pt x="11122" y="13723"/>
                  </a:lnTo>
                  <a:lnTo>
                    <a:pt x="8332" y="10991"/>
                  </a:lnTo>
                  <a:lnTo>
                    <a:pt x="5758" y="8335"/>
                  </a:lnTo>
                  <a:lnTo>
                    <a:pt x="3648" y="5587"/>
                  </a:lnTo>
                  <a:lnTo>
                    <a:pt x="1717" y="2748"/>
                  </a:lnTo>
                  <a:lnTo>
                    <a:pt x="0" y="0"/>
                  </a:lnTo>
                  <a:lnTo>
                    <a:pt x="0" y="824"/>
                  </a:lnTo>
                  <a:lnTo>
                    <a:pt x="0" y="824"/>
                  </a:lnTo>
                  <a:close/>
                  <a:moveTo>
                    <a:pt x="0" y="824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21"/>
                  </a:moveTo>
                  <a:lnTo>
                    <a:pt x="10277" y="12169"/>
                  </a:lnTo>
                  <a:lnTo>
                    <a:pt x="20458" y="21600"/>
                  </a:lnTo>
                  <a:lnTo>
                    <a:pt x="21600" y="21600"/>
                  </a:lnTo>
                  <a:lnTo>
                    <a:pt x="15891" y="16732"/>
                  </a:lnTo>
                  <a:lnTo>
                    <a:pt x="10848" y="11256"/>
                  </a:lnTo>
                  <a:lnTo>
                    <a:pt x="0" y="0"/>
                  </a:lnTo>
                  <a:lnTo>
                    <a:pt x="0" y="1521"/>
                  </a:lnTo>
                  <a:lnTo>
                    <a:pt x="0" y="1521"/>
                  </a:lnTo>
                  <a:close/>
                  <a:moveTo>
                    <a:pt x="0" y="1521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802"/>
                  </a:lnTo>
                  <a:lnTo>
                    <a:pt x="21336" y="20149"/>
                  </a:lnTo>
                  <a:lnTo>
                    <a:pt x="21072" y="19508"/>
                  </a:lnTo>
                  <a:lnTo>
                    <a:pt x="20279" y="17984"/>
                  </a:lnTo>
                  <a:lnTo>
                    <a:pt x="19486" y="16460"/>
                  </a:lnTo>
                  <a:lnTo>
                    <a:pt x="17527" y="13557"/>
                  </a:lnTo>
                  <a:lnTo>
                    <a:pt x="15017" y="10873"/>
                  </a:lnTo>
                  <a:lnTo>
                    <a:pt x="12374" y="8333"/>
                  </a:lnTo>
                  <a:lnTo>
                    <a:pt x="9490" y="6023"/>
                  </a:lnTo>
                  <a:lnTo>
                    <a:pt x="6451" y="3846"/>
                  </a:lnTo>
                  <a:lnTo>
                    <a:pt x="3303" y="1814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3039" y="1814"/>
                  </a:lnTo>
                  <a:lnTo>
                    <a:pt x="6055" y="3846"/>
                  </a:lnTo>
                  <a:lnTo>
                    <a:pt x="9094" y="6023"/>
                  </a:lnTo>
                  <a:lnTo>
                    <a:pt x="12000" y="8333"/>
                  </a:lnTo>
                  <a:lnTo>
                    <a:pt x="14752" y="10873"/>
                  </a:lnTo>
                  <a:lnTo>
                    <a:pt x="17130" y="13557"/>
                  </a:lnTo>
                  <a:lnTo>
                    <a:pt x="19222" y="16460"/>
                  </a:lnTo>
                  <a:lnTo>
                    <a:pt x="20015" y="17984"/>
                  </a:lnTo>
                  <a:lnTo>
                    <a:pt x="20807" y="19580"/>
                  </a:lnTo>
                  <a:lnTo>
                    <a:pt x="21204" y="20584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987"/>
                  </a:lnTo>
                  <a:lnTo>
                    <a:pt x="17292" y="15465"/>
                  </a:lnTo>
                  <a:lnTo>
                    <a:pt x="12231" y="10123"/>
                  </a:lnTo>
                  <a:lnTo>
                    <a:pt x="6658" y="4908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6296" y="5061"/>
                  </a:lnTo>
                  <a:lnTo>
                    <a:pt x="12050" y="10429"/>
                  </a:lnTo>
                  <a:lnTo>
                    <a:pt x="17111" y="15925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661"/>
                  </a:lnTo>
                  <a:lnTo>
                    <a:pt x="11782" y="10017"/>
                  </a:lnTo>
                  <a:lnTo>
                    <a:pt x="637" y="0"/>
                  </a:lnTo>
                  <a:lnTo>
                    <a:pt x="0" y="0"/>
                  </a:lnTo>
                  <a:lnTo>
                    <a:pt x="5732" y="5322"/>
                  </a:lnTo>
                  <a:lnTo>
                    <a:pt x="11463" y="10643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864"/>
                  </a:moveTo>
                  <a:lnTo>
                    <a:pt x="0" y="21600"/>
                  </a:lnTo>
                  <a:lnTo>
                    <a:pt x="1364" y="18565"/>
                  </a:lnTo>
                  <a:lnTo>
                    <a:pt x="3183" y="15529"/>
                  </a:lnTo>
                  <a:lnTo>
                    <a:pt x="5432" y="12678"/>
                  </a:lnTo>
                  <a:lnTo>
                    <a:pt x="7857" y="9919"/>
                  </a:lnTo>
                  <a:lnTo>
                    <a:pt x="10888" y="7266"/>
                  </a:lnTo>
                  <a:lnTo>
                    <a:pt x="14046" y="4783"/>
                  </a:lnTo>
                  <a:lnTo>
                    <a:pt x="17684" y="2300"/>
                  </a:lnTo>
                  <a:lnTo>
                    <a:pt x="21600" y="0"/>
                  </a:lnTo>
                  <a:lnTo>
                    <a:pt x="21145" y="0"/>
                  </a:lnTo>
                  <a:lnTo>
                    <a:pt x="17381" y="2208"/>
                  </a:lnTo>
                  <a:lnTo>
                    <a:pt x="13895" y="4599"/>
                  </a:lnTo>
                  <a:lnTo>
                    <a:pt x="10737" y="7082"/>
                  </a:lnTo>
                  <a:lnTo>
                    <a:pt x="7857" y="9643"/>
                  </a:lnTo>
                  <a:lnTo>
                    <a:pt x="5432" y="12310"/>
                  </a:lnTo>
                  <a:lnTo>
                    <a:pt x="3335" y="15069"/>
                  </a:lnTo>
                  <a:lnTo>
                    <a:pt x="1516" y="17921"/>
                  </a:lnTo>
                  <a:lnTo>
                    <a:pt x="0" y="20864"/>
                  </a:lnTo>
                  <a:lnTo>
                    <a:pt x="0" y="20864"/>
                  </a:lnTo>
                  <a:close/>
                  <a:moveTo>
                    <a:pt x="0" y="20864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937" y="0"/>
                  </a:lnTo>
                  <a:lnTo>
                    <a:pt x="15002" y="4760"/>
                  </a:lnTo>
                  <a:lnTo>
                    <a:pt x="9473" y="9736"/>
                  </a:lnTo>
                  <a:lnTo>
                    <a:pt x="4423" y="15145"/>
                  </a:lnTo>
                  <a:lnTo>
                    <a:pt x="0" y="20735"/>
                  </a:lnTo>
                  <a:lnTo>
                    <a:pt x="0" y="21600"/>
                  </a:lnTo>
                  <a:lnTo>
                    <a:pt x="4423" y="15578"/>
                  </a:lnTo>
                  <a:lnTo>
                    <a:pt x="9473" y="10169"/>
                  </a:lnTo>
                  <a:lnTo>
                    <a:pt x="15223" y="497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155" y="0"/>
                  </a:lnTo>
                  <a:lnTo>
                    <a:pt x="9636" y="9771"/>
                  </a:lnTo>
                  <a:lnTo>
                    <a:pt x="4818" y="14914"/>
                  </a:lnTo>
                  <a:lnTo>
                    <a:pt x="0" y="20057"/>
                  </a:lnTo>
                  <a:lnTo>
                    <a:pt x="0" y="21600"/>
                  </a:lnTo>
                  <a:lnTo>
                    <a:pt x="10117" y="1028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4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4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4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440" y="622440"/>
              <a:ext cx="9140760" cy="2495520"/>
              <a:chOff x="1440" y="622440"/>
              <a:chExt cx="9140760" cy="2495520"/>
            </a:xfrm>
          </p:grpSpPr>
          <p:sp>
            <p:nvSpPr>
              <p:cNvPr id="148" name=""/>
              <p:cNvSpPr/>
              <p:nvPr/>
            </p:nvSpPr>
            <p:spPr>
              <a:xfrm>
                <a:off x="1440" y="124488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440" y="311652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440" y="24926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440" y="186876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4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144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4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 txBox="1"/>
          <p:nvPr/>
        </p:nvSpPr>
        <p:spPr>
          <a:xfrm>
            <a:off x="7481520" y="6243480"/>
            <a:ext cx="2746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B4DB-BB63-4DF6-8E90-E281F9E59FFB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relatively low youth unemployment rate represents hope for the German labor market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ason is because of Germany's dual system of vocational train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cational training is preparing students for trade or craft jobs with specific tasks. (i.e. Blacksmith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meantime, however, vocational training is losing importanc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theless, Germany´s youth unemployment rate is still significantly lower than in France or Ital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159" name="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20"/>
                  </a:moveTo>
                  <a:lnTo>
                    <a:pt x="21600" y="0"/>
                  </a:lnTo>
                  <a:lnTo>
                    <a:pt x="21058" y="1291"/>
                  </a:lnTo>
                  <a:lnTo>
                    <a:pt x="20335" y="2671"/>
                  </a:lnTo>
                  <a:lnTo>
                    <a:pt x="18889" y="4972"/>
                  </a:lnTo>
                  <a:lnTo>
                    <a:pt x="17292" y="7272"/>
                  </a:lnTo>
                  <a:lnTo>
                    <a:pt x="15123" y="9573"/>
                  </a:lnTo>
                  <a:lnTo>
                    <a:pt x="12773" y="11950"/>
                  </a:lnTo>
                  <a:lnTo>
                    <a:pt x="10062" y="14328"/>
                  </a:lnTo>
                  <a:lnTo>
                    <a:pt x="7019" y="16769"/>
                  </a:lnTo>
                  <a:lnTo>
                    <a:pt x="3766" y="19146"/>
                  </a:lnTo>
                  <a:lnTo>
                    <a:pt x="0" y="21600"/>
                  </a:lnTo>
                  <a:lnTo>
                    <a:pt x="331" y="21600"/>
                  </a:lnTo>
                  <a:lnTo>
                    <a:pt x="4127" y="19146"/>
                  </a:lnTo>
                  <a:lnTo>
                    <a:pt x="7381" y="16769"/>
                  </a:lnTo>
                  <a:lnTo>
                    <a:pt x="10423" y="14328"/>
                  </a:lnTo>
                  <a:lnTo>
                    <a:pt x="13135" y="11950"/>
                  </a:lnTo>
                  <a:lnTo>
                    <a:pt x="15485" y="9573"/>
                  </a:lnTo>
                  <a:lnTo>
                    <a:pt x="17623" y="7272"/>
                  </a:lnTo>
                  <a:lnTo>
                    <a:pt x="19250" y="4972"/>
                  </a:lnTo>
                  <a:lnTo>
                    <a:pt x="20696" y="2671"/>
                  </a:lnTo>
                  <a:lnTo>
                    <a:pt x="21238" y="1828"/>
                  </a:lnTo>
                  <a:lnTo>
                    <a:pt x="21600" y="920"/>
                  </a:lnTo>
                  <a:lnTo>
                    <a:pt x="21600" y="920"/>
                  </a:lnTo>
                  <a:close/>
                  <a:moveTo>
                    <a:pt x="21600" y="92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6787" y="5462"/>
                  </a:lnTo>
                  <a:lnTo>
                    <a:pt x="11688" y="10924"/>
                  </a:lnTo>
                  <a:lnTo>
                    <a:pt x="5844" y="16386"/>
                  </a:lnTo>
                  <a:lnTo>
                    <a:pt x="0" y="21600"/>
                  </a:lnTo>
                  <a:lnTo>
                    <a:pt x="688" y="21600"/>
                  </a:lnTo>
                  <a:lnTo>
                    <a:pt x="6532" y="16634"/>
                  </a:lnTo>
                  <a:lnTo>
                    <a:pt x="11688" y="11669"/>
                  </a:lnTo>
                  <a:lnTo>
                    <a:pt x="21600" y="993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629" y="21600"/>
                  </a:lnTo>
                  <a:lnTo>
                    <a:pt x="12343" y="12706"/>
                  </a:lnTo>
                  <a:lnTo>
                    <a:pt x="21600" y="5082"/>
                  </a:lnTo>
                  <a:lnTo>
                    <a:pt x="21600" y="0"/>
                  </a:lnTo>
                  <a:lnTo>
                    <a:pt x="10800" y="11435"/>
                  </a:lnTo>
                  <a:lnTo>
                    <a:pt x="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163" name="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8000" y="21600"/>
                    </a:lnTo>
                    <a:lnTo>
                      <a:pt x="21600" y="21600"/>
                    </a:lnTo>
                    <a:lnTo>
                      <a:pt x="36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979" y="0"/>
                    </a:moveTo>
                    <a:lnTo>
                      <a:pt x="1490" y="0"/>
                    </a:lnTo>
                    <a:lnTo>
                      <a:pt x="5214" y="1081"/>
                    </a:lnTo>
                    <a:lnTo>
                      <a:pt x="8938" y="2222"/>
                    </a:lnTo>
                    <a:lnTo>
                      <a:pt x="11917" y="3448"/>
                    </a:lnTo>
                    <a:lnTo>
                      <a:pt x="14897" y="4739"/>
                    </a:lnTo>
                    <a:lnTo>
                      <a:pt x="16386" y="6061"/>
                    </a:lnTo>
                    <a:lnTo>
                      <a:pt x="18621" y="7442"/>
                    </a:lnTo>
                    <a:lnTo>
                      <a:pt x="19366" y="8848"/>
                    </a:lnTo>
                    <a:lnTo>
                      <a:pt x="20110" y="10320"/>
                    </a:lnTo>
                    <a:lnTo>
                      <a:pt x="19366" y="13232"/>
                    </a:lnTo>
                    <a:lnTo>
                      <a:pt x="15641" y="16140"/>
                    </a:lnTo>
                    <a:lnTo>
                      <a:pt x="13407" y="17551"/>
                    </a:lnTo>
                    <a:lnTo>
                      <a:pt x="9683" y="18958"/>
                    </a:lnTo>
                    <a:lnTo>
                      <a:pt x="5214" y="20309"/>
                    </a:lnTo>
                    <a:lnTo>
                      <a:pt x="0" y="21600"/>
                    </a:lnTo>
                    <a:lnTo>
                      <a:pt x="1490" y="21600"/>
                    </a:lnTo>
                    <a:lnTo>
                      <a:pt x="6703" y="20309"/>
                    </a:lnTo>
                    <a:lnTo>
                      <a:pt x="11172" y="18928"/>
                    </a:lnTo>
                    <a:lnTo>
                      <a:pt x="14897" y="17551"/>
                    </a:lnTo>
                    <a:lnTo>
                      <a:pt x="17131" y="16110"/>
                    </a:lnTo>
                    <a:lnTo>
                      <a:pt x="20855" y="13202"/>
                    </a:lnTo>
                    <a:lnTo>
                      <a:pt x="21600" y="10290"/>
                    </a:lnTo>
                    <a:lnTo>
                      <a:pt x="20855" y="8848"/>
                    </a:lnTo>
                    <a:lnTo>
                      <a:pt x="20110" y="7442"/>
                    </a:lnTo>
                    <a:lnTo>
                      <a:pt x="17876" y="6061"/>
                    </a:lnTo>
                    <a:lnTo>
                      <a:pt x="16386" y="4709"/>
                    </a:lnTo>
                    <a:lnTo>
                      <a:pt x="13407" y="3448"/>
                    </a:lnTo>
                    <a:lnTo>
                      <a:pt x="10428" y="2222"/>
                    </a:lnTo>
                    <a:lnTo>
                      <a:pt x="6703" y="1081"/>
                    </a:lnTo>
                    <a:lnTo>
                      <a:pt x="2979" y="0"/>
                    </a:lnTo>
                    <a:lnTo>
                      <a:pt x="2979" y="0"/>
                    </a:lnTo>
                    <a:close/>
                    <a:moveTo>
                      <a:pt x="2979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213" y="10079"/>
                    </a:moveTo>
                    <a:lnTo>
                      <a:pt x="20439" y="8638"/>
                    </a:lnTo>
                    <a:lnTo>
                      <a:pt x="18892" y="7232"/>
                    </a:lnTo>
                    <a:lnTo>
                      <a:pt x="16958" y="5880"/>
                    </a:lnTo>
                    <a:lnTo>
                      <a:pt x="14701" y="4589"/>
                    </a:lnTo>
                    <a:lnTo>
                      <a:pt x="11993" y="3328"/>
                    </a:lnTo>
                    <a:lnTo>
                      <a:pt x="8511" y="2162"/>
                    </a:lnTo>
                    <a:lnTo>
                      <a:pt x="5029" y="1021"/>
                    </a:lnTo>
                    <a:lnTo>
                      <a:pt x="774" y="0"/>
                    </a:lnTo>
                    <a:lnTo>
                      <a:pt x="0" y="0"/>
                    </a:lnTo>
                    <a:lnTo>
                      <a:pt x="4256" y="1021"/>
                    </a:lnTo>
                    <a:lnTo>
                      <a:pt x="7737" y="2162"/>
                    </a:lnTo>
                    <a:lnTo>
                      <a:pt x="11219" y="3328"/>
                    </a:lnTo>
                    <a:lnTo>
                      <a:pt x="13927" y="4589"/>
                    </a:lnTo>
                    <a:lnTo>
                      <a:pt x="16184" y="5880"/>
                    </a:lnTo>
                    <a:lnTo>
                      <a:pt x="18118" y="7232"/>
                    </a:lnTo>
                    <a:lnTo>
                      <a:pt x="19666" y="8638"/>
                    </a:lnTo>
                    <a:lnTo>
                      <a:pt x="20439" y="10079"/>
                    </a:lnTo>
                    <a:lnTo>
                      <a:pt x="20826" y="11581"/>
                    </a:lnTo>
                    <a:lnTo>
                      <a:pt x="20439" y="13052"/>
                    </a:lnTo>
                    <a:lnTo>
                      <a:pt x="19666" y="14548"/>
                    </a:lnTo>
                    <a:lnTo>
                      <a:pt x="18118" y="16020"/>
                    </a:lnTo>
                    <a:lnTo>
                      <a:pt x="16571" y="17461"/>
                    </a:lnTo>
                    <a:lnTo>
                      <a:pt x="13927" y="18903"/>
                    </a:lnTo>
                    <a:lnTo>
                      <a:pt x="11219" y="20279"/>
                    </a:lnTo>
                    <a:lnTo>
                      <a:pt x="7737" y="21600"/>
                    </a:lnTo>
                    <a:lnTo>
                      <a:pt x="8511" y="21600"/>
                    </a:lnTo>
                    <a:lnTo>
                      <a:pt x="11993" y="20279"/>
                    </a:lnTo>
                    <a:lnTo>
                      <a:pt x="14701" y="18903"/>
                    </a:lnTo>
                    <a:lnTo>
                      <a:pt x="17344" y="17461"/>
                    </a:lnTo>
                    <a:lnTo>
                      <a:pt x="18892" y="16020"/>
                    </a:lnTo>
                    <a:lnTo>
                      <a:pt x="20439" y="14548"/>
                    </a:lnTo>
                    <a:lnTo>
                      <a:pt x="21213" y="13052"/>
                    </a:lnTo>
                    <a:lnTo>
                      <a:pt x="21600" y="11581"/>
                    </a:lnTo>
                    <a:lnTo>
                      <a:pt x="21213" y="10079"/>
                    </a:lnTo>
                    <a:lnTo>
                      <a:pt x="21213" y="10079"/>
                    </a:lnTo>
                    <a:close/>
                    <a:moveTo>
                      <a:pt x="21213" y="1007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990" y="9629"/>
                    </a:moveTo>
                    <a:lnTo>
                      <a:pt x="20075" y="8458"/>
                    </a:lnTo>
                    <a:lnTo>
                      <a:pt x="18551" y="7292"/>
                    </a:lnTo>
                    <a:lnTo>
                      <a:pt x="16721" y="6151"/>
                    </a:lnTo>
                    <a:lnTo>
                      <a:pt x="14281" y="5010"/>
                    </a:lnTo>
                    <a:lnTo>
                      <a:pt x="11537" y="3809"/>
                    </a:lnTo>
                    <a:lnTo>
                      <a:pt x="8233" y="2612"/>
                    </a:lnTo>
                    <a:lnTo>
                      <a:pt x="4574" y="1351"/>
                    </a:lnTo>
                    <a:lnTo>
                      <a:pt x="610" y="0"/>
                    </a:lnTo>
                    <a:lnTo>
                      <a:pt x="0" y="0"/>
                    </a:lnTo>
                    <a:lnTo>
                      <a:pt x="4269" y="1351"/>
                    </a:lnTo>
                    <a:lnTo>
                      <a:pt x="7928" y="2612"/>
                    </a:lnTo>
                    <a:lnTo>
                      <a:pt x="10978" y="3839"/>
                    </a:lnTo>
                    <a:lnTo>
                      <a:pt x="13976" y="5010"/>
                    </a:lnTo>
                    <a:lnTo>
                      <a:pt x="16111" y="6181"/>
                    </a:lnTo>
                    <a:lnTo>
                      <a:pt x="17941" y="7322"/>
                    </a:lnTo>
                    <a:lnTo>
                      <a:pt x="19465" y="8458"/>
                    </a:lnTo>
                    <a:lnTo>
                      <a:pt x="20380" y="9629"/>
                    </a:lnTo>
                    <a:lnTo>
                      <a:pt x="20990" y="10950"/>
                    </a:lnTo>
                    <a:lnTo>
                      <a:pt x="20685" y="12301"/>
                    </a:lnTo>
                    <a:lnTo>
                      <a:pt x="20075" y="13678"/>
                    </a:lnTo>
                    <a:lnTo>
                      <a:pt x="18551" y="15119"/>
                    </a:lnTo>
                    <a:lnTo>
                      <a:pt x="16721" y="16620"/>
                    </a:lnTo>
                    <a:lnTo>
                      <a:pt x="13976" y="18212"/>
                    </a:lnTo>
                    <a:lnTo>
                      <a:pt x="10368" y="19858"/>
                    </a:lnTo>
                    <a:lnTo>
                      <a:pt x="6404" y="21600"/>
                    </a:lnTo>
                    <a:lnTo>
                      <a:pt x="7014" y="21600"/>
                    </a:lnTo>
                    <a:lnTo>
                      <a:pt x="10978" y="19858"/>
                    </a:lnTo>
                    <a:lnTo>
                      <a:pt x="14586" y="18212"/>
                    </a:lnTo>
                    <a:lnTo>
                      <a:pt x="17331" y="16620"/>
                    </a:lnTo>
                    <a:lnTo>
                      <a:pt x="19160" y="15119"/>
                    </a:lnTo>
                    <a:lnTo>
                      <a:pt x="20685" y="13678"/>
                    </a:lnTo>
                    <a:lnTo>
                      <a:pt x="21295" y="12301"/>
                    </a:lnTo>
                    <a:lnTo>
                      <a:pt x="21600" y="10950"/>
                    </a:lnTo>
                    <a:lnTo>
                      <a:pt x="20990" y="9629"/>
                    </a:lnTo>
                    <a:lnTo>
                      <a:pt x="20990" y="9629"/>
                    </a:lnTo>
                    <a:close/>
                    <a:moveTo>
                      <a:pt x="20990" y="962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109"/>
                    </a:moveTo>
                    <a:lnTo>
                      <a:pt x="20901" y="8668"/>
                    </a:lnTo>
                    <a:lnTo>
                      <a:pt x="19541" y="7232"/>
                    </a:lnTo>
                    <a:lnTo>
                      <a:pt x="17676" y="5880"/>
                    </a:lnTo>
                    <a:lnTo>
                      <a:pt x="15345" y="4559"/>
                    </a:lnTo>
                    <a:lnTo>
                      <a:pt x="12315" y="3298"/>
                    </a:lnTo>
                    <a:lnTo>
                      <a:pt x="8858" y="2132"/>
                    </a:lnTo>
                    <a:lnTo>
                      <a:pt x="4895" y="1021"/>
                    </a:lnTo>
                    <a:lnTo>
                      <a:pt x="466" y="0"/>
                    </a:lnTo>
                    <a:lnTo>
                      <a:pt x="0" y="0"/>
                    </a:lnTo>
                    <a:lnTo>
                      <a:pt x="4429" y="1021"/>
                    </a:lnTo>
                    <a:lnTo>
                      <a:pt x="8391" y="2132"/>
                    </a:lnTo>
                    <a:lnTo>
                      <a:pt x="11849" y="3298"/>
                    </a:lnTo>
                    <a:lnTo>
                      <a:pt x="14879" y="4559"/>
                    </a:lnTo>
                    <a:lnTo>
                      <a:pt x="17210" y="5880"/>
                    </a:lnTo>
                    <a:lnTo>
                      <a:pt x="19075" y="7232"/>
                    </a:lnTo>
                    <a:lnTo>
                      <a:pt x="20435" y="8668"/>
                    </a:lnTo>
                    <a:lnTo>
                      <a:pt x="21134" y="10109"/>
                    </a:lnTo>
                    <a:lnTo>
                      <a:pt x="21134" y="11641"/>
                    </a:lnTo>
                    <a:lnTo>
                      <a:pt x="20668" y="13172"/>
                    </a:lnTo>
                    <a:lnTo>
                      <a:pt x="19541" y="14669"/>
                    </a:lnTo>
                    <a:lnTo>
                      <a:pt x="17676" y="16140"/>
                    </a:lnTo>
                    <a:lnTo>
                      <a:pt x="15112" y="17581"/>
                    </a:lnTo>
                    <a:lnTo>
                      <a:pt x="12082" y="18958"/>
                    </a:lnTo>
                    <a:lnTo>
                      <a:pt x="8391" y="20309"/>
                    </a:lnTo>
                    <a:lnTo>
                      <a:pt x="3963" y="21600"/>
                    </a:lnTo>
                    <a:lnTo>
                      <a:pt x="4429" y="21600"/>
                    </a:lnTo>
                    <a:lnTo>
                      <a:pt x="8858" y="20309"/>
                    </a:lnTo>
                    <a:lnTo>
                      <a:pt x="12548" y="18958"/>
                    </a:lnTo>
                    <a:lnTo>
                      <a:pt x="15578" y="17581"/>
                    </a:lnTo>
                    <a:lnTo>
                      <a:pt x="18142" y="16140"/>
                    </a:lnTo>
                    <a:lnTo>
                      <a:pt x="20007" y="14669"/>
                    </a:lnTo>
                    <a:lnTo>
                      <a:pt x="21134" y="13172"/>
                    </a:lnTo>
                    <a:lnTo>
                      <a:pt x="21600" y="11641"/>
                    </a:lnTo>
                    <a:lnTo>
                      <a:pt x="21600" y="10109"/>
                    </a:lnTo>
                    <a:lnTo>
                      <a:pt x="21600" y="10109"/>
                    </a:lnTo>
                    <a:close/>
                    <a:moveTo>
                      <a:pt x="21600" y="1010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440"/>
                    </a:moveTo>
                    <a:lnTo>
                      <a:pt x="21035" y="9058"/>
                    </a:lnTo>
                    <a:lnTo>
                      <a:pt x="19905" y="7712"/>
                    </a:lnTo>
                    <a:lnTo>
                      <a:pt x="18021" y="6361"/>
                    </a:lnTo>
                    <a:lnTo>
                      <a:pt x="15603" y="5040"/>
                    </a:lnTo>
                    <a:lnTo>
                      <a:pt x="12590" y="3748"/>
                    </a:lnTo>
                    <a:lnTo>
                      <a:pt x="9199" y="2462"/>
                    </a:lnTo>
                    <a:lnTo>
                      <a:pt x="5086" y="1201"/>
                    </a:lnTo>
                    <a:lnTo>
                      <a:pt x="377" y="0"/>
                    </a:lnTo>
                    <a:lnTo>
                      <a:pt x="0" y="0"/>
                    </a:lnTo>
                    <a:lnTo>
                      <a:pt x="4709" y="1201"/>
                    </a:lnTo>
                    <a:lnTo>
                      <a:pt x="8822" y="2462"/>
                    </a:lnTo>
                    <a:lnTo>
                      <a:pt x="12213" y="3748"/>
                    </a:lnTo>
                    <a:lnTo>
                      <a:pt x="15227" y="5040"/>
                    </a:lnTo>
                    <a:lnTo>
                      <a:pt x="17644" y="6361"/>
                    </a:lnTo>
                    <a:lnTo>
                      <a:pt x="19528" y="7712"/>
                    </a:lnTo>
                    <a:lnTo>
                      <a:pt x="20658" y="9058"/>
                    </a:lnTo>
                    <a:lnTo>
                      <a:pt x="21223" y="10440"/>
                    </a:lnTo>
                    <a:lnTo>
                      <a:pt x="21223" y="11851"/>
                    </a:lnTo>
                    <a:lnTo>
                      <a:pt x="20658" y="13262"/>
                    </a:lnTo>
                    <a:lnTo>
                      <a:pt x="19340" y="14669"/>
                    </a:lnTo>
                    <a:lnTo>
                      <a:pt x="17456" y="16080"/>
                    </a:lnTo>
                    <a:lnTo>
                      <a:pt x="14850" y="17491"/>
                    </a:lnTo>
                    <a:lnTo>
                      <a:pt x="11648" y="18903"/>
                    </a:lnTo>
                    <a:lnTo>
                      <a:pt x="7880" y="20249"/>
                    </a:lnTo>
                    <a:lnTo>
                      <a:pt x="3579" y="21600"/>
                    </a:lnTo>
                    <a:lnTo>
                      <a:pt x="3956" y="21600"/>
                    </a:lnTo>
                    <a:lnTo>
                      <a:pt x="8257" y="20249"/>
                    </a:lnTo>
                    <a:lnTo>
                      <a:pt x="12024" y="18903"/>
                    </a:lnTo>
                    <a:lnTo>
                      <a:pt x="15227" y="17491"/>
                    </a:lnTo>
                    <a:lnTo>
                      <a:pt x="17833" y="16110"/>
                    </a:lnTo>
                    <a:lnTo>
                      <a:pt x="19716" y="14699"/>
                    </a:lnTo>
                    <a:lnTo>
                      <a:pt x="21035" y="13292"/>
                    </a:lnTo>
                    <a:lnTo>
                      <a:pt x="21600" y="11851"/>
                    </a:lnTo>
                    <a:lnTo>
                      <a:pt x="21600" y="10440"/>
                    </a:lnTo>
                    <a:lnTo>
                      <a:pt x="21600" y="10440"/>
                    </a:lnTo>
                    <a:close/>
                    <a:moveTo>
                      <a:pt x="21600" y="104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449" y="10650"/>
                    </a:moveTo>
                    <a:lnTo>
                      <a:pt x="20847" y="9178"/>
                    </a:lnTo>
                    <a:lnTo>
                      <a:pt x="20270" y="8428"/>
                    </a:lnTo>
                    <a:lnTo>
                      <a:pt x="19668" y="7712"/>
                    </a:lnTo>
                    <a:lnTo>
                      <a:pt x="18765" y="6991"/>
                    </a:lnTo>
                    <a:lnTo>
                      <a:pt x="17862" y="6271"/>
                    </a:lnTo>
                    <a:lnTo>
                      <a:pt x="16658" y="5580"/>
                    </a:lnTo>
                    <a:lnTo>
                      <a:pt x="15303" y="4890"/>
                    </a:lnTo>
                    <a:lnTo>
                      <a:pt x="12318" y="3598"/>
                    </a:lnTo>
                    <a:lnTo>
                      <a:pt x="8856" y="2342"/>
                    </a:lnTo>
                    <a:lnTo>
                      <a:pt x="4817" y="1141"/>
                    </a:lnTo>
                    <a:lnTo>
                      <a:pt x="301" y="0"/>
                    </a:lnTo>
                    <a:lnTo>
                      <a:pt x="0" y="0"/>
                    </a:lnTo>
                    <a:lnTo>
                      <a:pt x="4516" y="1141"/>
                    </a:lnTo>
                    <a:lnTo>
                      <a:pt x="8555" y="2342"/>
                    </a:lnTo>
                    <a:lnTo>
                      <a:pt x="12017" y="3598"/>
                    </a:lnTo>
                    <a:lnTo>
                      <a:pt x="15002" y="4920"/>
                    </a:lnTo>
                    <a:lnTo>
                      <a:pt x="16357" y="5610"/>
                    </a:lnTo>
                    <a:lnTo>
                      <a:pt x="17561" y="6301"/>
                    </a:lnTo>
                    <a:lnTo>
                      <a:pt x="18464" y="7022"/>
                    </a:lnTo>
                    <a:lnTo>
                      <a:pt x="19367" y="7742"/>
                    </a:lnTo>
                    <a:lnTo>
                      <a:pt x="20120" y="8458"/>
                    </a:lnTo>
                    <a:lnTo>
                      <a:pt x="20546" y="9178"/>
                    </a:lnTo>
                    <a:lnTo>
                      <a:pt x="20998" y="9929"/>
                    </a:lnTo>
                    <a:lnTo>
                      <a:pt x="21148" y="10650"/>
                    </a:lnTo>
                    <a:lnTo>
                      <a:pt x="21299" y="11401"/>
                    </a:lnTo>
                    <a:lnTo>
                      <a:pt x="21148" y="12151"/>
                    </a:lnTo>
                    <a:lnTo>
                      <a:pt x="20847" y="12872"/>
                    </a:lnTo>
                    <a:lnTo>
                      <a:pt x="20546" y="13618"/>
                    </a:lnTo>
                    <a:lnTo>
                      <a:pt x="19969" y="14338"/>
                    </a:lnTo>
                    <a:lnTo>
                      <a:pt x="19217" y="15089"/>
                    </a:lnTo>
                    <a:lnTo>
                      <a:pt x="18163" y="15810"/>
                    </a:lnTo>
                    <a:lnTo>
                      <a:pt x="17109" y="16530"/>
                    </a:lnTo>
                    <a:lnTo>
                      <a:pt x="14701" y="17852"/>
                    </a:lnTo>
                    <a:lnTo>
                      <a:pt x="11866" y="19138"/>
                    </a:lnTo>
                    <a:lnTo>
                      <a:pt x="8404" y="20399"/>
                    </a:lnTo>
                    <a:lnTo>
                      <a:pt x="4516" y="21600"/>
                    </a:lnTo>
                    <a:lnTo>
                      <a:pt x="4817" y="21600"/>
                    </a:lnTo>
                    <a:lnTo>
                      <a:pt x="8705" y="20399"/>
                    </a:lnTo>
                    <a:lnTo>
                      <a:pt x="12167" y="19138"/>
                    </a:lnTo>
                    <a:lnTo>
                      <a:pt x="15002" y="17882"/>
                    </a:lnTo>
                    <a:lnTo>
                      <a:pt x="17410" y="16560"/>
                    </a:lnTo>
                    <a:lnTo>
                      <a:pt x="18464" y="15840"/>
                    </a:lnTo>
                    <a:lnTo>
                      <a:pt x="19518" y="15119"/>
                    </a:lnTo>
                    <a:lnTo>
                      <a:pt x="20270" y="14368"/>
                    </a:lnTo>
                    <a:lnTo>
                      <a:pt x="20847" y="13648"/>
                    </a:lnTo>
                    <a:lnTo>
                      <a:pt x="21148" y="12902"/>
                    </a:lnTo>
                    <a:lnTo>
                      <a:pt x="21449" y="12151"/>
                    </a:lnTo>
                    <a:lnTo>
                      <a:pt x="21600" y="11401"/>
                    </a:lnTo>
                    <a:lnTo>
                      <a:pt x="21449" y="10650"/>
                    </a:lnTo>
                    <a:lnTo>
                      <a:pt x="21449" y="10650"/>
                    </a:lnTo>
                    <a:close/>
                    <a:moveTo>
                      <a:pt x="21449" y="1065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609" y="9719"/>
                    </a:moveTo>
                    <a:lnTo>
                      <a:pt x="4349" y="8158"/>
                    </a:lnTo>
                    <a:lnTo>
                      <a:pt x="6089" y="6661"/>
                    </a:lnTo>
                    <a:lnTo>
                      <a:pt x="8553" y="5280"/>
                    </a:lnTo>
                    <a:lnTo>
                      <a:pt x="11162" y="3959"/>
                    </a:lnTo>
                    <a:lnTo>
                      <a:pt x="12032" y="3358"/>
                    </a:lnTo>
                    <a:lnTo>
                      <a:pt x="13772" y="2788"/>
                    </a:lnTo>
                    <a:lnTo>
                      <a:pt x="15511" y="2222"/>
                    </a:lnTo>
                    <a:lnTo>
                      <a:pt x="16381" y="1712"/>
                    </a:lnTo>
                    <a:lnTo>
                      <a:pt x="18121" y="1231"/>
                    </a:lnTo>
                    <a:lnTo>
                      <a:pt x="18991" y="781"/>
                    </a:lnTo>
                    <a:lnTo>
                      <a:pt x="20730" y="360"/>
                    </a:lnTo>
                    <a:lnTo>
                      <a:pt x="21600" y="0"/>
                    </a:lnTo>
                    <a:lnTo>
                      <a:pt x="19860" y="0"/>
                    </a:lnTo>
                    <a:lnTo>
                      <a:pt x="18991" y="360"/>
                    </a:lnTo>
                    <a:lnTo>
                      <a:pt x="17251" y="781"/>
                    </a:lnTo>
                    <a:lnTo>
                      <a:pt x="16381" y="1231"/>
                    </a:lnTo>
                    <a:lnTo>
                      <a:pt x="14642" y="1712"/>
                    </a:lnTo>
                    <a:lnTo>
                      <a:pt x="13772" y="2222"/>
                    </a:lnTo>
                    <a:lnTo>
                      <a:pt x="12032" y="2788"/>
                    </a:lnTo>
                    <a:lnTo>
                      <a:pt x="10293" y="3358"/>
                    </a:lnTo>
                    <a:lnTo>
                      <a:pt x="9423" y="3959"/>
                    </a:lnTo>
                    <a:lnTo>
                      <a:pt x="6958" y="5280"/>
                    </a:lnTo>
                    <a:lnTo>
                      <a:pt x="4349" y="6661"/>
                    </a:lnTo>
                    <a:lnTo>
                      <a:pt x="2609" y="8158"/>
                    </a:lnTo>
                    <a:lnTo>
                      <a:pt x="870" y="9719"/>
                    </a:lnTo>
                    <a:lnTo>
                      <a:pt x="0" y="11401"/>
                    </a:lnTo>
                    <a:lnTo>
                      <a:pt x="870" y="13022"/>
                    </a:lnTo>
                    <a:lnTo>
                      <a:pt x="1740" y="14609"/>
                    </a:lnTo>
                    <a:lnTo>
                      <a:pt x="3479" y="16110"/>
                    </a:lnTo>
                    <a:lnTo>
                      <a:pt x="5219" y="17581"/>
                    </a:lnTo>
                    <a:lnTo>
                      <a:pt x="8553" y="18988"/>
                    </a:lnTo>
                    <a:lnTo>
                      <a:pt x="12902" y="20309"/>
                    </a:lnTo>
                    <a:lnTo>
                      <a:pt x="18121" y="21600"/>
                    </a:lnTo>
                    <a:lnTo>
                      <a:pt x="19860" y="21600"/>
                    </a:lnTo>
                    <a:lnTo>
                      <a:pt x="14642" y="20309"/>
                    </a:lnTo>
                    <a:lnTo>
                      <a:pt x="10293" y="18988"/>
                    </a:lnTo>
                    <a:lnTo>
                      <a:pt x="6958" y="17581"/>
                    </a:lnTo>
                    <a:lnTo>
                      <a:pt x="5219" y="16140"/>
                    </a:lnTo>
                    <a:lnTo>
                      <a:pt x="3479" y="14609"/>
                    </a:lnTo>
                    <a:lnTo>
                      <a:pt x="2609" y="13052"/>
                    </a:lnTo>
                    <a:lnTo>
                      <a:pt x="1740" y="11401"/>
                    </a:lnTo>
                    <a:lnTo>
                      <a:pt x="2609" y="9719"/>
                    </a:lnTo>
                    <a:lnTo>
                      <a:pt x="2609" y="9719"/>
                    </a:lnTo>
                    <a:close/>
                    <a:moveTo>
                      <a:pt x="2609" y="971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00" y="10320"/>
                    </a:moveTo>
                    <a:lnTo>
                      <a:pt x="2167" y="8758"/>
                    </a:lnTo>
                    <a:lnTo>
                      <a:pt x="3901" y="7262"/>
                    </a:lnTo>
                    <a:lnTo>
                      <a:pt x="6068" y="5850"/>
                    </a:lnTo>
                    <a:lnTo>
                      <a:pt x="9102" y="4499"/>
                    </a:lnTo>
                    <a:lnTo>
                      <a:pt x="11703" y="3208"/>
                    </a:lnTo>
                    <a:lnTo>
                      <a:pt x="15098" y="2042"/>
                    </a:lnTo>
                    <a:lnTo>
                      <a:pt x="18132" y="961"/>
                    </a:lnTo>
                    <a:lnTo>
                      <a:pt x="21600" y="0"/>
                    </a:lnTo>
                    <a:lnTo>
                      <a:pt x="20733" y="0"/>
                    </a:lnTo>
                    <a:lnTo>
                      <a:pt x="17266" y="961"/>
                    </a:lnTo>
                    <a:lnTo>
                      <a:pt x="14304" y="2042"/>
                    </a:lnTo>
                    <a:lnTo>
                      <a:pt x="11270" y="3208"/>
                    </a:lnTo>
                    <a:lnTo>
                      <a:pt x="8235" y="4499"/>
                    </a:lnTo>
                    <a:lnTo>
                      <a:pt x="5635" y="5850"/>
                    </a:lnTo>
                    <a:lnTo>
                      <a:pt x="3468" y="7262"/>
                    </a:lnTo>
                    <a:lnTo>
                      <a:pt x="1734" y="8758"/>
                    </a:lnTo>
                    <a:lnTo>
                      <a:pt x="433" y="10320"/>
                    </a:lnTo>
                    <a:lnTo>
                      <a:pt x="0" y="11881"/>
                    </a:lnTo>
                    <a:lnTo>
                      <a:pt x="867" y="13382"/>
                    </a:lnTo>
                    <a:lnTo>
                      <a:pt x="2167" y="14879"/>
                    </a:lnTo>
                    <a:lnTo>
                      <a:pt x="3901" y="16290"/>
                    </a:lnTo>
                    <a:lnTo>
                      <a:pt x="6935" y="17701"/>
                    </a:lnTo>
                    <a:lnTo>
                      <a:pt x="10403" y="19048"/>
                    </a:lnTo>
                    <a:lnTo>
                      <a:pt x="14665" y="20339"/>
                    </a:lnTo>
                    <a:lnTo>
                      <a:pt x="19866" y="21600"/>
                    </a:lnTo>
                    <a:lnTo>
                      <a:pt x="20733" y="21600"/>
                    </a:lnTo>
                    <a:lnTo>
                      <a:pt x="15532" y="20339"/>
                    </a:lnTo>
                    <a:lnTo>
                      <a:pt x="11270" y="19048"/>
                    </a:lnTo>
                    <a:lnTo>
                      <a:pt x="7802" y="17701"/>
                    </a:lnTo>
                    <a:lnTo>
                      <a:pt x="4768" y="16320"/>
                    </a:lnTo>
                    <a:lnTo>
                      <a:pt x="3034" y="14879"/>
                    </a:lnTo>
                    <a:lnTo>
                      <a:pt x="1734" y="13412"/>
                    </a:lnTo>
                    <a:lnTo>
                      <a:pt x="867" y="11881"/>
                    </a:lnTo>
                    <a:lnTo>
                      <a:pt x="1300" y="10320"/>
                    </a:lnTo>
                    <a:lnTo>
                      <a:pt x="1300" y="10320"/>
                    </a:lnTo>
                    <a:close/>
                    <a:moveTo>
                      <a:pt x="1300" y="1032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20989" y="0"/>
                    </a:lnTo>
                    <a:lnTo>
                      <a:pt x="16098" y="1111"/>
                    </a:lnTo>
                    <a:lnTo>
                      <a:pt x="12175" y="2312"/>
                    </a:lnTo>
                    <a:lnTo>
                      <a:pt x="8508" y="3538"/>
                    </a:lnTo>
                    <a:lnTo>
                      <a:pt x="5451" y="4859"/>
                    </a:lnTo>
                    <a:lnTo>
                      <a:pt x="3311" y="6241"/>
                    </a:lnTo>
                    <a:lnTo>
                      <a:pt x="1477" y="7652"/>
                    </a:lnTo>
                    <a:lnTo>
                      <a:pt x="306" y="9118"/>
                    </a:lnTo>
                    <a:lnTo>
                      <a:pt x="0" y="10620"/>
                    </a:lnTo>
                    <a:lnTo>
                      <a:pt x="306" y="12031"/>
                    </a:lnTo>
                    <a:lnTo>
                      <a:pt x="1223" y="13442"/>
                    </a:lnTo>
                    <a:lnTo>
                      <a:pt x="2394" y="14819"/>
                    </a:lnTo>
                    <a:lnTo>
                      <a:pt x="4534" y="16230"/>
                    </a:lnTo>
                    <a:lnTo>
                      <a:pt x="6979" y="17611"/>
                    </a:lnTo>
                    <a:lnTo>
                      <a:pt x="10036" y="18958"/>
                    </a:lnTo>
                    <a:lnTo>
                      <a:pt x="13704" y="20309"/>
                    </a:lnTo>
                    <a:lnTo>
                      <a:pt x="17626" y="21600"/>
                    </a:lnTo>
                    <a:lnTo>
                      <a:pt x="18238" y="21600"/>
                    </a:lnTo>
                    <a:lnTo>
                      <a:pt x="14315" y="20309"/>
                    </a:lnTo>
                    <a:lnTo>
                      <a:pt x="10647" y="18958"/>
                    </a:lnTo>
                    <a:lnTo>
                      <a:pt x="7591" y="17611"/>
                    </a:lnTo>
                    <a:lnTo>
                      <a:pt x="5145" y="16230"/>
                    </a:lnTo>
                    <a:lnTo>
                      <a:pt x="3006" y="14819"/>
                    </a:lnTo>
                    <a:lnTo>
                      <a:pt x="1783" y="13442"/>
                    </a:lnTo>
                    <a:lnTo>
                      <a:pt x="917" y="12031"/>
                    </a:lnTo>
                    <a:lnTo>
                      <a:pt x="611" y="10620"/>
                    </a:lnTo>
                    <a:lnTo>
                      <a:pt x="917" y="9118"/>
                    </a:lnTo>
                    <a:lnTo>
                      <a:pt x="2089" y="7652"/>
                    </a:lnTo>
                    <a:lnTo>
                      <a:pt x="3617" y="6241"/>
                    </a:lnTo>
                    <a:lnTo>
                      <a:pt x="6062" y="4859"/>
                    </a:lnTo>
                    <a:lnTo>
                      <a:pt x="9119" y="3538"/>
                    </a:lnTo>
                    <a:lnTo>
                      <a:pt x="12481" y="2312"/>
                    </a:lnTo>
                    <a:lnTo>
                      <a:pt x="16709" y="1111"/>
                    </a:lnTo>
                    <a:lnTo>
                      <a:pt x="21600" y="0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2" y="10740"/>
                    </a:moveTo>
                    <a:lnTo>
                      <a:pt x="903" y="9239"/>
                    </a:lnTo>
                    <a:lnTo>
                      <a:pt x="2032" y="7802"/>
                    </a:lnTo>
                    <a:lnTo>
                      <a:pt x="3613" y="6391"/>
                    </a:lnTo>
                    <a:lnTo>
                      <a:pt x="6096" y="5010"/>
                    </a:lnTo>
                    <a:lnTo>
                      <a:pt x="8994" y="3658"/>
                    </a:lnTo>
                    <a:lnTo>
                      <a:pt x="12606" y="2402"/>
                    </a:lnTo>
                    <a:lnTo>
                      <a:pt x="16896" y="1171"/>
                    </a:lnTo>
                    <a:lnTo>
                      <a:pt x="21600" y="0"/>
                    </a:lnTo>
                    <a:lnTo>
                      <a:pt x="21148" y="0"/>
                    </a:lnTo>
                    <a:lnTo>
                      <a:pt x="16445" y="1171"/>
                    </a:lnTo>
                    <a:lnTo>
                      <a:pt x="12155" y="2402"/>
                    </a:lnTo>
                    <a:lnTo>
                      <a:pt x="8542" y="3688"/>
                    </a:lnTo>
                    <a:lnTo>
                      <a:pt x="5645" y="5010"/>
                    </a:lnTo>
                    <a:lnTo>
                      <a:pt x="3161" y="6391"/>
                    </a:lnTo>
                    <a:lnTo>
                      <a:pt x="1580" y="7802"/>
                    </a:lnTo>
                    <a:lnTo>
                      <a:pt x="452" y="9269"/>
                    </a:lnTo>
                    <a:lnTo>
                      <a:pt x="0" y="10740"/>
                    </a:lnTo>
                    <a:lnTo>
                      <a:pt x="226" y="12181"/>
                    </a:lnTo>
                    <a:lnTo>
                      <a:pt x="1129" y="13588"/>
                    </a:lnTo>
                    <a:lnTo>
                      <a:pt x="2484" y="14999"/>
                    </a:lnTo>
                    <a:lnTo>
                      <a:pt x="4516" y="16380"/>
                    </a:lnTo>
                    <a:lnTo>
                      <a:pt x="7187" y="17761"/>
                    </a:lnTo>
                    <a:lnTo>
                      <a:pt x="10348" y="19078"/>
                    </a:lnTo>
                    <a:lnTo>
                      <a:pt x="13961" y="20369"/>
                    </a:lnTo>
                    <a:lnTo>
                      <a:pt x="18213" y="21600"/>
                    </a:lnTo>
                    <a:lnTo>
                      <a:pt x="18665" y="21600"/>
                    </a:lnTo>
                    <a:lnTo>
                      <a:pt x="14413" y="20369"/>
                    </a:lnTo>
                    <a:lnTo>
                      <a:pt x="10800" y="19078"/>
                    </a:lnTo>
                    <a:lnTo>
                      <a:pt x="7639" y="17761"/>
                    </a:lnTo>
                    <a:lnTo>
                      <a:pt x="4967" y="16380"/>
                    </a:lnTo>
                    <a:lnTo>
                      <a:pt x="2935" y="14999"/>
                    </a:lnTo>
                    <a:lnTo>
                      <a:pt x="1580" y="13588"/>
                    </a:lnTo>
                    <a:lnTo>
                      <a:pt x="677" y="12181"/>
                    </a:lnTo>
                    <a:lnTo>
                      <a:pt x="452" y="10740"/>
                    </a:lnTo>
                    <a:lnTo>
                      <a:pt x="452" y="10740"/>
                    </a:lnTo>
                    <a:close/>
                    <a:moveTo>
                      <a:pt x="452" y="107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53" y="10500"/>
                    </a:moveTo>
                    <a:lnTo>
                      <a:pt x="852" y="8998"/>
                    </a:lnTo>
                    <a:lnTo>
                      <a:pt x="2087" y="7532"/>
                    </a:lnTo>
                    <a:lnTo>
                      <a:pt x="3850" y="6121"/>
                    </a:lnTo>
                    <a:lnTo>
                      <a:pt x="6318" y="4709"/>
                    </a:lnTo>
                    <a:lnTo>
                      <a:pt x="9287" y="3448"/>
                    </a:lnTo>
                    <a:lnTo>
                      <a:pt x="12989" y="2222"/>
                    </a:lnTo>
                    <a:lnTo>
                      <a:pt x="17045" y="1081"/>
                    </a:lnTo>
                    <a:lnTo>
                      <a:pt x="21600" y="0"/>
                    </a:lnTo>
                    <a:lnTo>
                      <a:pt x="21247" y="0"/>
                    </a:lnTo>
                    <a:lnTo>
                      <a:pt x="16692" y="1051"/>
                    </a:lnTo>
                    <a:lnTo>
                      <a:pt x="12637" y="2192"/>
                    </a:lnTo>
                    <a:lnTo>
                      <a:pt x="9140" y="3418"/>
                    </a:lnTo>
                    <a:lnTo>
                      <a:pt x="6142" y="4709"/>
                    </a:lnTo>
                    <a:lnTo>
                      <a:pt x="3673" y="6091"/>
                    </a:lnTo>
                    <a:lnTo>
                      <a:pt x="1734" y="7532"/>
                    </a:lnTo>
                    <a:lnTo>
                      <a:pt x="529" y="8998"/>
                    </a:lnTo>
                    <a:lnTo>
                      <a:pt x="0" y="10500"/>
                    </a:lnTo>
                    <a:lnTo>
                      <a:pt x="176" y="12031"/>
                    </a:lnTo>
                    <a:lnTo>
                      <a:pt x="852" y="13558"/>
                    </a:lnTo>
                    <a:lnTo>
                      <a:pt x="2263" y="15089"/>
                    </a:lnTo>
                    <a:lnTo>
                      <a:pt x="4379" y="16590"/>
                    </a:lnTo>
                    <a:lnTo>
                      <a:pt x="6671" y="17882"/>
                    </a:lnTo>
                    <a:lnTo>
                      <a:pt x="9287" y="19138"/>
                    </a:lnTo>
                    <a:lnTo>
                      <a:pt x="12460" y="20399"/>
                    </a:lnTo>
                    <a:lnTo>
                      <a:pt x="15987" y="21600"/>
                    </a:lnTo>
                    <a:lnTo>
                      <a:pt x="16340" y="21600"/>
                    </a:lnTo>
                    <a:lnTo>
                      <a:pt x="12813" y="20399"/>
                    </a:lnTo>
                    <a:lnTo>
                      <a:pt x="9639" y="19138"/>
                    </a:lnTo>
                    <a:lnTo>
                      <a:pt x="7024" y="17882"/>
                    </a:lnTo>
                    <a:lnTo>
                      <a:pt x="4731" y="16590"/>
                    </a:lnTo>
                    <a:lnTo>
                      <a:pt x="2616" y="15089"/>
                    </a:lnTo>
                    <a:lnTo>
                      <a:pt x="1205" y="13558"/>
                    </a:lnTo>
                    <a:lnTo>
                      <a:pt x="529" y="12031"/>
                    </a:lnTo>
                    <a:lnTo>
                      <a:pt x="353" y="10500"/>
                    </a:lnTo>
                    <a:lnTo>
                      <a:pt x="353" y="10500"/>
                    </a:lnTo>
                    <a:close/>
                    <a:moveTo>
                      <a:pt x="353" y="1050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65" y="9749"/>
                    </a:moveTo>
                    <a:lnTo>
                      <a:pt x="1239" y="8548"/>
                    </a:lnTo>
                    <a:lnTo>
                      <a:pt x="2477" y="7382"/>
                    </a:lnTo>
                    <a:lnTo>
                      <a:pt x="4155" y="6181"/>
                    </a:lnTo>
                    <a:lnTo>
                      <a:pt x="6477" y="4980"/>
                    </a:lnTo>
                    <a:lnTo>
                      <a:pt x="9419" y="3778"/>
                    </a:lnTo>
                    <a:lnTo>
                      <a:pt x="12800" y="2552"/>
                    </a:lnTo>
                    <a:lnTo>
                      <a:pt x="16981" y="1291"/>
                    </a:lnTo>
                    <a:lnTo>
                      <a:pt x="19123" y="661"/>
                    </a:lnTo>
                    <a:lnTo>
                      <a:pt x="21600" y="0"/>
                    </a:lnTo>
                    <a:lnTo>
                      <a:pt x="21290" y="0"/>
                    </a:lnTo>
                    <a:lnTo>
                      <a:pt x="18813" y="661"/>
                    </a:lnTo>
                    <a:lnTo>
                      <a:pt x="16516" y="1291"/>
                    </a:lnTo>
                    <a:lnTo>
                      <a:pt x="14503" y="1922"/>
                    </a:lnTo>
                    <a:lnTo>
                      <a:pt x="12490" y="2552"/>
                    </a:lnTo>
                    <a:lnTo>
                      <a:pt x="9110" y="3778"/>
                    </a:lnTo>
                    <a:lnTo>
                      <a:pt x="6168" y="4980"/>
                    </a:lnTo>
                    <a:lnTo>
                      <a:pt x="3871" y="6181"/>
                    </a:lnTo>
                    <a:lnTo>
                      <a:pt x="2168" y="7352"/>
                    </a:lnTo>
                    <a:lnTo>
                      <a:pt x="929" y="8518"/>
                    </a:lnTo>
                    <a:lnTo>
                      <a:pt x="155" y="9719"/>
                    </a:lnTo>
                    <a:lnTo>
                      <a:pt x="0" y="11010"/>
                    </a:lnTo>
                    <a:lnTo>
                      <a:pt x="310" y="12361"/>
                    </a:lnTo>
                    <a:lnTo>
                      <a:pt x="1239" y="13708"/>
                    </a:lnTo>
                    <a:lnTo>
                      <a:pt x="2942" y="15149"/>
                    </a:lnTo>
                    <a:lnTo>
                      <a:pt x="3871" y="15870"/>
                    </a:lnTo>
                    <a:lnTo>
                      <a:pt x="5084" y="16620"/>
                    </a:lnTo>
                    <a:lnTo>
                      <a:pt x="6323" y="17401"/>
                    </a:lnTo>
                    <a:lnTo>
                      <a:pt x="7871" y="18212"/>
                    </a:lnTo>
                    <a:lnTo>
                      <a:pt x="9419" y="19018"/>
                    </a:lnTo>
                    <a:lnTo>
                      <a:pt x="11277" y="19858"/>
                    </a:lnTo>
                    <a:lnTo>
                      <a:pt x="13110" y="20699"/>
                    </a:lnTo>
                    <a:lnTo>
                      <a:pt x="15277" y="21600"/>
                    </a:lnTo>
                    <a:lnTo>
                      <a:pt x="15587" y="21600"/>
                    </a:lnTo>
                    <a:lnTo>
                      <a:pt x="13419" y="20699"/>
                    </a:lnTo>
                    <a:lnTo>
                      <a:pt x="11561" y="19858"/>
                    </a:lnTo>
                    <a:lnTo>
                      <a:pt x="9729" y="19018"/>
                    </a:lnTo>
                    <a:lnTo>
                      <a:pt x="8181" y="18212"/>
                    </a:lnTo>
                    <a:lnTo>
                      <a:pt x="6632" y="17401"/>
                    </a:lnTo>
                    <a:lnTo>
                      <a:pt x="5394" y="16650"/>
                    </a:lnTo>
                    <a:lnTo>
                      <a:pt x="4155" y="15870"/>
                    </a:lnTo>
                    <a:lnTo>
                      <a:pt x="3252" y="15149"/>
                    </a:lnTo>
                    <a:lnTo>
                      <a:pt x="1548" y="13708"/>
                    </a:lnTo>
                    <a:lnTo>
                      <a:pt x="619" y="12361"/>
                    </a:lnTo>
                    <a:lnTo>
                      <a:pt x="310" y="11040"/>
                    </a:lnTo>
                    <a:lnTo>
                      <a:pt x="465" y="9749"/>
                    </a:lnTo>
                    <a:lnTo>
                      <a:pt x="465" y="9749"/>
                    </a:lnTo>
                    <a:close/>
                    <a:moveTo>
                      <a:pt x="465" y="974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24"/>
                  </a:moveTo>
                  <a:lnTo>
                    <a:pt x="1502" y="3480"/>
                  </a:lnTo>
                  <a:lnTo>
                    <a:pt x="3433" y="6137"/>
                  </a:lnTo>
                  <a:lnTo>
                    <a:pt x="5758" y="8793"/>
                  </a:lnTo>
                  <a:lnTo>
                    <a:pt x="8118" y="11357"/>
                  </a:lnTo>
                  <a:lnTo>
                    <a:pt x="10907" y="13998"/>
                  </a:lnTo>
                  <a:lnTo>
                    <a:pt x="13911" y="16563"/>
                  </a:lnTo>
                  <a:lnTo>
                    <a:pt x="17309" y="19127"/>
                  </a:lnTo>
                  <a:lnTo>
                    <a:pt x="20956" y="21600"/>
                  </a:lnTo>
                  <a:lnTo>
                    <a:pt x="21600" y="21600"/>
                  </a:lnTo>
                  <a:lnTo>
                    <a:pt x="17738" y="19035"/>
                  </a:lnTo>
                  <a:lnTo>
                    <a:pt x="14340" y="16379"/>
                  </a:lnTo>
                  <a:lnTo>
                    <a:pt x="11122" y="13723"/>
                  </a:lnTo>
                  <a:lnTo>
                    <a:pt x="8332" y="10991"/>
                  </a:lnTo>
                  <a:lnTo>
                    <a:pt x="5758" y="8335"/>
                  </a:lnTo>
                  <a:lnTo>
                    <a:pt x="3648" y="5587"/>
                  </a:lnTo>
                  <a:lnTo>
                    <a:pt x="1717" y="2748"/>
                  </a:lnTo>
                  <a:lnTo>
                    <a:pt x="0" y="0"/>
                  </a:lnTo>
                  <a:lnTo>
                    <a:pt x="0" y="824"/>
                  </a:lnTo>
                  <a:lnTo>
                    <a:pt x="0" y="824"/>
                  </a:lnTo>
                  <a:close/>
                  <a:moveTo>
                    <a:pt x="0" y="824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21"/>
                  </a:moveTo>
                  <a:lnTo>
                    <a:pt x="10277" y="12169"/>
                  </a:lnTo>
                  <a:lnTo>
                    <a:pt x="20458" y="21600"/>
                  </a:lnTo>
                  <a:lnTo>
                    <a:pt x="21600" y="21600"/>
                  </a:lnTo>
                  <a:lnTo>
                    <a:pt x="15891" y="16732"/>
                  </a:lnTo>
                  <a:lnTo>
                    <a:pt x="10848" y="11256"/>
                  </a:lnTo>
                  <a:lnTo>
                    <a:pt x="0" y="0"/>
                  </a:lnTo>
                  <a:lnTo>
                    <a:pt x="0" y="1521"/>
                  </a:lnTo>
                  <a:lnTo>
                    <a:pt x="0" y="1521"/>
                  </a:lnTo>
                  <a:close/>
                  <a:moveTo>
                    <a:pt x="0" y="1521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802"/>
                  </a:lnTo>
                  <a:lnTo>
                    <a:pt x="21336" y="20149"/>
                  </a:lnTo>
                  <a:lnTo>
                    <a:pt x="21072" y="19508"/>
                  </a:lnTo>
                  <a:lnTo>
                    <a:pt x="20279" y="17984"/>
                  </a:lnTo>
                  <a:lnTo>
                    <a:pt x="19486" y="16460"/>
                  </a:lnTo>
                  <a:lnTo>
                    <a:pt x="17527" y="13557"/>
                  </a:lnTo>
                  <a:lnTo>
                    <a:pt x="15017" y="10873"/>
                  </a:lnTo>
                  <a:lnTo>
                    <a:pt x="12374" y="8333"/>
                  </a:lnTo>
                  <a:lnTo>
                    <a:pt x="9490" y="6023"/>
                  </a:lnTo>
                  <a:lnTo>
                    <a:pt x="6451" y="3846"/>
                  </a:lnTo>
                  <a:lnTo>
                    <a:pt x="3303" y="1814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3039" y="1814"/>
                  </a:lnTo>
                  <a:lnTo>
                    <a:pt x="6055" y="3846"/>
                  </a:lnTo>
                  <a:lnTo>
                    <a:pt x="9094" y="6023"/>
                  </a:lnTo>
                  <a:lnTo>
                    <a:pt x="12000" y="8333"/>
                  </a:lnTo>
                  <a:lnTo>
                    <a:pt x="14752" y="10873"/>
                  </a:lnTo>
                  <a:lnTo>
                    <a:pt x="17130" y="13557"/>
                  </a:lnTo>
                  <a:lnTo>
                    <a:pt x="19222" y="16460"/>
                  </a:lnTo>
                  <a:lnTo>
                    <a:pt x="20015" y="17984"/>
                  </a:lnTo>
                  <a:lnTo>
                    <a:pt x="20807" y="19580"/>
                  </a:lnTo>
                  <a:lnTo>
                    <a:pt x="21204" y="20584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987"/>
                  </a:lnTo>
                  <a:lnTo>
                    <a:pt x="17292" y="15465"/>
                  </a:lnTo>
                  <a:lnTo>
                    <a:pt x="12231" y="10123"/>
                  </a:lnTo>
                  <a:lnTo>
                    <a:pt x="6658" y="4908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6296" y="5061"/>
                  </a:lnTo>
                  <a:lnTo>
                    <a:pt x="12050" y="10429"/>
                  </a:lnTo>
                  <a:lnTo>
                    <a:pt x="17111" y="15925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661"/>
                  </a:lnTo>
                  <a:lnTo>
                    <a:pt x="11782" y="10017"/>
                  </a:lnTo>
                  <a:lnTo>
                    <a:pt x="637" y="0"/>
                  </a:lnTo>
                  <a:lnTo>
                    <a:pt x="0" y="0"/>
                  </a:lnTo>
                  <a:lnTo>
                    <a:pt x="5732" y="5322"/>
                  </a:lnTo>
                  <a:lnTo>
                    <a:pt x="11463" y="10643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864"/>
                  </a:moveTo>
                  <a:lnTo>
                    <a:pt x="0" y="21600"/>
                  </a:lnTo>
                  <a:lnTo>
                    <a:pt x="1364" y="18565"/>
                  </a:lnTo>
                  <a:lnTo>
                    <a:pt x="3183" y="15529"/>
                  </a:lnTo>
                  <a:lnTo>
                    <a:pt x="5432" y="12678"/>
                  </a:lnTo>
                  <a:lnTo>
                    <a:pt x="7857" y="9919"/>
                  </a:lnTo>
                  <a:lnTo>
                    <a:pt x="10888" y="7266"/>
                  </a:lnTo>
                  <a:lnTo>
                    <a:pt x="14046" y="4783"/>
                  </a:lnTo>
                  <a:lnTo>
                    <a:pt x="17684" y="2300"/>
                  </a:lnTo>
                  <a:lnTo>
                    <a:pt x="21600" y="0"/>
                  </a:lnTo>
                  <a:lnTo>
                    <a:pt x="21145" y="0"/>
                  </a:lnTo>
                  <a:lnTo>
                    <a:pt x="17381" y="2208"/>
                  </a:lnTo>
                  <a:lnTo>
                    <a:pt x="13895" y="4599"/>
                  </a:lnTo>
                  <a:lnTo>
                    <a:pt x="10737" y="7082"/>
                  </a:lnTo>
                  <a:lnTo>
                    <a:pt x="7857" y="9643"/>
                  </a:lnTo>
                  <a:lnTo>
                    <a:pt x="5432" y="12310"/>
                  </a:lnTo>
                  <a:lnTo>
                    <a:pt x="3335" y="15069"/>
                  </a:lnTo>
                  <a:lnTo>
                    <a:pt x="1516" y="17921"/>
                  </a:lnTo>
                  <a:lnTo>
                    <a:pt x="0" y="20864"/>
                  </a:lnTo>
                  <a:lnTo>
                    <a:pt x="0" y="20864"/>
                  </a:lnTo>
                  <a:close/>
                  <a:moveTo>
                    <a:pt x="0" y="20864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937" y="0"/>
                  </a:lnTo>
                  <a:lnTo>
                    <a:pt x="15002" y="4760"/>
                  </a:lnTo>
                  <a:lnTo>
                    <a:pt x="9473" y="9736"/>
                  </a:lnTo>
                  <a:lnTo>
                    <a:pt x="4423" y="15145"/>
                  </a:lnTo>
                  <a:lnTo>
                    <a:pt x="0" y="20735"/>
                  </a:lnTo>
                  <a:lnTo>
                    <a:pt x="0" y="21600"/>
                  </a:lnTo>
                  <a:lnTo>
                    <a:pt x="4423" y="15578"/>
                  </a:lnTo>
                  <a:lnTo>
                    <a:pt x="9473" y="10169"/>
                  </a:lnTo>
                  <a:lnTo>
                    <a:pt x="15223" y="497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155" y="0"/>
                  </a:lnTo>
                  <a:lnTo>
                    <a:pt x="9636" y="9771"/>
                  </a:lnTo>
                  <a:lnTo>
                    <a:pt x="4818" y="14914"/>
                  </a:lnTo>
                  <a:lnTo>
                    <a:pt x="0" y="20057"/>
                  </a:lnTo>
                  <a:lnTo>
                    <a:pt x="0" y="21600"/>
                  </a:lnTo>
                  <a:lnTo>
                    <a:pt x="10117" y="1028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4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1440" y="622440"/>
              <a:ext cx="9140760" cy="2495520"/>
              <a:chOff x="1440" y="622440"/>
              <a:chExt cx="9140760" cy="2495520"/>
            </a:xfrm>
          </p:grpSpPr>
          <p:sp>
            <p:nvSpPr>
              <p:cNvPr id="188" name=""/>
              <p:cNvSpPr/>
              <p:nvPr/>
            </p:nvSpPr>
            <p:spPr>
              <a:xfrm>
                <a:off x="1440" y="124488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40" y="311652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40" y="24926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440" y="186876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44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44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4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"/>
          <p:cNvSpPr txBox="1"/>
          <p:nvPr/>
        </p:nvSpPr>
        <p:spPr>
          <a:xfrm>
            <a:off x="7481520" y="6243480"/>
            <a:ext cx="2746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AF09-86FD-450D-A59C-39ADEAF88D97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4800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graph shows the unemployment rates of several nations, including Germany, for young adults aged 15-24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668664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199" name="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20"/>
                  </a:moveTo>
                  <a:lnTo>
                    <a:pt x="21600" y="0"/>
                  </a:lnTo>
                  <a:lnTo>
                    <a:pt x="21058" y="1291"/>
                  </a:lnTo>
                  <a:lnTo>
                    <a:pt x="20335" y="2671"/>
                  </a:lnTo>
                  <a:lnTo>
                    <a:pt x="18889" y="4972"/>
                  </a:lnTo>
                  <a:lnTo>
                    <a:pt x="17292" y="7272"/>
                  </a:lnTo>
                  <a:lnTo>
                    <a:pt x="15123" y="9573"/>
                  </a:lnTo>
                  <a:lnTo>
                    <a:pt x="12773" y="11950"/>
                  </a:lnTo>
                  <a:lnTo>
                    <a:pt x="10062" y="14328"/>
                  </a:lnTo>
                  <a:lnTo>
                    <a:pt x="7019" y="16769"/>
                  </a:lnTo>
                  <a:lnTo>
                    <a:pt x="3766" y="19146"/>
                  </a:lnTo>
                  <a:lnTo>
                    <a:pt x="0" y="21600"/>
                  </a:lnTo>
                  <a:lnTo>
                    <a:pt x="331" y="21600"/>
                  </a:lnTo>
                  <a:lnTo>
                    <a:pt x="4127" y="19146"/>
                  </a:lnTo>
                  <a:lnTo>
                    <a:pt x="7381" y="16769"/>
                  </a:lnTo>
                  <a:lnTo>
                    <a:pt x="10423" y="14328"/>
                  </a:lnTo>
                  <a:lnTo>
                    <a:pt x="13135" y="11950"/>
                  </a:lnTo>
                  <a:lnTo>
                    <a:pt x="15485" y="9573"/>
                  </a:lnTo>
                  <a:lnTo>
                    <a:pt x="17623" y="7272"/>
                  </a:lnTo>
                  <a:lnTo>
                    <a:pt x="19250" y="4972"/>
                  </a:lnTo>
                  <a:lnTo>
                    <a:pt x="20696" y="2671"/>
                  </a:lnTo>
                  <a:lnTo>
                    <a:pt x="21238" y="1828"/>
                  </a:lnTo>
                  <a:lnTo>
                    <a:pt x="21600" y="920"/>
                  </a:lnTo>
                  <a:lnTo>
                    <a:pt x="21600" y="920"/>
                  </a:lnTo>
                  <a:close/>
                  <a:moveTo>
                    <a:pt x="21600" y="92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6787" y="5462"/>
                  </a:lnTo>
                  <a:lnTo>
                    <a:pt x="11688" y="10924"/>
                  </a:lnTo>
                  <a:lnTo>
                    <a:pt x="5844" y="16386"/>
                  </a:lnTo>
                  <a:lnTo>
                    <a:pt x="0" y="21600"/>
                  </a:lnTo>
                  <a:lnTo>
                    <a:pt x="688" y="21600"/>
                  </a:lnTo>
                  <a:lnTo>
                    <a:pt x="6532" y="16634"/>
                  </a:lnTo>
                  <a:lnTo>
                    <a:pt x="11688" y="11669"/>
                  </a:lnTo>
                  <a:lnTo>
                    <a:pt x="21600" y="993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629" y="21600"/>
                  </a:lnTo>
                  <a:lnTo>
                    <a:pt x="12343" y="12706"/>
                  </a:lnTo>
                  <a:lnTo>
                    <a:pt x="21600" y="5082"/>
                  </a:lnTo>
                  <a:lnTo>
                    <a:pt x="21600" y="0"/>
                  </a:lnTo>
                  <a:lnTo>
                    <a:pt x="10800" y="11435"/>
                  </a:lnTo>
                  <a:lnTo>
                    <a:pt x="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203" name="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8000" y="21600"/>
                    </a:lnTo>
                    <a:lnTo>
                      <a:pt x="21600" y="21600"/>
                    </a:lnTo>
                    <a:lnTo>
                      <a:pt x="36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979" y="0"/>
                    </a:moveTo>
                    <a:lnTo>
                      <a:pt x="1490" y="0"/>
                    </a:lnTo>
                    <a:lnTo>
                      <a:pt x="5214" y="1081"/>
                    </a:lnTo>
                    <a:lnTo>
                      <a:pt x="8938" y="2222"/>
                    </a:lnTo>
                    <a:lnTo>
                      <a:pt x="11917" y="3448"/>
                    </a:lnTo>
                    <a:lnTo>
                      <a:pt x="14897" y="4739"/>
                    </a:lnTo>
                    <a:lnTo>
                      <a:pt x="16386" y="6061"/>
                    </a:lnTo>
                    <a:lnTo>
                      <a:pt x="18621" y="7442"/>
                    </a:lnTo>
                    <a:lnTo>
                      <a:pt x="19366" y="8848"/>
                    </a:lnTo>
                    <a:lnTo>
                      <a:pt x="20110" y="10320"/>
                    </a:lnTo>
                    <a:lnTo>
                      <a:pt x="19366" y="13232"/>
                    </a:lnTo>
                    <a:lnTo>
                      <a:pt x="15641" y="16140"/>
                    </a:lnTo>
                    <a:lnTo>
                      <a:pt x="13407" y="17551"/>
                    </a:lnTo>
                    <a:lnTo>
                      <a:pt x="9683" y="18958"/>
                    </a:lnTo>
                    <a:lnTo>
                      <a:pt x="5214" y="20309"/>
                    </a:lnTo>
                    <a:lnTo>
                      <a:pt x="0" y="21600"/>
                    </a:lnTo>
                    <a:lnTo>
                      <a:pt x="1490" y="21600"/>
                    </a:lnTo>
                    <a:lnTo>
                      <a:pt x="6703" y="20309"/>
                    </a:lnTo>
                    <a:lnTo>
                      <a:pt x="11172" y="18928"/>
                    </a:lnTo>
                    <a:lnTo>
                      <a:pt x="14897" y="17551"/>
                    </a:lnTo>
                    <a:lnTo>
                      <a:pt x="17131" y="16110"/>
                    </a:lnTo>
                    <a:lnTo>
                      <a:pt x="20855" y="13202"/>
                    </a:lnTo>
                    <a:lnTo>
                      <a:pt x="21600" y="10290"/>
                    </a:lnTo>
                    <a:lnTo>
                      <a:pt x="20855" y="8848"/>
                    </a:lnTo>
                    <a:lnTo>
                      <a:pt x="20110" y="7442"/>
                    </a:lnTo>
                    <a:lnTo>
                      <a:pt x="17876" y="6061"/>
                    </a:lnTo>
                    <a:lnTo>
                      <a:pt x="16386" y="4709"/>
                    </a:lnTo>
                    <a:lnTo>
                      <a:pt x="13407" y="3448"/>
                    </a:lnTo>
                    <a:lnTo>
                      <a:pt x="10428" y="2222"/>
                    </a:lnTo>
                    <a:lnTo>
                      <a:pt x="6703" y="1081"/>
                    </a:lnTo>
                    <a:lnTo>
                      <a:pt x="2979" y="0"/>
                    </a:lnTo>
                    <a:lnTo>
                      <a:pt x="2979" y="0"/>
                    </a:lnTo>
                    <a:close/>
                    <a:moveTo>
                      <a:pt x="2979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213" y="10079"/>
                    </a:moveTo>
                    <a:lnTo>
                      <a:pt x="20439" y="8638"/>
                    </a:lnTo>
                    <a:lnTo>
                      <a:pt x="18892" y="7232"/>
                    </a:lnTo>
                    <a:lnTo>
                      <a:pt x="16958" y="5880"/>
                    </a:lnTo>
                    <a:lnTo>
                      <a:pt x="14701" y="4589"/>
                    </a:lnTo>
                    <a:lnTo>
                      <a:pt x="11993" y="3328"/>
                    </a:lnTo>
                    <a:lnTo>
                      <a:pt x="8511" y="2162"/>
                    </a:lnTo>
                    <a:lnTo>
                      <a:pt x="5029" y="1021"/>
                    </a:lnTo>
                    <a:lnTo>
                      <a:pt x="774" y="0"/>
                    </a:lnTo>
                    <a:lnTo>
                      <a:pt x="0" y="0"/>
                    </a:lnTo>
                    <a:lnTo>
                      <a:pt x="4256" y="1021"/>
                    </a:lnTo>
                    <a:lnTo>
                      <a:pt x="7737" y="2162"/>
                    </a:lnTo>
                    <a:lnTo>
                      <a:pt x="11219" y="3328"/>
                    </a:lnTo>
                    <a:lnTo>
                      <a:pt x="13927" y="4589"/>
                    </a:lnTo>
                    <a:lnTo>
                      <a:pt x="16184" y="5880"/>
                    </a:lnTo>
                    <a:lnTo>
                      <a:pt x="18118" y="7232"/>
                    </a:lnTo>
                    <a:lnTo>
                      <a:pt x="19666" y="8638"/>
                    </a:lnTo>
                    <a:lnTo>
                      <a:pt x="20439" y="10079"/>
                    </a:lnTo>
                    <a:lnTo>
                      <a:pt x="20826" y="11581"/>
                    </a:lnTo>
                    <a:lnTo>
                      <a:pt x="20439" y="13052"/>
                    </a:lnTo>
                    <a:lnTo>
                      <a:pt x="19666" y="14548"/>
                    </a:lnTo>
                    <a:lnTo>
                      <a:pt x="18118" y="16020"/>
                    </a:lnTo>
                    <a:lnTo>
                      <a:pt x="16571" y="17461"/>
                    </a:lnTo>
                    <a:lnTo>
                      <a:pt x="13927" y="18903"/>
                    </a:lnTo>
                    <a:lnTo>
                      <a:pt x="11219" y="20279"/>
                    </a:lnTo>
                    <a:lnTo>
                      <a:pt x="7737" y="21600"/>
                    </a:lnTo>
                    <a:lnTo>
                      <a:pt x="8511" y="21600"/>
                    </a:lnTo>
                    <a:lnTo>
                      <a:pt x="11993" y="20279"/>
                    </a:lnTo>
                    <a:lnTo>
                      <a:pt x="14701" y="18903"/>
                    </a:lnTo>
                    <a:lnTo>
                      <a:pt x="17344" y="17461"/>
                    </a:lnTo>
                    <a:lnTo>
                      <a:pt x="18892" y="16020"/>
                    </a:lnTo>
                    <a:lnTo>
                      <a:pt x="20439" y="14548"/>
                    </a:lnTo>
                    <a:lnTo>
                      <a:pt x="21213" y="13052"/>
                    </a:lnTo>
                    <a:lnTo>
                      <a:pt x="21600" y="11581"/>
                    </a:lnTo>
                    <a:lnTo>
                      <a:pt x="21213" y="10079"/>
                    </a:lnTo>
                    <a:lnTo>
                      <a:pt x="21213" y="10079"/>
                    </a:lnTo>
                    <a:close/>
                    <a:moveTo>
                      <a:pt x="21213" y="1007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990" y="9629"/>
                    </a:moveTo>
                    <a:lnTo>
                      <a:pt x="20075" y="8458"/>
                    </a:lnTo>
                    <a:lnTo>
                      <a:pt x="18551" y="7292"/>
                    </a:lnTo>
                    <a:lnTo>
                      <a:pt x="16721" y="6151"/>
                    </a:lnTo>
                    <a:lnTo>
                      <a:pt x="14281" y="5010"/>
                    </a:lnTo>
                    <a:lnTo>
                      <a:pt x="11537" y="3809"/>
                    </a:lnTo>
                    <a:lnTo>
                      <a:pt x="8233" y="2612"/>
                    </a:lnTo>
                    <a:lnTo>
                      <a:pt x="4574" y="1351"/>
                    </a:lnTo>
                    <a:lnTo>
                      <a:pt x="610" y="0"/>
                    </a:lnTo>
                    <a:lnTo>
                      <a:pt x="0" y="0"/>
                    </a:lnTo>
                    <a:lnTo>
                      <a:pt x="4269" y="1351"/>
                    </a:lnTo>
                    <a:lnTo>
                      <a:pt x="7928" y="2612"/>
                    </a:lnTo>
                    <a:lnTo>
                      <a:pt x="10978" y="3839"/>
                    </a:lnTo>
                    <a:lnTo>
                      <a:pt x="13976" y="5010"/>
                    </a:lnTo>
                    <a:lnTo>
                      <a:pt x="16111" y="6181"/>
                    </a:lnTo>
                    <a:lnTo>
                      <a:pt x="17941" y="7322"/>
                    </a:lnTo>
                    <a:lnTo>
                      <a:pt x="19465" y="8458"/>
                    </a:lnTo>
                    <a:lnTo>
                      <a:pt x="20380" y="9629"/>
                    </a:lnTo>
                    <a:lnTo>
                      <a:pt x="20990" y="10950"/>
                    </a:lnTo>
                    <a:lnTo>
                      <a:pt x="20685" y="12301"/>
                    </a:lnTo>
                    <a:lnTo>
                      <a:pt x="20075" y="13678"/>
                    </a:lnTo>
                    <a:lnTo>
                      <a:pt x="18551" y="15119"/>
                    </a:lnTo>
                    <a:lnTo>
                      <a:pt x="16721" y="16620"/>
                    </a:lnTo>
                    <a:lnTo>
                      <a:pt x="13976" y="18212"/>
                    </a:lnTo>
                    <a:lnTo>
                      <a:pt x="10368" y="19858"/>
                    </a:lnTo>
                    <a:lnTo>
                      <a:pt x="6404" y="21600"/>
                    </a:lnTo>
                    <a:lnTo>
                      <a:pt x="7014" y="21600"/>
                    </a:lnTo>
                    <a:lnTo>
                      <a:pt x="10978" y="19858"/>
                    </a:lnTo>
                    <a:lnTo>
                      <a:pt x="14586" y="18212"/>
                    </a:lnTo>
                    <a:lnTo>
                      <a:pt x="17331" y="16620"/>
                    </a:lnTo>
                    <a:lnTo>
                      <a:pt x="19160" y="15119"/>
                    </a:lnTo>
                    <a:lnTo>
                      <a:pt x="20685" y="13678"/>
                    </a:lnTo>
                    <a:lnTo>
                      <a:pt x="21295" y="12301"/>
                    </a:lnTo>
                    <a:lnTo>
                      <a:pt x="21600" y="10950"/>
                    </a:lnTo>
                    <a:lnTo>
                      <a:pt x="20990" y="9629"/>
                    </a:lnTo>
                    <a:lnTo>
                      <a:pt x="20990" y="9629"/>
                    </a:lnTo>
                    <a:close/>
                    <a:moveTo>
                      <a:pt x="20990" y="962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109"/>
                    </a:moveTo>
                    <a:lnTo>
                      <a:pt x="20901" y="8668"/>
                    </a:lnTo>
                    <a:lnTo>
                      <a:pt x="19541" y="7232"/>
                    </a:lnTo>
                    <a:lnTo>
                      <a:pt x="17676" y="5880"/>
                    </a:lnTo>
                    <a:lnTo>
                      <a:pt x="15345" y="4559"/>
                    </a:lnTo>
                    <a:lnTo>
                      <a:pt x="12315" y="3298"/>
                    </a:lnTo>
                    <a:lnTo>
                      <a:pt x="8858" y="2132"/>
                    </a:lnTo>
                    <a:lnTo>
                      <a:pt x="4895" y="1021"/>
                    </a:lnTo>
                    <a:lnTo>
                      <a:pt x="466" y="0"/>
                    </a:lnTo>
                    <a:lnTo>
                      <a:pt x="0" y="0"/>
                    </a:lnTo>
                    <a:lnTo>
                      <a:pt x="4429" y="1021"/>
                    </a:lnTo>
                    <a:lnTo>
                      <a:pt x="8391" y="2132"/>
                    </a:lnTo>
                    <a:lnTo>
                      <a:pt x="11849" y="3298"/>
                    </a:lnTo>
                    <a:lnTo>
                      <a:pt x="14879" y="4559"/>
                    </a:lnTo>
                    <a:lnTo>
                      <a:pt x="17210" y="5880"/>
                    </a:lnTo>
                    <a:lnTo>
                      <a:pt x="19075" y="7232"/>
                    </a:lnTo>
                    <a:lnTo>
                      <a:pt x="20435" y="8668"/>
                    </a:lnTo>
                    <a:lnTo>
                      <a:pt x="21134" y="10109"/>
                    </a:lnTo>
                    <a:lnTo>
                      <a:pt x="21134" y="11641"/>
                    </a:lnTo>
                    <a:lnTo>
                      <a:pt x="20668" y="13172"/>
                    </a:lnTo>
                    <a:lnTo>
                      <a:pt x="19541" y="14669"/>
                    </a:lnTo>
                    <a:lnTo>
                      <a:pt x="17676" y="16140"/>
                    </a:lnTo>
                    <a:lnTo>
                      <a:pt x="15112" y="17581"/>
                    </a:lnTo>
                    <a:lnTo>
                      <a:pt x="12082" y="18958"/>
                    </a:lnTo>
                    <a:lnTo>
                      <a:pt x="8391" y="20309"/>
                    </a:lnTo>
                    <a:lnTo>
                      <a:pt x="3963" y="21600"/>
                    </a:lnTo>
                    <a:lnTo>
                      <a:pt x="4429" y="21600"/>
                    </a:lnTo>
                    <a:lnTo>
                      <a:pt x="8858" y="20309"/>
                    </a:lnTo>
                    <a:lnTo>
                      <a:pt x="12548" y="18958"/>
                    </a:lnTo>
                    <a:lnTo>
                      <a:pt x="15578" y="17581"/>
                    </a:lnTo>
                    <a:lnTo>
                      <a:pt x="18142" y="16140"/>
                    </a:lnTo>
                    <a:lnTo>
                      <a:pt x="20007" y="14669"/>
                    </a:lnTo>
                    <a:lnTo>
                      <a:pt x="21134" y="13172"/>
                    </a:lnTo>
                    <a:lnTo>
                      <a:pt x="21600" y="11641"/>
                    </a:lnTo>
                    <a:lnTo>
                      <a:pt x="21600" y="10109"/>
                    </a:lnTo>
                    <a:lnTo>
                      <a:pt x="21600" y="10109"/>
                    </a:lnTo>
                    <a:close/>
                    <a:moveTo>
                      <a:pt x="21600" y="1010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440"/>
                    </a:moveTo>
                    <a:lnTo>
                      <a:pt x="21035" y="9058"/>
                    </a:lnTo>
                    <a:lnTo>
                      <a:pt x="19905" y="7712"/>
                    </a:lnTo>
                    <a:lnTo>
                      <a:pt x="18021" y="6361"/>
                    </a:lnTo>
                    <a:lnTo>
                      <a:pt x="15603" y="5040"/>
                    </a:lnTo>
                    <a:lnTo>
                      <a:pt x="12590" y="3748"/>
                    </a:lnTo>
                    <a:lnTo>
                      <a:pt x="9199" y="2462"/>
                    </a:lnTo>
                    <a:lnTo>
                      <a:pt x="5086" y="1201"/>
                    </a:lnTo>
                    <a:lnTo>
                      <a:pt x="377" y="0"/>
                    </a:lnTo>
                    <a:lnTo>
                      <a:pt x="0" y="0"/>
                    </a:lnTo>
                    <a:lnTo>
                      <a:pt x="4709" y="1201"/>
                    </a:lnTo>
                    <a:lnTo>
                      <a:pt x="8822" y="2462"/>
                    </a:lnTo>
                    <a:lnTo>
                      <a:pt x="12213" y="3748"/>
                    </a:lnTo>
                    <a:lnTo>
                      <a:pt x="15227" y="5040"/>
                    </a:lnTo>
                    <a:lnTo>
                      <a:pt x="17644" y="6361"/>
                    </a:lnTo>
                    <a:lnTo>
                      <a:pt x="19528" y="7712"/>
                    </a:lnTo>
                    <a:lnTo>
                      <a:pt x="20658" y="9058"/>
                    </a:lnTo>
                    <a:lnTo>
                      <a:pt x="21223" y="10440"/>
                    </a:lnTo>
                    <a:lnTo>
                      <a:pt x="21223" y="11851"/>
                    </a:lnTo>
                    <a:lnTo>
                      <a:pt x="20658" y="13262"/>
                    </a:lnTo>
                    <a:lnTo>
                      <a:pt x="19340" y="14669"/>
                    </a:lnTo>
                    <a:lnTo>
                      <a:pt x="17456" y="16080"/>
                    </a:lnTo>
                    <a:lnTo>
                      <a:pt x="14850" y="17491"/>
                    </a:lnTo>
                    <a:lnTo>
                      <a:pt x="11648" y="18903"/>
                    </a:lnTo>
                    <a:lnTo>
                      <a:pt x="7880" y="20249"/>
                    </a:lnTo>
                    <a:lnTo>
                      <a:pt x="3579" y="21600"/>
                    </a:lnTo>
                    <a:lnTo>
                      <a:pt x="3956" y="21600"/>
                    </a:lnTo>
                    <a:lnTo>
                      <a:pt x="8257" y="20249"/>
                    </a:lnTo>
                    <a:lnTo>
                      <a:pt x="12024" y="18903"/>
                    </a:lnTo>
                    <a:lnTo>
                      <a:pt x="15227" y="17491"/>
                    </a:lnTo>
                    <a:lnTo>
                      <a:pt x="17833" y="16110"/>
                    </a:lnTo>
                    <a:lnTo>
                      <a:pt x="19716" y="14699"/>
                    </a:lnTo>
                    <a:lnTo>
                      <a:pt x="21035" y="13292"/>
                    </a:lnTo>
                    <a:lnTo>
                      <a:pt x="21600" y="11851"/>
                    </a:lnTo>
                    <a:lnTo>
                      <a:pt x="21600" y="10440"/>
                    </a:lnTo>
                    <a:lnTo>
                      <a:pt x="21600" y="10440"/>
                    </a:lnTo>
                    <a:close/>
                    <a:moveTo>
                      <a:pt x="21600" y="104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449" y="10650"/>
                    </a:moveTo>
                    <a:lnTo>
                      <a:pt x="20847" y="9178"/>
                    </a:lnTo>
                    <a:lnTo>
                      <a:pt x="20270" y="8428"/>
                    </a:lnTo>
                    <a:lnTo>
                      <a:pt x="19668" y="7712"/>
                    </a:lnTo>
                    <a:lnTo>
                      <a:pt x="18765" y="6991"/>
                    </a:lnTo>
                    <a:lnTo>
                      <a:pt x="17862" y="6271"/>
                    </a:lnTo>
                    <a:lnTo>
                      <a:pt x="16658" y="5580"/>
                    </a:lnTo>
                    <a:lnTo>
                      <a:pt x="15303" y="4890"/>
                    </a:lnTo>
                    <a:lnTo>
                      <a:pt x="12318" y="3598"/>
                    </a:lnTo>
                    <a:lnTo>
                      <a:pt x="8856" y="2342"/>
                    </a:lnTo>
                    <a:lnTo>
                      <a:pt x="4817" y="1141"/>
                    </a:lnTo>
                    <a:lnTo>
                      <a:pt x="301" y="0"/>
                    </a:lnTo>
                    <a:lnTo>
                      <a:pt x="0" y="0"/>
                    </a:lnTo>
                    <a:lnTo>
                      <a:pt x="4516" y="1141"/>
                    </a:lnTo>
                    <a:lnTo>
                      <a:pt x="8555" y="2342"/>
                    </a:lnTo>
                    <a:lnTo>
                      <a:pt x="12017" y="3598"/>
                    </a:lnTo>
                    <a:lnTo>
                      <a:pt x="15002" y="4920"/>
                    </a:lnTo>
                    <a:lnTo>
                      <a:pt x="16357" y="5610"/>
                    </a:lnTo>
                    <a:lnTo>
                      <a:pt x="17561" y="6301"/>
                    </a:lnTo>
                    <a:lnTo>
                      <a:pt x="18464" y="7022"/>
                    </a:lnTo>
                    <a:lnTo>
                      <a:pt x="19367" y="7742"/>
                    </a:lnTo>
                    <a:lnTo>
                      <a:pt x="20120" y="8458"/>
                    </a:lnTo>
                    <a:lnTo>
                      <a:pt x="20546" y="9178"/>
                    </a:lnTo>
                    <a:lnTo>
                      <a:pt x="20998" y="9929"/>
                    </a:lnTo>
                    <a:lnTo>
                      <a:pt x="21148" y="10650"/>
                    </a:lnTo>
                    <a:lnTo>
                      <a:pt x="21299" y="11401"/>
                    </a:lnTo>
                    <a:lnTo>
                      <a:pt x="21148" y="12151"/>
                    </a:lnTo>
                    <a:lnTo>
                      <a:pt x="20847" y="12872"/>
                    </a:lnTo>
                    <a:lnTo>
                      <a:pt x="20546" y="13618"/>
                    </a:lnTo>
                    <a:lnTo>
                      <a:pt x="19969" y="14338"/>
                    </a:lnTo>
                    <a:lnTo>
                      <a:pt x="19217" y="15089"/>
                    </a:lnTo>
                    <a:lnTo>
                      <a:pt x="18163" y="15810"/>
                    </a:lnTo>
                    <a:lnTo>
                      <a:pt x="17109" y="16530"/>
                    </a:lnTo>
                    <a:lnTo>
                      <a:pt x="14701" y="17852"/>
                    </a:lnTo>
                    <a:lnTo>
                      <a:pt x="11866" y="19138"/>
                    </a:lnTo>
                    <a:lnTo>
                      <a:pt x="8404" y="20399"/>
                    </a:lnTo>
                    <a:lnTo>
                      <a:pt x="4516" y="21600"/>
                    </a:lnTo>
                    <a:lnTo>
                      <a:pt x="4817" y="21600"/>
                    </a:lnTo>
                    <a:lnTo>
                      <a:pt x="8705" y="20399"/>
                    </a:lnTo>
                    <a:lnTo>
                      <a:pt x="12167" y="19138"/>
                    </a:lnTo>
                    <a:lnTo>
                      <a:pt x="15002" y="17882"/>
                    </a:lnTo>
                    <a:lnTo>
                      <a:pt x="17410" y="16560"/>
                    </a:lnTo>
                    <a:lnTo>
                      <a:pt x="18464" y="15840"/>
                    </a:lnTo>
                    <a:lnTo>
                      <a:pt x="19518" y="15119"/>
                    </a:lnTo>
                    <a:lnTo>
                      <a:pt x="20270" y="14368"/>
                    </a:lnTo>
                    <a:lnTo>
                      <a:pt x="20847" y="13648"/>
                    </a:lnTo>
                    <a:lnTo>
                      <a:pt x="21148" y="12902"/>
                    </a:lnTo>
                    <a:lnTo>
                      <a:pt x="21449" y="12151"/>
                    </a:lnTo>
                    <a:lnTo>
                      <a:pt x="21600" y="11401"/>
                    </a:lnTo>
                    <a:lnTo>
                      <a:pt x="21449" y="10650"/>
                    </a:lnTo>
                    <a:lnTo>
                      <a:pt x="21449" y="10650"/>
                    </a:lnTo>
                    <a:close/>
                    <a:moveTo>
                      <a:pt x="21449" y="1065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609" y="9719"/>
                    </a:moveTo>
                    <a:lnTo>
                      <a:pt x="4349" y="8158"/>
                    </a:lnTo>
                    <a:lnTo>
                      <a:pt x="6089" y="6661"/>
                    </a:lnTo>
                    <a:lnTo>
                      <a:pt x="8553" y="5280"/>
                    </a:lnTo>
                    <a:lnTo>
                      <a:pt x="11162" y="3959"/>
                    </a:lnTo>
                    <a:lnTo>
                      <a:pt x="12032" y="3358"/>
                    </a:lnTo>
                    <a:lnTo>
                      <a:pt x="13772" y="2788"/>
                    </a:lnTo>
                    <a:lnTo>
                      <a:pt x="15511" y="2222"/>
                    </a:lnTo>
                    <a:lnTo>
                      <a:pt x="16381" y="1712"/>
                    </a:lnTo>
                    <a:lnTo>
                      <a:pt x="18121" y="1231"/>
                    </a:lnTo>
                    <a:lnTo>
                      <a:pt x="18991" y="781"/>
                    </a:lnTo>
                    <a:lnTo>
                      <a:pt x="20730" y="360"/>
                    </a:lnTo>
                    <a:lnTo>
                      <a:pt x="21600" y="0"/>
                    </a:lnTo>
                    <a:lnTo>
                      <a:pt x="19860" y="0"/>
                    </a:lnTo>
                    <a:lnTo>
                      <a:pt x="18991" y="360"/>
                    </a:lnTo>
                    <a:lnTo>
                      <a:pt x="17251" y="781"/>
                    </a:lnTo>
                    <a:lnTo>
                      <a:pt x="16381" y="1231"/>
                    </a:lnTo>
                    <a:lnTo>
                      <a:pt x="14642" y="1712"/>
                    </a:lnTo>
                    <a:lnTo>
                      <a:pt x="13772" y="2222"/>
                    </a:lnTo>
                    <a:lnTo>
                      <a:pt x="12032" y="2788"/>
                    </a:lnTo>
                    <a:lnTo>
                      <a:pt x="10293" y="3358"/>
                    </a:lnTo>
                    <a:lnTo>
                      <a:pt x="9423" y="3959"/>
                    </a:lnTo>
                    <a:lnTo>
                      <a:pt x="6958" y="5280"/>
                    </a:lnTo>
                    <a:lnTo>
                      <a:pt x="4349" y="6661"/>
                    </a:lnTo>
                    <a:lnTo>
                      <a:pt x="2609" y="8158"/>
                    </a:lnTo>
                    <a:lnTo>
                      <a:pt x="870" y="9719"/>
                    </a:lnTo>
                    <a:lnTo>
                      <a:pt x="0" y="11401"/>
                    </a:lnTo>
                    <a:lnTo>
                      <a:pt x="870" y="13022"/>
                    </a:lnTo>
                    <a:lnTo>
                      <a:pt x="1740" y="14609"/>
                    </a:lnTo>
                    <a:lnTo>
                      <a:pt x="3479" y="16110"/>
                    </a:lnTo>
                    <a:lnTo>
                      <a:pt x="5219" y="17581"/>
                    </a:lnTo>
                    <a:lnTo>
                      <a:pt x="8553" y="18988"/>
                    </a:lnTo>
                    <a:lnTo>
                      <a:pt x="12902" y="20309"/>
                    </a:lnTo>
                    <a:lnTo>
                      <a:pt x="18121" y="21600"/>
                    </a:lnTo>
                    <a:lnTo>
                      <a:pt x="19860" y="21600"/>
                    </a:lnTo>
                    <a:lnTo>
                      <a:pt x="14642" y="20309"/>
                    </a:lnTo>
                    <a:lnTo>
                      <a:pt x="10293" y="18988"/>
                    </a:lnTo>
                    <a:lnTo>
                      <a:pt x="6958" y="17581"/>
                    </a:lnTo>
                    <a:lnTo>
                      <a:pt x="5219" y="16140"/>
                    </a:lnTo>
                    <a:lnTo>
                      <a:pt x="3479" y="14609"/>
                    </a:lnTo>
                    <a:lnTo>
                      <a:pt x="2609" y="13052"/>
                    </a:lnTo>
                    <a:lnTo>
                      <a:pt x="1740" y="11401"/>
                    </a:lnTo>
                    <a:lnTo>
                      <a:pt x="2609" y="9719"/>
                    </a:lnTo>
                    <a:lnTo>
                      <a:pt x="2609" y="9719"/>
                    </a:lnTo>
                    <a:close/>
                    <a:moveTo>
                      <a:pt x="2609" y="971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00" y="10320"/>
                    </a:moveTo>
                    <a:lnTo>
                      <a:pt x="2167" y="8758"/>
                    </a:lnTo>
                    <a:lnTo>
                      <a:pt x="3901" y="7262"/>
                    </a:lnTo>
                    <a:lnTo>
                      <a:pt x="6068" y="5850"/>
                    </a:lnTo>
                    <a:lnTo>
                      <a:pt x="9102" y="4499"/>
                    </a:lnTo>
                    <a:lnTo>
                      <a:pt x="11703" y="3208"/>
                    </a:lnTo>
                    <a:lnTo>
                      <a:pt x="15098" y="2042"/>
                    </a:lnTo>
                    <a:lnTo>
                      <a:pt x="18132" y="961"/>
                    </a:lnTo>
                    <a:lnTo>
                      <a:pt x="21600" y="0"/>
                    </a:lnTo>
                    <a:lnTo>
                      <a:pt x="20733" y="0"/>
                    </a:lnTo>
                    <a:lnTo>
                      <a:pt x="17266" y="961"/>
                    </a:lnTo>
                    <a:lnTo>
                      <a:pt x="14304" y="2042"/>
                    </a:lnTo>
                    <a:lnTo>
                      <a:pt x="11270" y="3208"/>
                    </a:lnTo>
                    <a:lnTo>
                      <a:pt x="8235" y="4499"/>
                    </a:lnTo>
                    <a:lnTo>
                      <a:pt x="5635" y="5850"/>
                    </a:lnTo>
                    <a:lnTo>
                      <a:pt x="3468" y="7262"/>
                    </a:lnTo>
                    <a:lnTo>
                      <a:pt x="1734" y="8758"/>
                    </a:lnTo>
                    <a:lnTo>
                      <a:pt x="433" y="10320"/>
                    </a:lnTo>
                    <a:lnTo>
                      <a:pt x="0" y="11881"/>
                    </a:lnTo>
                    <a:lnTo>
                      <a:pt x="867" y="13382"/>
                    </a:lnTo>
                    <a:lnTo>
                      <a:pt x="2167" y="14879"/>
                    </a:lnTo>
                    <a:lnTo>
                      <a:pt x="3901" y="16290"/>
                    </a:lnTo>
                    <a:lnTo>
                      <a:pt x="6935" y="17701"/>
                    </a:lnTo>
                    <a:lnTo>
                      <a:pt x="10403" y="19048"/>
                    </a:lnTo>
                    <a:lnTo>
                      <a:pt x="14665" y="20339"/>
                    </a:lnTo>
                    <a:lnTo>
                      <a:pt x="19866" y="21600"/>
                    </a:lnTo>
                    <a:lnTo>
                      <a:pt x="20733" y="21600"/>
                    </a:lnTo>
                    <a:lnTo>
                      <a:pt x="15532" y="20339"/>
                    </a:lnTo>
                    <a:lnTo>
                      <a:pt x="11270" y="19048"/>
                    </a:lnTo>
                    <a:lnTo>
                      <a:pt x="7802" y="17701"/>
                    </a:lnTo>
                    <a:lnTo>
                      <a:pt x="4768" y="16320"/>
                    </a:lnTo>
                    <a:lnTo>
                      <a:pt x="3034" y="14879"/>
                    </a:lnTo>
                    <a:lnTo>
                      <a:pt x="1734" y="13412"/>
                    </a:lnTo>
                    <a:lnTo>
                      <a:pt x="867" y="11881"/>
                    </a:lnTo>
                    <a:lnTo>
                      <a:pt x="1300" y="10320"/>
                    </a:lnTo>
                    <a:lnTo>
                      <a:pt x="1300" y="10320"/>
                    </a:lnTo>
                    <a:close/>
                    <a:moveTo>
                      <a:pt x="1300" y="1032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20989" y="0"/>
                    </a:lnTo>
                    <a:lnTo>
                      <a:pt x="16098" y="1111"/>
                    </a:lnTo>
                    <a:lnTo>
                      <a:pt x="12175" y="2312"/>
                    </a:lnTo>
                    <a:lnTo>
                      <a:pt x="8508" y="3538"/>
                    </a:lnTo>
                    <a:lnTo>
                      <a:pt x="5451" y="4859"/>
                    </a:lnTo>
                    <a:lnTo>
                      <a:pt x="3311" y="6241"/>
                    </a:lnTo>
                    <a:lnTo>
                      <a:pt x="1477" y="7652"/>
                    </a:lnTo>
                    <a:lnTo>
                      <a:pt x="306" y="9118"/>
                    </a:lnTo>
                    <a:lnTo>
                      <a:pt x="0" y="10620"/>
                    </a:lnTo>
                    <a:lnTo>
                      <a:pt x="306" y="12031"/>
                    </a:lnTo>
                    <a:lnTo>
                      <a:pt x="1223" y="13442"/>
                    </a:lnTo>
                    <a:lnTo>
                      <a:pt x="2394" y="14819"/>
                    </a:lnTo>
                    <a:lnTo>
                      <a:pt x="4534" y="16230"/>
                    </a:lnTo>
                    <a:lnTo>
                      <a:pt x="6979" y="17611"/>
                    </a:lnTo>
                    <a:lnTo>
                      <a:pt x="10036" y="18958"/>
                    </a:lnTo>
                    <a:lnTo>
                      <a:pt x="13704" y="20309"/>
                    </a:lnTo>
                    <a:lnTo>
                      <a:pt x="17626" y="21600"/>
                    </a:lnTo>
                    <a:lnTo>
                      <a:pt x="18238" y="21600"/>
                    </a:lnTo>
                    <a:lnTo>
                      <a:pt x="14315" y="20309"/>
                    </a:lnTo>
                    <a:lnTo>
                      <a:pt x="10647" y="18958"/>
                    </a:lnTo>
                    <a:lnTo>
                      <a:pt x="7591" y="17611"/>
                    </a:lnTo>
                    <a:lnTo>
                      <a:pt x="5145" y="16230"/>
                    </a:lnTo>
                    <a:lnTo>
                      <a:pt x="3006" y="14819"/>
                    </a:lnTo>
                    <a:lnTo>
                      <a:pt x="1783" y="13442"/>
                    </a:lnTo>
                    <a:lnTo>
                      <a:pt x="917" y="12031"/>
                    </a:lnTo>
                    <a:lnTo>
                      <a:pt x="611" y="10620"/>
                    </a:lnTo>
                    <a:lnTo>
                      <a:pt x="917" y="9118"/>
                    </a:lnTo>
                    <a:lnTo>
                      <a:pt x="2089" y="7652"/>
                    </a:lnTo>
                    <a:lnTo>
                      <a:pt x="3617" y="6241"/>
                    </a:lnTo>
                    <a:lnTo>
                      <a:pt x="6062" y="4859"/>
                    </a:lnTo>
                    <a:lnTo>
                      <a:pt x="9119" y="3538"/>
                    </a:lnTo>
                    <a:lnTo>
                      <a:pt x="12481" y="2312"/>
                    </a:lnTo>
                    <a:lnTo>
                      <a:pt x="16709" y="1111"/>
                    </a:lnTo>
                    <a:lnTo>
                      <a:pt x="21600" y="0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2" y="10740"/>
                    </a:moveTo>
                    <a:lnTo>
                      <a:pt x="903" y="9239"/>
                    </a:lnTo>
                    <a:lnTo>
                      <a:pt x="2032" y="7802"/>
                    </a:lnTo>
                    <a:lnTo>
                      <a:pt x="3613" y="6391"/>
                    </a:lnTo>
                    <a:lnTo>
                      <a:pt x="6096" y="5010"/>
                    </a:lnTo>
                    <a:lnTo>
                      <a:pt x="8994" y="3658"/>
                    </a:lnTo>
                    <a:lnTo>
                      <a:pt x="12606" y="2402"/>
                    </a:lnTo>
                    <a:lnTo>
                      <a:pt x="16896" y="1171"/>
                    </a:lnTo>
                    <a:lnTo>
                      <a:pt x="21600" y="0"/>
                    </a:lnTo>
                    <a:lnTo>
                      <a:pt x="21148" y="0"/>
                    </a:lnTo>
                    <a:lnTo>
                      <a:pt x="16445" y="1171"/>
                    </a:lnTo>
                    <a:lnTo>
                      <a:pt x="12155" y="2402"/>
                    </a:lnTo>
                    <a:lnTo>
                      <a:pt x="8542" y="3688"/>
                    </a:lnTo>
                    <a:lnTo>
                      <a:pt x="5645" y="5010"/>
                    </a:lnTo>
                    <a:lnTo>
                      <a:pt x="3161" y="6391"/>
                    </a:lnTo>
                    <a:lnTo>
                      <a:pt x="1580" y="7802"/>
                    </a:lnTo>
                    <a:lnTo>
                      <a:pt x="452" y="9269"/>
                    </a:lnTo>
                    <a:lnTo>
                      <a:pt x="0" y="10740"/>
                    </a:lnTo>
                    <a:lnTo>
                      <a:pt x="226" y="12181"/>
                    </a:lnTo>
                    <a:lnTo>
                      <a:pt x="1129" y="13588"/>
                    </a:lnTo>
                    <a:lnTo>
                      <a:pt x="2484" y="14999"/>
                    </a:lnTo>
                    <a:lnTo>
                      <a:pt x="4516" y="16380"/>
                    </a:lnTo>
                    <a:lnTo>
                      <a:pt x="7187" y="17761"/>
                    </a:lnTo>
                    <a:lnTo>
                      <a:pt x="10348" y="19078"/>
                    </a:lnTo>
                    <a:lnTo>
                      <a:pt x="13961" y="20369"/>
                    </a:lnTo>
                    <a:lnTo>
                      <a:pt x="18213" y="21600"/>
                    </a:lnTo>
                    <a:lnTo>
                      <a:pt x="18665" y="21600"/>
                    </a:lnTo>
                    <a:lnTo>
                      <a:pt x="14413" y="20369"/>
                    </a:lnTo>
                    <a:lnTo>
                      <a:pt x="10800" y="19078"/>
                    </a:lnTo>
                    <a:lnTo>
                      <a:pt x="7639" y="17761"/>
                    </a:lnTo>
                    <a:lnTo>
                      <a:pt x="4967" y="16380"/>
                    </a:lnTo>
                    <a:lnTo>
                      <a:pt x="2935" y="14999"/>
                    </a:lnTo>
                    <a:lnTo>
                      <a:pt x="1580" y="13588"/>
                    </a:lnTo>
                    <a:lnTo>
                      <a:pt x="677" y="12181"/>
                    </a:lnTo>
                    <a:lnTo>
                      <a:pt x="452" y="10740"/>
                    </a:lnTo>
                    <a:lnTo>
                      <a:pt x="452" y="10740"/>
                    </a:lnTo>
                    <a:close/>
                    <a:moveTo>
                      <a:pt x="452" y="107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53" y="10500"/>
                    </a:moveTo>
                    <a:lnTo>
                      <a:pt x="852" y="8998"/>
                    </a:lnTo>
                    <a:lnTo>
                      <a:pt x="2087" y="7532"/>
                    </a:lnTo>
                    <a:lnTo>
                      <a:pt x="3850" y="6121"/>
                    </a:lnTo>
                    <a:lnTo>
                      <a:pt x="6318" y="4709"/>
                    </a:lnTo>
                    <a:lnTo>
                      <a:pt x="9287" y="3448"/>
                    </a:lnTo>
                    <a:lnTo>
                      <a:pt x="12989" y="2222"/>
                    </a:lnTo>
                    <a:lnTo>
                      <a:pt x="17045" y="1081"/>
                    </a:lnTo>
                    <a:lnTo>
                      <a:pt x="21600" y="0"/>
                    </a:lnTo>
                    <a:lnTo>
                      <a:pt x="21247" y="0"/>
                    </a:lnTo>
                    <a:lnTo>
                      <a:pt x="16692" y="1051"/>
                    </a:lnTo>
                    <a:lnTo>
                      <a:pt x="12637" y="2192"/>
                    </a:lnTo>
                    <a:lnTo>
                      <a:pt x="9140" y="3418"/>
                    </a:lnTo>
                    <a:lnTo>
                      <a:pt x="6142" y="4709"/>
                    </a:lnTo>
                    <a:lnTo>
                      <a:pt x="3673" y="6091"/>
                    </a:lnTo>
                    <a:lnTo>
                      <a:pt x="1734" y="7532"/>
                    </a:lnTo>
                    <a:lnTo>
                      <a:pt x="529" y="8998"/>
                    </a:lnTo>
                    <a:lnTo>
                      <a:pt x="0" y="10500"/>
                    </a:lnTo>
                    <a:lnTo>
                      <a:pt x="176" y="12031"/>
                    </a:lnTo>
                    <a:lnTo>
                      <a:pt x="852" y="13558"/>
                    </a:lnTo>
                    <a:lnTo>
                      <a:pt x="2263" y="15089"/>
                    </a:lnTo>
                    <a:lnTo>
                      <a:pt x="4379" y="16590"/>
                    </a:lnTo>
                    <a:lnTo>
                      <a:pt x="6671" y="17882"/>
                    </a:lnTo>
                    <a:lnTo>
                      <a:pt x="9287" y="19138"/>
                    </a:lnTo>
                    <a:lnTo>
                      <a:pt x="12460" y="20399"/>
                    </a:lnTo>
                    <a:lnTo>
                      <a:pt x="15987" y="21600"/>
                    </a:lnTo>
                    <a:lnTo>
                      <a:pt x="16340" y="21600"/>
                    </a:lnTo>
                    <a:lnTo>
                      <a:pt x="12813" y="20399"/>
                    </a:lnTo>
                    <a:lnTo>
                      <a:pt x="9639" y="19138"/>
                    </a:lnTo>
                    <a:lnTo>
                      <a:pt x="7024" y="17882"/>
                    </a:lnTo>
                    <a:lnTo>
                      <a:pt x="4731" y="16590"/>
                    </a:lnTo>
                    <a:lnTo>
                      <a:pt x="2616" y="15089"/>
                    </a:lnTo>
                    <a:lnTo>
                      <a:pt x="1205" y="13558"/>
                    </a:lnTo>
                    <a:lnTo>
                      <a:pt x="529" y="12031"/>
                    </a:lnTo>
                    <a:lnTo>
                      <a:pt x="353" y="10500"/>
                    </a:lnTo>
                    <a:lnTo>
                      <a:pt x="353" y="10500"/>
                    </a:lnTo>
                    <a:close/>
                    <a:moveTo>
                      <a:pt x="353" y="1050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65" y="9749"/>
                    </a:moveTo>
                    <a:lnTo>
                      <a:pt x="1239" y="8548"/>
                    </a:lnTo>
                    <a:lnTo>
                      <a:pt x="2477" y="7382"/>
                    </a:lnTo>
                    <a:lnTo>
                      <a:pt x="4155" y="6181"/>
                    </a:lnTo>
                    <a:lnTo>
                      <a:pt x="6477" y="4980"/>
                    </a:lnTo>
                    <a:lnTo>
                      <a:pt x="9419" y="3778"/>
                    </a:lnTo>
                    <a:lnTo>
                      <a:pt x="12800" y="2552"/>
                    </a:lnTo>
                    <a:lnTo>
                      <a:pt x="16981" y="1291"/>
                    </a:lnTo>
                    <a:lnTo>
                      <a:pt x="19123" y="661"/>
                    </a:lnTo>
                    <a:lnTo>
                      <a:pt x="21600" y="0"/>
                    </a:lnTo>
                    <a:lnTo>
                      <a:pt x="21290" y="0"/>
                    </a:lnTo>
                    <a:lnTo>
                      <a:pt x="18813" y="661"/>
                    </a:lnTo>
                    <a:lnTo>
                      <a:pt x="16516" y="1291"/>
                    </a:lnTo>
                    <a:lnTo>
                      <a:pt x="14503" y="1922"/>
                    </a:lnTo>
                    <a:lnTo>
                      <a:pt x="12490" y="2552"/>
                    </a:lnTo>
                    <a:lnTo>
                      <a:pt x="9110" y="3778"/>
                    </a:lnTo>
                    <a:lnTo>
                      <a:pt x="6168" y="4980"/>
                    </a:lnTo>
                    <a:lnTo>
                      <a:pt x="3871" y="6181"/>
                    </a:lnTo>
                    <a:lnTo>
                      <a:pt x="2168" y="7352"/>
                    </a:lnTo>
                    <a:lnTo>
                      <a:pt x="929" y="8518"/>
                    </a:lnTo>
                    <a:lnTo>
                      <a:pt x="155" y="9719"/>
                    </a:lnTo>
                    <a:lnTo>
                      <a:pt x="0" y="11010"/>
                    </a:lnTo>
                    <a:lnTo>
                      <a:pt x="310" y="12361"/>
                    </a:lnTo>
                    <a:lnTo>
                      <a:pt x="1239" y="13708"/>
                    </a:lnTo>
                    <a:lnTo>
                      <a:pt x="2942" y="15149"/>
                    </a:lnTo>
                    <a:lnTo>
                      <a:pt x="3871" y="15870"/>
                    </a:lnTo>
                    <a:lnTo>
                      <a:pt x="5084" y="16620"/>
                    </a:lnTo>
                    <a:lnTo>
                      <a:pt x="6323" y="17401"/>
                    </a:lnTo>
                    <a:lnTo>
                      <a:pt x="7871" y="18212"/>
                    </a:lnTo>
                    <a:lnTo>
                      <a:pt x="9419" y="19018"/>
                    </a:lnTo>
                    <a:lnTo>
                      <a:pt x="11277" y="19858"/>
                    </a:lnTo>
                    <a:lnTo>
                      <a:pt x="13110" y="20699"/>
                    </a:lnTo>
                    <a:lnTo>
                      <a:pt x="15277" y="21600"/>
                    </a:lnTo>
                    <a:lnTo>
                      <a:pt x="15587" y="21600"/>
                    </a:lnTo>
                    <a:lnTo>
                      <a:pt x="13419" y="20699"/>
                    </a:lnTo>
                    <a:lnTo>
                      <a:pt x="11561" y="19858"/>
                    </a:lnTo>
                    <a:lnTo>
                      <a:pt x="9729" y="19018"/>
                    </a:lnTo>
                    <a:lnTo>
                      <a:pt x="8181" y="18212"/>
                    </a:lnTo>
                    <a:lnTo>
                      <a:pt x="6632" y="17401"/>
                    </a:lnTo>
                    <a:lnTo>
                      <a:pt x="5394" y="16650"/>
                    </a:lnTo>
                    <a:lnTo>
                      <a:pt x="4155" y="15870"/>
                    </a:lnTo>
                    <a:lnTo>
                      <a:pt x="3252" y="15149"/>
                    </a:lnTo>
                    <a:lnTo>
                      <a:pt x="1548" y="13708"/>
                    </a:lnTo>
                    <a:lnTo>
                      <a:pt x="619" y="12361"/>
                    </a:lnTo>
                    <a:lnTo>
                      <a:pt x="310" y="11040"/>
                    </a:lnTo>
                    <a:lnTo>
                      <a:pt x="465" y="9749"/>
                    </a:lnTo>
                    <a:lnTo>
                      <a:pt x="465" y="9749"/>
                    </a:lnTo>
                    <a:close/>
                    <a:moveTo>
                      <a:pt x="465" y="974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24"/>
                  </a:moveTo>
                  <a:lnTo>
                    <a:pt x="1502" y="3480"/>
                  </a:lnTo>
                  <a:lnTo>
                    <a:pt x="3433" y="6137"/>
                  </a:lnTo>
                  <a:lnTo>
                    <a:pt x="5758" y="8793"/>
                  </a:lnTo>
                  <a:lnTo>
                    <a:pt x="8118" y="11357"/>
                  </a:lnTo>
                  <a:lnTo>
                    <a:pt x="10907" y="13998"/>
                  </a:lnTo>
                  <a:lnTo>
                    <a:pt x="13911" y="16563"/>
                  </a:lnTo>
                  <a:lnTo>
                    <a:pt x="17309" y="19127"/>
                  </a:lnTo>
                  <a:lnTo>
                    <a:pt x="20956" y="21600"/>
                  </a:lnTo>
                  <a:lnTo>
                    <a:pt x="21600" y="21600"/>
                  </a:lnTo>
                  <a:lnTo>
                    <a:pt x="17738" y="19035"/>
                  </a:lnTo>
                  <a:lnTo>
                    <a:pt x="14340" y="16379"/>
                  </a:lnTo>
                  <a:lnTo>
                    <a:pt x="11122" y="13723"/>
                  </a:lnTo>
                  <a:lnTo>
                    <a:pt x="8332" y="10991"/>
                  </a:lnTo>
                  <a:lnTo>
                    <a:pt x="5758" y="8335"/>
                  </a:lnTo>
                  <a:lnTo>
                    <a:pt x="3648" y="5587"/>
                  </a:lnTo>
                  <a:lnTo>
                    <a:pt x="1717" y="2748"/>
                  </a:lnTo>
                  <a:lnTo>
                    <a:pt x="0" y="0"/>
                  </a:lnTo>
                  <a:lnTo>
                    <a:pt x="0" y="824"/>
                  </a:lnTo>
                  <a:lnTo>
                    <a:pt x="0" y="824"/>
                  </a:lnTo>
                  <a:close/>
                  <a:moveTo>
                    <a:pt x="0" y="824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21"/>
                  </a:moveTo>
                  <a:lnTo>
                    <a:pt x="10277" y="12169"/>
                  </a:lnTo>
                  <a:lnTo>
                    <a:pt x="20458" y="21600"/>
                  </a:lnTo>
                  <a:lnTo>
                    <a:pt x="21600" y="21600"/>
                  </a:lnTo>
                  <a:lnTo>
                    <a:pt x="15891" y="16732"/>
                  </a:lnTo>
                  <a:lnTo>
                    <a:pt x="10848" y="11256"/>
                  </a:lnTo>
                  <a:lnTo>
                    <a:pt x="0" y="0"/>
                  </a:lnTo>
                  <a:lnTo>
                    <a:pt x="0" y="1521"/>
                  </a:lnTo>
                  <a:lnTo>
                    <a:pt x="0" y="1521"/>
                  </a:lnTo>
                  <a:close/>
                  <a:moveTo>
                    <a:pt x="0" y="1521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802"/>
                  </a:lnTo>
                  <a:lnTo>
                    <a:pt x="21336" y="20149"/>
                  </a:lnTo>
                  <a:lnTo>
                    <a:pt x="21072" y="19508"/>
                  </a:lnTo>
                  <a:lnTo>
                    <a:pt x="20279" y="17984"/>
                  </a:lnTo>
                  <a:lnTo>
                    <a:pt x="19486" y="16460"/>
                  </a:lnTo>
                  <a:lnTo>
                    <a:pt x="17527" y="13557"/>
                  </a:lnTo>
                  <a:lnTo>
                    <a:pt x="15017" y="10873"/>
                  </a:lnTo>
                  <a:lnTo>
                    <a:pt x="12374" y="8333"/>
                  </a:lnTo>
                  <a:lnTo>
                    <a:pt x="9490" y="6023"/>
                  </a:lnTo>
                  <a:lnTo>
                    <a:pt x="6451" y="3846"/>
                  </a:lnTo>
                  <a:lnTo>
                    <a:pt x="3303" y="1814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3039" y="1814"/>
                  </a:lnTo>
                  <a:lnTo>
                    <a:pt x="6055" y="3846"/>
                  </a:lnTo>
                  <a:lnTo>
                    <a:pt x="9094" y="6023"/>
                  </a:lnTo>
                  <a:lnTo>
                    <a:pt x="12000" y="8333"/>
                  </a:lnTo>
                  <a:lnTo>
                    <a:pt x="14752" y="10873"/>
                  </a:lnTo>
                  <a:lnTo>
                    <a:pt x="17130" y="13557"/>
                  </a:lnTo>
                  <a:lnTo>
                    <a:pt x="19222" y="16460"/>
                  </a:lnTo>
                  <a:lnTo>
                    <a:pt x="20015" y="17984"/>
                  </a:lnTo>
                  <a:lnTo>
                    <a:pt x="20807" y="19580"/>
                  </a:lnTo>
                  <a:lnTo>
                    <a:pt x="21204" y="20584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987"/>
                  </a:lnTo>
                  <a:lnTo>
                    <a:pt x="17292" y="15465"/>
                  </a:lnTo>
                  <a:lnTo>
                    <a:pt x="12231" y="10123"/>
                  </a:lnTo>
                  <a:lnTo>
                    <a:pt x="6658" y="4908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6296" y="5061"/>
                  </a:lnTo>
                  <a:lnTo>
                    <a:pt x="12050" y="10429"/>
                  </a:lnTo>
                  <a:lnTo>
                    <a:pt x="17111" y="15925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661"/>
                  </a:lnTo>
                  <a:lnTo>
                    <a:pt x="11782" y="10017"/>
                  </a:lnTo>
                  <a:lnTo>
                    <a:pt x="637" y="0"/>
                  </a:lnTo>
                  <a:lnTo>
                    <a:pt x="0" y="0"/>
                  </a:lnTo>
                  <a:lnTo>
                    <a:pt x="5732" y="5322"/>
                  </a:lnTo>
                  <a:lnTo>
                    <a:pt x="11463" y="10643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864"/>
                  </a:moveTo>
                  <a:lnTo>
                    <a:pt x="0" y="21600"/>
                  </a:lnTo>
                  <a:lnTo>
                    <a:pt x="1364" y="18565"/>
                  </a:lnTo>
                  <a:lnTo>
                    <a:pt x="3183" y="15529"/>
                  </a:lnTo>
                  <a:lnTo>
                    <a:pt x="5432" y="12678"/>
                  </a:lnTo>
                  <a:lnTo>
                    <a:pt x="7857" y="9919"/>
                  </a:lnTo>
                  <a:lnTo>
                    <a:pt x="10888" y="7266"/>
                  </a:lnTo>
                  <a:lnTo>
                    <a:pt x="14046" y="4783"/>
                  </a:lnTo>
                  <a:lnTo>
                    <a:pt x="17684" y="2300"/>
                  </a:lnTo>
                  <a:lnTo>
                    <a:pt x="21600" y="0"/>
                  </a:lnTo>
                  <a:lnTo>
                    <a:pt x="21145" y="0"/>
                  </a:lnTo>
                  <a:lnTo>
                    <a:pt x="17381" y="2208"/>
                  </a:lnTo>
                  <a:lnTo>
                    <a:pt x="13895" y="4599"/>
                  </a:lnTo>
                  <a:lnTo>
                    <a:pt x="10737" y="7082"/>
                  </a:lnTo>
                  <a:lnTo>
                    <a:pt x="7857" y="9643"/>
                  </a:lnTo>
                  <a:lnTo>
                    <a:pt x="5432" y="12310"/>
                  </a:lnTo>
                  <a:lnTo>
                    <a:pt x="3335" y="15069"/>
                  </a:lnTo>
                  <a:lnTo>
                    <a:pt x="1516" y="17921"/>
                  </a:lnTo>
                  <a:lnTo>
                    <a:pt x="0" y="20864"/>
                  </a:lnTo>
                  <a:lnTo>
                    <a:pt x="0" y="20864"/>
                  </a:lnTo>
                  <a:close/>
                  <a:moveTo>
                    <a:pt x="0" y="20864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937" y="0"/>
                  </a:lnTo>
                  <a:lnTo>
                    <a:pt x="15002" y="4760"/>
                  </a:lnTo>
                  <a:lnTo>
                    <a:pt x="9473" y="9736"/>
                  </a:lnTo>
                  <a:lnTo>
                    <a:pt x="4423" y="15145"/>
                  </a:lnTo>
                  <a:lnTo>
                    <a:pt x="0" y="20735"/>
                  </a:lnTo>
                  <a:lnTo>
                    <a:pt x="0" y="21600"/>
                  </a:lnTo>
                  <a:lnTo>
                    <a:pt x="4423" y="15578"/>
                  </a:lnTo>
                  <a:lnTo>
                    <a:pt x="9473" y="10169"/>
                  </a:lnTo>
                  <a:lnTo>
                    <a:pt x="15223" y="497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155" y="0"/>
                  </a:lnTo>
                  <a:lnTo>
                    <a:pt x="9636" y="9771"/>
                  </a:lnTo>
                  <a:lnTo>
                    <a:pt x="4818" y="14914"/>
                  </a:lnTo>
                  <a:lnTo>
                    <a:pt x="0" y="20057"/>
                  </a:lnTo>
                  <a:lnTo>
                    <a:pt x="0" y="21600"/>
                  </a:lnTo>
                  <a:lnTo>
                    <a:pt x="10117" y="1028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4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4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440" y="622440"/>
              <a:ext cx="9140760" cy="2495520"/>
              <a:chOff x="1440" y="622440"/>
              <a:chExt cx="9140760" cy="2495520"/>
            </a:xfrm>
          </p:grpSpPr>
          <p:sp>
            <p:nvSpPr>
              <p:cNvPr id="228" name=""/>
              <p:cNvSpPr/>
              <p:nvPr/>
            </p:nvSpPr>
            <p:spPr>
              <a:xfrm>
                <a:off x="1440" y="124488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40" y="311652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40" y="24926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40" y="186876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4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144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4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 txBox="1"/>
          <p:nvPr/>
        </p:nvSpPr>
        <p:spPr>
          <a:xfrm>
            <a:off x="7481520" y="6243480"/>
            <a:ext cx="2746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29C3-DDD0-469E-9D68-6E2B07548F68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150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employment Ra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employment rates are down to 7.2%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 are 82,000 newly employed people in Germany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rmany is the “euro-zones” strongest economy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rmany’s unemployment rates are below the accepted 10.1% meaning they are in a good position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 will always be a need for workers,” said the head of the head of the Federal Labor Agency in Germa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239" name="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20"/>
                  </a:moveTo>
                  <a:lnTo>
                    <a:pt x="21600" y="0"/>
                  </a:lnTo>
                  <a:lnTo>
                    <a:pt x="21058" y="1291"/>
                  </a:lnTo>
                  <a:lnTo>
                    <a:pt x="20335" y="2671"/>
                  </a:lnTo>
                  <a:lnTo>
                    <a:pt x="18889" y="4972"/>
                  </a:lnTo>
                  <a:lnTo>
                    <a:pt x="17292" y="7272"/>
                  </a:lnTo>
                  <a:lnTo>
                    <a:pt x="15123" y="9573"/>
                  </a:lnTo>
                  <a:lnTo>
                    <a:pt x="12773" y="11950"/>
                  </a:lnTo>
                  <a:lnTo>
                    <a:pt x="10062" y="14328"/>
                  </a:lnTo>
                  <a:lnTo>
                    <a:pt x="7019" y="16769"/>
                  </a:lnTo>
                  <a:lnTo>
                    <a:pt x="3766" y="19146"/>
                  </a:lnTo>
                  <a:lnTo>
                    <a:pt x="0" y="21600"/>
                  </a:lnTo>
                  <a:lnTo>
                    <a:pt x="331" y="21600"/>
                  </a:lnTo>
                  <a:lnTo>
                    <a:pt x="4127" y="19146"/>
                  </a:lnTo>
                  <a:lnTo>
                    <a:pt x="7381" y="16769"/>
                  </a:lnTo>
                  <a:lnTo>
                    <a:pt x="10423" y="14328"/>
                  </a:lnTo>
                  <a:lnTo>
                    <a:pt x="13135" y="11950"/>
                  </a:lnTo>
                  <a:lnTo>
                    <a:pt x="15485" y="9573"/>
                  </a:lnTo>
                  <a:lnTo>
                    <a:pt x="17623" y="7272"/>
                  </a:lnTo>
                  <a:lnTo>
                    <a:pt x="19250" y="4972"/>
                  </a:lnTo>
                  <a:lnTo>
                    <a:pt x="20696" y="2671"/>
                  </a:lnTo>
                  <a:lnTo>
                    <a:pt x="21238" y="1828"/>
                  </a:lnTo>
                  <a:lnTo>
                    <a:pt x="21600" y="920"/>
                  </a:lnTo>
                  <a:lnTo>
                    <a:pt x="21600" y="920"/>
                  </a:lnTo>
                  <a:close/>
                  <a:moveTo>
                    <a:pt x="21600" y="92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6787" y="5462"/>
                  </a:lnTo>
                  <a:lnTo>
                    <a:pt x="11688" y="10924"/>
                  </a:lnTo>
                  <a:lnTo>
                    <a:pt x="5844" y="16386"/>
                  </a:lnTo>
                  <a:lnTo>
                    <a:pt x="0" y="21600"/>
                  </a:lnTo>
                  <a:lnTo>
                    <a:pt x="688" y="21600"/>
                  </a:lnTo>
                  <a:lnTo>
                    <a:pt x="6532" y="16634"/>
                  </a:lnTo>
                  <a:lnTo>
                    <a:pt x="11688" y="11669"/>
                  </a:lnTo>
                  <a:lnTo>
                    <a:pt x="21600" y="993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629" y="21600"/>
                  </a:lnTo>
                  <a:lnTo>
                    <a:pt x="12343" y="12706"/>
                  </a:lnTo>
                  <a:lnTo>
                    <a:pt x="21600" y="5082"/>
                  </a:lnTo>
                  <a:lnTo>
                    <a:pt x="21600" y="0"/>
                  </a:lnTo>
                  <a:lnTo>
                    <a:pt x="10800" y="11435"/>
                  </a:lnTo>
                  <a:lnTo>
                    <a:pt x="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243" name="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8000" y="21600"/>
                    </a:lnTo>
                    <a:lnTo>
                      <a:pt x="21600" y="21600"/>
                    </a:lnTo>
                    <a:lnTo>
                      <a:pt x="36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979" y="0"/>
                    </a:moveTo>
                    <a:lnTo>
                      <a:pt x="1490" y="0"/>
                    </a:lnTo>
                    <a:lnTo>
                      <a:pt x="5214" y="1081"/>
                    </a:lnTo>
                    <a:lnTo>
                      <a:pt x="8938" y="2222"/>
                    </a:lnTo>
                    <a:lnTo>
                      <a:pt x="11917" y="3448"/>
                    </a:lnTo>
                    <a:lnTo>
                      <a:pt x="14897" y="4739"/>
                    </a:lnTo>
                    <a:lnTo>
                      <a:pt x="16386" y="6061"/>
                    </a:lnTo>
                    <a:lnTo>
                      <a:pt x="18621" y="7442"/>
                    </a:lnTo>
                    <a:lnTo>
                      <a:pt x="19366" y="8848"/>
                    </a:lnTo>
                    <a:lnTo>
                      <a:pt x="20110" y="10320"/>
                    </a:lnTo>
                    <a:lnTo>
                      <a:pt x="19366" y="13232"/>
                    </a:lnTo>
                    <a:lnTo>
                      <a:pt x="15641" y="16140"/>
                    </a:lnTo>
                    <a:lnTo>
                      <a:pt x="13407" y="17551"/>
                    </a:lnTo>
                    <a:lnTo>
                      <a:pt x="9683" y="18958"/>
                    </a:lnTo>
                    <a:lnTo>
                      <a:pt x="5214" y="20309"/>
                    </a:lnTo>
                    <a:lnTo>
                      <a:pt x="0" y="21600"/>
                    </a:lnTo>
                    <a:lnTo>
                      <a:pt x="1490" y="21600"/>
                    </a:lnTo>
                    <a:lnTo>
                      <a:pt x="6703" y="20309"/>
                    </a:lnTo>
                    <a:lnTo>
                      <a:pt x="11172" y="18928"/>
                    </a:lnTo>
                    <a:lnTo>
                      <a:pt x="14897" y="17551"/>
                    </a:lnTo>
                    <a:lnTo>
                      <a:pt x="17131" y="16110"/>
                    </a:lnTo>
                    <a:lnTo>
                      <a:pt x="20855" y="13202"/>
                    </a:lnTo>
                    <a:lnTo>
                      <a:pt x="21600" y="10290"/>
                    </a:lnTo>
                    <a:lnTo>
                      <a:pt x="20855" y="8848"/>
                    </a:lnTo>
                    <a:lnTo>
                      <a:pt x="20110" y="7442"/>
                    </a:lnTo>
                    <a:lnTo>
                      <a:pt x="17876" y="6061"/>
                    </a:lnTo>
                    <a:lnTo>
                      <a:pt x="16386" y="4709"/>
                    </a:lnTo>
                    <a:lnTo>
                      <a:pt x="13407" y="3448"/>
                    </a:lnTo>
                    <a:lnTo>
                      <a:pt x="10428" y="2222"/>
                    </a:lnTo>
                    <a:lnTo>
                      <a:pt x="6703" y="1081"/>
                    </a:lnTo>
                    <a:lnTo>
                      <a:pt x="2979" y="0"/>
                    </a:lnTo>
                    <a:lnTo>
                      <a:pt x="2979" y="0"/>
                    </a:lnTo>
                    <a:close/>
                    <a:moveTo>
                      <a:pt x="2979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213" y="10079"/>
                    </a:moveTo>
                    <a:lnTo>
                      <a:pt x="20439" y="8638"/>
                    </a:lnTo>
                    <a:lnTo>
                      <a:pt x="18892" y="7232"/>
                    </a:lnTo>
                    <a:lnTo>
                      <a:pt x="16958" y="5880"/>
                    </a:lnTo>
                    <a:lnTo>
                      <a:pt x="14701" y="4589"/>
                    </a:lnTo>
                    <a:lnTo>
                      <a:pt x="11993" y="3328"/>
                    </a:lnTo>
                    <a:lnTo>
                      <a:pt x="8511" y="2162"/>
                    </a:lnTo>
                    <a:lnTo>
                      <a:pt x="5029" y="1021"/>
                    </a:lnTo>
                    <a:lnTo>
                      <a:pt x="774" y="0"/>
                    </a:lnTo>
                    <a:lnTo>
                      <a:pt x="0" y="0"/>
                    </a:lnTo>
                    <a:lnTo>
                      <a:pt x="4256" y="1021"/>
                    </a:lnTo>
                    <a:lnTo>
                      <a:pt x="7737" y="2162"/>
                    </a:lnTo>
                    <a:lnTo>
                      <a:pt x="11219" y="3328"/>
                    </a:lnTo>
                    <a:lnTo>
                      <a:pt x="13927" y="4589"/>
                    </a:lnTo>
                    <a:lnTo>
                      <a:pt x="16184" y="5880"/>
                    </a:lnTo>
                    <a:lnTo>
                      <a:pt x="18118" y="7232"/>
                    </a:lnTo>
                    <a:lnTo>
                      <a:pt x="19666" y="8638"/>
                    </a:lnTo>
                    <a:lnTo>
                      <a:pt x="20439" y="10079"/>
                    </a:lnTo>
                    <a:lnTo>
                      <a:pt x="20826" y="11581"/>
                    </a:lnTo>
                    <a:lnTo>
                      <a:pt x="20439" y="13052"/>
                    </a:lnTo>
                    <a:lnTo>
                      <a:pt x="19666" y="14548"/>
                    </a:lnTo>
                    <a:lnTo>
                      <a:pt x="18118" y="16020"/>
                    </a:lnTo>
                    <a:lnTo>
                      <a:pt x="16571" y="17461"/>
                    </a:lnTo>
                    <a:lnTo>
                      <a:pt x="13927" y="18903"/>
                    </a:lnTo>
                    <a:lnTo>
                      <a:pt x="11219" y="20279"/>
                    </a:lnTo>
                    <a:lnTo>
                      <a:pt x="7737" y="21600"/>
                    </a:lnTo>
                    <a:lnTo>
                      <a:pt x="8511" y="21600"/>
                    </a:lnTo>
                    <a:lnTo>
                      <a:pt x="11993" y="20279"/>
                    </a:lnTo>
                    <a:lnTo>
                      <a:pt x="14701" y="18903"/>
                    </a:lnTo>
                    <a:lnTo>
                      <a:pt x="17344" y="17461"/>
                    </a:lnTo>
                    <a:lnTo>
                      <a:pt x="18892" y="16020"/>
                    </a:lnTo>
                    <a:lnTo>
                      <a:pt x="20439" y="14548"/>
                    </a:lnTo>
                    <a:lnTo>
                      <a:pt x="21213" y="13052"/>
                    </a:lnTo>
                    <a:lnTo>
                      <a:pt x="21600" y="11581"/>
                    </a:lnTo>
                    <a:lnTo>
                      <a:pt x="21213" y="10079"/>
                    </a:lnTo>
                    <a:lnTo>
                      <a:pt x="21213" y="10079"/>
                    </a:lnTo>
                    <a:close/>
                    <a:moveTo>
                      <a:pt x="21213" y="1007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990" y="9629"/>
                    </a:moveTo>
                    <a:lnTo>
                      <a:pt x="20075" y="8458"/>
                    </a:lnTo>
                    <a:lnTo>
                      <a:pt x="18551" y="7292"/>
                    </a:lnTo>
                    <a:lnTo>
                      <a:pt x="16721" y="6151"/>
                    </a:lnTo>
                    <a:lnTo>
                      <a:pt x="14281" y="5010"/>
                    </a:lnTo>
                    <a:lnTo>
                      <a:pt x="11537" y="3809"/>
                    </a:lnTo>
                    <a:lnTo>
                      <a:pt x="8233" y="2612"/>
                    </a:lnTo>
                    <a:lnTo>
                      <a:pt x="4574" y="1351"/>
                    </a:lnTo>
                    <a:lnTo>
                      <a:pt x="610" y="0"/>
                    </a:lnTo>
                    <a:lnTo>
                      <a:pt x="0" y="0"/>
                    </a:lnTo>
                    <a:lnTo>
                      <a:pt x="4269" y="1351"/>
                    </a:lnTo>
                    <a:lnTo>
                      <a:pt x="7928" y="2612"/>
                    </a:lnTo>
                    <a:lnTo>
                      <a:pt x="10978" y="3839"/>
                    </a:lnTo>
                    <a:lnTo>
                      <a:pt x="13976" y="5010"/>
                    </a:lnTo>
                    <a:lnTo>
                      <a:pt x="16111" y="6181"/>
                    </a:lnTo>
                    <a:lnTo>
                      <a:pt x="17941" y="7322"/>
                    </a:lnTo>
                    <a:lnTo>
                      <a:pt x="19465" y="8458"/>
                    </a:lnTo>
                    <a:lnTo>
                      <a:pt x="20380" y="9629"/>
                    </a:lnTo>
                    <a:lnTo>
                      <a:pt x="20990" y="10950"/>
                    </a:lnTo>
                    <a:lnTo>
                      <a:pt x="20685" y="12301"/>
                    </a:lnTo>
                    <a:lnTo>
                      <a:pt x="20075" y="13678"/>
                    </a:lnTo>
                    <a:lnTo>
                      <a:pt x="18551" y="15119"/>
                    </a:lnTo>
                    <a:lnTo>
                      <a:pt x="16721" y="16620"/>
                    </a:lnTo>
                    <a:lnTo>
                      <a:pt x="13976" y="18212"/>
                    </a:lnTo>
                    <a:lnTo>
                      <a:pt x="10368" y="19858"/>
                    </a:lnTo>
                    <a:lnTo>
                      <a:pt x="6404" y="21600"/>
                    </a:lnTo>
                    <a:lnTo>
                      <a:pt x="7014" y="21600"/>
                    </a:lnTo>
                    <a:lnTo>
                      <a:pt x="10978" y="19858"/>
                    </a:lnTo>
                    <a:lnTo>
                      <a:pt x="14586" y="18212"/>
                    </a:lnTo>
                    <a:lnTo>
                      <a:pt x="17331" y="16620"/>
                    </a:lnTo>
                    <a:lnTo>
                      <a:pt x="19160" y="15119"/>
                    </a:lnTo>
                    <a:lnTo>
                      <a:pt x="20685" y="13678"/>
                    </a:lnTo>
                    <a:lnTo>
                      <a:pt x="21295" y="12301"/>
                    </a:lnTo>
                    <a:lnTo>
                      <a:pt x="21600" y="10950"/>
                    </a:lnTo>
                    <a:lnTo>
                      <a:pt x="20990" y="9629"/>
                    </a:lnTo>
                    <a:lnTo>
                      <a:pt x="20990" y="9629"/>
                    </a:lnTo>
                    <a:close/>
                    <a:moveTo>
                      <a:pt x="20990" y="962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109"/>
                    </a:moveTo>
                    <a:lnTo>
                      <a:pt x="20901" y="8668"/>
                    </a:lnTo>
                    <a:lnTo>
                      <a:pt x="19541" y="7232"/>
                    </a:lnTo>
                    <a:lnTo>
                      <a:pt x="17676" y="5880"/>
                    </a:lnTo>
                    <a:lnTo>
                      <a:pt x="15345" y="4559"/>
                    </a:lnTo>
                    <a:lnTo>
                      <a:pt x="12315" y="3298"/>
                    </a:lnTo>
                    <a:lnTo>
                      <a:pt x="8858" y="2132"/>
                    </a:lnTo>
                    <a:lnTo>
                      <a:pt x="4895" y="1021"/>
                    </a:lnTo>
                    <a:lnTo>
                      <a:pt x="466" y="0"/>
                    </a:lnTo>
                    <a:lnTo>
                      <a:pt x="0" y="0"/>
                    </a:lnTo>
                    <a:lnTo>
                      <a:pt x="4429" y="1021"/>
                    </a:lnTo>
                    <a:lnTo>
                      <a:pt x="8391" y="2132"/>
                    </a:lnTo>
                    <a:lnTo>
                      <a:pt x="11849" y="3298"/>
                    </a:lnTo>
                    <a:lnTo>
                      <a:pt x="14879" y="4559"/>
                    </a:lnTo>
                    <a:lnTo>
                      <a:pt x="17210" y="5880"/>
                    </a:lnTo>
                    <a:lnTo>
                      <a:pt x="19075" y="7232"/>
                    </a:lnTo>
                    <a:lnTo>
                      <a:pt x="20435" y="8668"/>
                    </a:lnTo>
                    <a:lnTo>
                      <a:pt x="21134" y="10109"/>
                    </a:lnTo>
                    <a:lnTo>
                      <a:pt x="21134" y="11641"/>
                    </a:lnTo>
                    <a:lnTo>
                      <a:pt x="20668" y="13172"/>
                    </a:lnTo>
                    <a:lnTo>
                      <a:pt x="19541" y="14669"/>
                    </a:lnTo>
                    <a:lnTo>
                      <a:pt x="17676" y="16140"/>
                    </a:lnTo>
                    <a:lnTo>
                      <a:pt x="15112" y="17581"/>
                    </a:lnTo>
                    <a:lnTo>
                      <a:pt x="12082" y="18958"/>
                    </a:lnTo>
                    <a:lnTo>
                      <a:pt x="8391" y="20309"/>
                    </a:lnTo>
                    <a:lnTo>
                      <a:pt x="3963" y="21600"/>
                    </a:lnTo>
                    <a:lnTo>
                      <a:pt x="4429" y="21600"/>
                    </a:lnTo>
                    <a:lnTo>
                      <a:pt x="8858" y="20309"/>
                    </a:lnTo>
                    <a:lnTo>
                      <a:pt x="12548" y="18958"/>
                    </a:lnTo>
                    <a:lnTo>
                      <a:pt x="15578" y="17581"/>
                    </a:lnTo>
                    <a:lnTo>
                      <a:pt x="18142" y="16140"/>
                    </a:lnTo>
                    <a:lnTo>
                      <a:pt x="20007" y="14669"/>
                    </a:lnTo>
                    <a:lnTo>
                      <a:pt x="21134" y="13172"/>
                    </a:lnTo>
                    <a:lnTo>
                      <a:pt x="21600" y="11641"/>
                    </a:lnTo>
                    <a:lnTo>
                      <a:pt x="21600" y="10109"/>
                    </a:lnTo>
                    <a:lnTo>
                      <a:pt x="21600" y="10109"/>
                    </a:lnTo>
                    <a:close/>
                    <a:moveTo>
                      <a:pt x="21600" y="1010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440"/>
                    </a:moveTo>
                    <a:lnTo>
                      <a:pt x="21035" y="9058"/>
                    </a:lnTo>
                    <a:lnTo>
                      <a:pt x="19905" y="7712"/>
                    </a:lnTo>
                    <a:lnTo>
                      <a:pt x="18021" y="6361"/>
                    </a:lnTo>
                    <a:lnTo>
                      <a:pt x="15603" y="5040"/>
                    </a:lnTo>
                    <a:lnTo>
                      <a:pt x="12590" y="3748"/>
                    </a:lnTo>
                    <a:lnTo>
                      <a:pt x="9199" y="2462"/>
                    </a:lnTo>
                    <a:lnTo>
                      <a:pt x="5086" y="1201"/>
                    </a:lnTo>
                    <a:lnTo>
                      <a:pt x="377" y="0"/>
                    </a:lnTo>
                    <a:lnTo>
                      <a:pt x="0" y="0"/>
                    </a:lnTo>
                    <a:lnTo>
                      <a:pt x="4709" y="1201"/>
                    </a:lnTo>
                    <a:lnTo>
                      <a:pt x="8822" y="2462"/>
                    </a:lnTo>
                    <a:lnTo>
                      <a:pt x="12213" y="3748"/>
                    </a:lnTo>
                    <a:lnTo>
                      <a:pt x="15227" y="5040"/>
                    </a:lnTo>
                    <a:lnTo>
                      <a:pt x="17644" y="6361"/>
                    </a:lnTo>
                    <a:lnTo>
                      <a:pt x="19528" y="7712"/>
                    </a:lnTo>
                    <a:lnTo>
                      <a:pt x="20658" y="9058"/>
                    </a:lnTo>
                    <a:lnTo>
                      <a:pt x="21223" y="10440"/>
                    </a:lnTo>
                    <a:lnTo>
                      <a:pt x="21223" y="11851"/>
                    </a:lnTo>
                    <a:lnTo>
                      <a:pt x="20658" y="13262"/>
                    </a:lnTo>
                    <a:lnTo>
                      <a:pt x="19340" y="14669"/>
                    </a:lnTo>
                    <a:lnTo>
                      <a:pt x="17456" y="16080"/>
                    </a:lnTo>
                    <a:lnTo>
                      <a:pt x="14850" y="17491"/>
                    </a:lnTo>
                    <a:lnTo>
                      <a:pt x="11648" y="18903"/>
                    </a:lnTo>
                    <a:lnTo>
                      <a:pt x="7880" y="20249"/>
                    </a:lnTo>
                    <a:lnTo>
                      <a:pt x="3579" y="21600"/>
                    </a:lnTo>
                    <a:lnTo>
                      <a:pt x="3956" y="21600"/>
                    </a:lnTo>
                    <a:lnTo>
                      <a:pt x="8257" y="20249"/>
                    </a:lnTo>
                    <a:lnTo>
                      <a:pt x="12024" y="18903"/>
                    </a:lnTo>
                    <a:lnTo>
                      <a:pt x="15227" y="17491"/>
                    </a:lnTo>
                    <a:lnTo>
                      <a:pt x="17833" y="16110"/>
                    </a:lnTo>
                    <a:lnTo>
                      <a:pt x="19716" y="14699"/>
                    </a:lnTo>
                    <a:lnTo>
                      <a:pt x="21035" y="13292"/>
                    </a:lnTo>
                    <a:lnTo>
                      <a:pt x="21600" y="11851"/>
                    </a:lnTo>
                    <a:lnTo>
                      <a:pt x="21600" y="10440"/>
                    </a:lnTo>
                    <a:lnTo>
                      <a:pt x="21600" y="10440"/>
                    </a:lnTo>
                    <a:close/>
                    <a:moveTo>
                      <a:pt x="21600" y="104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449" y="10650"/>
                    </a:moveTo>
                    <a:lnTo>
                      <a:pt x="20847" y="9178"/>
                    </a:lnTo>
                    <a:lnTo>
                      <a:pt x="20270" y="8428"/>
                    </a:lnTo>
                    <a:lnTo>
                      <a:pt x="19668" y="7712"/>
                    </a:lnTo>
                    <a:lnTo>
                      <a:pt x="18765" y="6991"/>
                    </a:lnTo>
                    <a:lnTo>
                      <a:pt x="17862" y="6271"/>
                    </a:lnTo>
                    <a:lnTo>
                      <a:pt x="16658" y="5580"/>
                    </a:lnTo>
                    <a:lnTo>
                      <a:pt x="15303" y="4890"/>
                    </a:lnTo>
                    <a:lnTo>
                      <a:pt x="12318" y="3598"/>
                    </a:lnTo>
                    <a:lnTo>
                      <a:pt x="8856" y="2342"/>
                    </a:lnTo>
                    <a:lnTo>
                      <a:pt x="4817" y="1141"/>
                    </a:lnTo>
                    <a:lnTo>
                      <a:pt x="301" y="0"/>
                    </a:lnTo>
                    <a:lnTo>
                      <a:pt x="0" y="0"/>
                    </a:lnTo>
                    <a:lnTo>
                      <a:pt x="4516" y="1141"/>
                    </a:lnTo>
                    <a:lnTo>
                      <a:pt x="8555" y="2342"/>
                    </a:lnTo>
                    <a:lnTo>
                      <a:pt x="12017" y="3598"/>
                    </a:lnTo>
                    <a:lnTo>
                      <a:pt x="15002" y="4920"/>
                    </a:lnTo>
                    <a:lnTo>
                      <a:pt x="16357" y="5610"/>
                    </a:lnTo>
                    <a:lnTo>
                      <a:pt x="17561" y="6301"/>
                    </a:lnTo>
                    <a:lnTo>
                      <a:pt x="18464" y="7022"/>
                    </a:lnTo>
                    <a:lnTo>
                      <a:pt x="19367" y="7742"/>
                    </a:lnTo>
                    <a:lnTo>
                      <a:pt x="20120" y="8458"/>
                    </a:lnTo>
                    <a:lnTo>
                      <a:pt x="20546" y="9178"/>
                    </a:lnTo>
                    <a:lnTo>
                      <a:pt x="20998" y="9929"/>
                    </a:lnTo>
                    <a:lnTo>
                      <a:pt x="21148" y="10650"/>
                    </a:lnTo>
                    <a:lnTo>
                      <a:pt x="21299" y="11401"/>
                    </a:lnTo>
                    <a:lnTo>
                      <a:pt x="21148" y="12151"/>
                    </a:lnTo>
                    <a:lnTo>
                      <a:pt x="20847" y="12872"/>
                    </a:lnTo>
                    <a:lnTo>
                      <a:pt x="20546" y="13618"/>
                    </a:lnTo>
                    <a:lnTo>
                      <a:pt x="19969" y="14338"/>
                    </a:lnTo>
                    <a:lnTo>
                      <a:pt x="19217" y="15089"/>
                    </a:lnTo>
                    <a:lnTo>
                      <a:pt x="18163" y="15810"/>
                    </a:lnTo>
                    <a:lnTo>
                      <a:pt x="17109" y="16530"/>
                    </a:lnTo>
                    <a:lnTo>
                      <a:pt x="14701" y="17852"/>
                    </a:lnTo>
                    <a:lnTo>
                      <a:pt x="11866" y="19138"/>
                    </a:lnTo>
                    <a:lnTo>
                      <a:pt x="8404" y="20399"/>
                    </a:lnTo>
                    <a:lnTo>
                      <a:pt x="4516" y="21600"/>
                    </a:lnTo>
                    <a:lnTo>
                      <a:pt x="4817" y="21600"/>
                    </a:lnTo>
                    <a:lnTo>
                      <a:pt x="8705" y="20399"/>
                    </a:lnTo>
                    <a:lnTo>
                      <a:pt x="12167" y="19138"/>
                    </a:lnTo>
                    <a:lnTo>
                      <a:pt x="15002" y="17882"/>
                    </a:lnTo>
                    <a:lnTo>
                      <a:pt x="17410" y="16560"/>
                    </a:lnTo>
                    <a:lnTo>
                      <a:pt x="18464" y="15840"/>
                    </a:lnTo>
                    <a:lnTo>
                      <a:pt x="19518" y="15119"/>
                    </a:lnTo>
                    <a:lnTo>
                      <a:pt x="20270" y="14368"/>
                    </a:lnTo>
                    <a:lnTo>
                      <a:pt x="20847" y="13648"/>
                    </a:lnTo>
                    <a:lnTo>
                      <a:pt x="21148" y="12902"/>
                    </a:lnTo>
                    <a:lnTo>
                      <a:pt x="21449" y="12151"/>
                    </a:lnTo>
                    <a:lnTo>
                      <a:pt x="21600" y="11401"/>
                    </a:lnTo>
                    <a:lnTo>
                      <a:pt x="21449" y="10650"/>
                    </a:lnTo>
                    <a:lnTo>
                      <a:pt x="21449" y="10650"/>
                    </a:lnTo>
                    <a:close/>
                    <a:moveTo>
                      <a:pt x="21449" y="1065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609" y="9719"/>
                    </a:moveTo>
                    <a:lnTo>
                      <a:pt x="4349" y="8158"/>
                    </a:lnTo>
                    <a:lnTo>
                      <a:pt x="6089" y="6661"/>
                    </a:lnTo>
                    <a:lnTo>
                      <a:pt x="8553" y="5280"/>
                    </a:lnTo>
                    <a:lnTo>
                      <a:pt x="11162" y="3959"/>
                    </a:lnTo>
                    <a:lnTo>
                      <a:pt x="12032" y="3358"/>
                    </a:lnTo>
                    <a:lnTo>
                      <a:pt x="13772" y="2788"/>
                    </a:lnTo>
                    <a:lnTo>
                      <a:pt x="15511" y="2222"/>
                    </a:lnTo>
                    <a:lnTo>
                      <a:pt x="16381" y="1712"/>
                    </a:lnTo>
                    <a:lnTo>
                      <a:pt x="18121" y="1231"/>
                    </a:lnTo>
                    <a:lnTo>
                      <a:pt x="18991" y="781"/>
                    </a:lnTo>
                    <a:lnTo>
                      <a:pt x="20730" y="360"/>
                    </a:lnTo>
                    <a:lnTo>
                      <a:pt x="21600" y="0"/>
                    </a:lnTo>
                    <a:lnTo>
                      <a:pt x="19860" y="0"/>
                    </a:lnTo>
                    <a:lnTo>
                      <a:pt x="18991" y="360"/>
                    </a:lnTo>
                    <a:lnTo>
                      <a:pt x="17251" y="781"/>
                    </a:lnTo>
                    <a:lnTo>
                      <a:pt x="16381" y="1231"/>
                    </a:lnTo>
                    <a:lnTo>
                      <a:pt x="14642" y="1712"/>
                    </a:lnTo>
                    <a:lnTo>
                      <a:pt x="13772" y="2222"/>
                    </a:lnTo>
                    <a:lnTo>
                      <a:pt x="12032" y="2788"/>
                    </a:lnTo>
                    <a:lnTo>
                      <a:pt x="10293" y="3358"/>
                    </a:lnTo>
                    <a:lnTo>
                      <a:pt x="9423" y="3959"/>
                    </a:lnTo>
                    <a:lnTo>
                      <a:pt x="6958" y="5280"/>
                    </a:lnTo>
                    <a:lnTo>
                      <a:pt x="4349" y="6661"/>
                    </a:lnTo>
                    <a:lnTo>
                      <a:pt x="2609" y="8158"/>
                    </a:lnTo>
                    <a:lnTo>
                      <a:pt x="870" y="9719"/>
                    </a:lnTo>
                    <a:lnTo>
                      <a:pt x="0" y="11401"/>
                    </a:lnTo>
                    <a:lnTo>
                      <a:pt x="870" y="13022"/>
                    </a:lnTo>
                    <a:lnTo>
                      <a:pt x="1740" y="14609"/>
                    </a:lnTo>
                    <a:lnTo>
                      <a:pt x="3479" y="16110"/>
                    </a:lnTo>
                    <a:lnTo>
                      <a:pt x="5219" y="17581"/>
                    </a:lnTo>
                    <a:lnTo>
                      <a:pt x="8553" y="18988"/>
                    </a:lnTo>
                    <a:lnTo>
                      <a:pt x="12902" y="20309"/>
                    </a:lnTo>
                    <a:lnTo>
                      <a:pt x="18121" y="21600"/>
                    </a:lnTo>
                    <a:lnTo>
                      <a:pt x="19860" y="21600"/>
                    </a:lnTo>
                    <a:lnTo>
                      <a:pt x="14642" y="20309"/>
                    </a:lnTo>
                    <a:lnTo>
                      <a:pt x="10293" y="18988"/>
                    </a:lnTo>
                    <a:lnTo>
                      <a:pt x="6958" y="17581"/>
                    </a:lnTo>
                    <a:lnTo>
                      <a:pt x="5219" y="16140"/>
                    </a:lnTo>
                    <a:lnTo>
                      <a:pt x="3479" y="14609"/>
                    </a:lnTo>
                    <a:lnTo>
                      <a:pt x="2609" y="13052"/>
                    </a:lnTo>
                    <a:lnTo>
                      <a:pt x="1740" y="11401"/>
                    </a:lnTo>
                    <a:lnTo>
                      <a:pt x="2609" y="9719"/>
                    </a:lnTo>
                    <a:lnTo>
                      <a:pt x="2609" y="9719"/>
                    </a:lnTo>
                    <a:close/>
                    <a:moveTo>
                      <a:pt x="2609" y="971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00" y="10320"/>
                    </a:moveTo>
                    <a:lnTo>
                      <a:pt x="2167" y="8758"/>
                    </a:lnTo>
                    <a:lnTo>
                      <a:pt x="3901" y="7262"/>
                    </a:lnTo>
                    <a:lnTo>
                      <a:pt x="6068" y="5850"/>
                    </a:lnTo>
                    <a:lnTo>
                      <a:pt x="9102" y="4499"/>
                    </a:lnTo>
                    <a:lnTo>
                      <a:pt x="11703" y="3208"/>
                    </a:lnTo>
                    <a:lnTo>
                      <a:pt x="15098" y="2042"/>
                    </a:lnTo>
                    <a:lnTo>
                      <a:pt x="18132" y="961"/>
                    </a:lnTo>
                    <a:lnTo>
                      <a:pt x="21600" y="0"/>
                    </a:lnTo>
                    <a:lnTo>
                      <a:pt x="20733" y="0"/>
                    </a:lnTo>
                    <a:lnTo>
                      <a:pt x="17266" y="961"/>
                    </a:lnTo>
                    <a:lnTo>
                      <a:pt x="14304" y="2042"/>
                    </a:lnTo>
                    <a:lnTo>
                      <a:pt x="11270" y="3208"/>
                    </a:lnTo>
                    <a:lnTo>
                      <a:pt x="8235" y="4499"/>
                    </a:lnTo>
                    <a:lnTo>
                      <a:pt x="5635" y="5850"/>
                    </a:lnTo>
                    <a:lnTo>
                      <a:pt x="3468" y="7262"/>
                    </a:lnTo>
                    <a:lnTo>
                      <a:pt x="1734" y="8758"/>
                    </a:lnTo>
                    <a:lnTo>
                      <a:pt x="433" y="10320"/>
                    </a:lnTo>
                    <a:lnTo>
                      <a:pt x="0" y="11881"/>
                    </a:lnTo>
                    <a:lnTo>
                      <a:pt x="867" y="13382"/>
                    </a:lnTo>
                    <a:lnTo>
                      <a:pt x="2167" y="14879"/>
                    </a:lnTo>
                    <a:lnTo>
                      <a:pt x="3901" y="16290"/>
                    </a:lnTo>
                    <a:lnTo>
                      <a:pt x="6935" y="17701"/>
                    </a:lnTo>
                    <a:lnTo>
                      <a:pt x="10403" y="19048"/>
                    </a:lnTo>
                    <a:lnTo>
                      <a:pt x="14665" y="20339"/>
                    </a:lnTo>
                    <a:lnTo>
                      <a:pt x="19866" y="21600"/>
                    </a:lnTo>
                    <a:lnTo>
                      <a:pt x="20733" y="21600"/>
                    </a:lnTo>
                    <a:lnTo>
                      <a:pt x="15532" y="20339"/>
                    </a:lnTo>
                    <a:lnTo>
                      <a:pt x="11270" y="19048"/>
                    </a:lnTo>
                    <a:lnTo>
                      <a:pt x="7802" y="17701"/>
                    </a:lnTo>
                    <a:lnTo>
                      <a:pt x="4768" y="16320"/>
                    </a:lnTo>
                    <a:lnTo>
                      <a:pt x="3034" y="14879"/>
                    </a:lnTo>
                    <a:lnTo>
                      <a:pt x="1734" y="13412"/>
                    </a:lnTo>
                    <a:lnTo>
                      <a:pt x="867" y="11881"/>
                    </a:lnTo>
                    <a:lnTo>
                      <a:pt x="1300" y="10320"/>
                    </a:lnTo>
                    <a:lnTo>
                      <a:pt x="1300" y="10320"/>
                    </a:lnTo>
                    <a:close/>
                    <a:moveTo>
                      <a:pt x="1300" y="1032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20989" y="0"/>
                    </a:lnTo>
                    <a:lnTo>
                      <a:pt x="16098" y="1111"/>
                    </a:lnTo>
                    <a:lnTo>
                      <a:pt x="12175" y="2312"/>
                    </a:lnTo>
                    <a:lnTo>
                      <a:pt x="8508" y="3538"/>
                    </a:lnTo>
                    <a:lnTo>
                      <a:pt x="5451" y="4859"/>
                    </a:lnTo>
                    <a:lnTo>
                      <a:pt x="3311" y="6241"/>
                    </a:lnTo>
                    <a:lnTo>
                      <a:pt x="1477" y="7652"/>
                    </a:lnTo>
                    <a:lnTo>
                      <a:pt x="306" y="9118"/>
                    </a:lnTo>
                    <a:lnTo>
                      <a:pt x="0" y="10620"/>
                    </a:lnTo>
                    <a:lnTo>
                      <a:pt x="306" y="12031"/>
                    </a:lnTo>
                    <a:lnTo>
                      <a:pt x="1223" y="13442"/>
                    </a:lnTo>
                    <a:lnTo>
                      <a:pt x="2394" y="14819"/>
                    </a:lnTo>
                    <a:lnTo>
                      <a:pt x="4534" y="16230"/>
                    </a:lnTo>
                    <a:lnTo>
                      <a:pt x="6979" y="17611"/>
                    </a:lnTo>
                    <a:lnTo>
                      <a:pt x="10036" y="18958"/>
                    </a:lnTo>
                    <a:lnTo>
                      <a:pt x="13704" y="20309"/>
                    </a:lnTo>
                    <a:lnTo>
                      <a:pt x="17626" y="21600"/>
                    </a:lnTo>
                    <a:lnTo>
                      <a:pt x="18238" y="21600"/>
                    </a:lnTo>
                    <a:lnTo>
                      <a:pt x="14315" y="20309"/>
                    </a:lnTo>
                    <a:lnTo>
                      <a:pt x="10647" y="18958"/>
                    </a:lnTo>
                    <a:lnTo>
                      <a:pt x="7591" y="17611"/>
                    </a:lnTo>
                    <a:lnTo>
                      <a:pt x="5145" y="16230"/>
                    </a:lnTo>
                    <a:lnTo>
                      <a:pt x="3006" y="14819"/>
                    </a:lnTo>
                    <a:lnTo>
                      <a:pt x="1783" y="13442"/>
                    </a:lnTo>
                    <a:lnTo>
                      <a:pt x="917" y="12031"/>
                    </a:lnTo>
                    <a:lnTo>
                      <a:pt x="611" y="10620"/>
                    </a:lnTo>
                    <a:lnTo>
                      <a:pt x="917" y="9118"/>
                    </a:lnTo>
                    <a:lnTo>
                      <a:pt x="2089" y="7652"/>
                    </a:lnTo>
                    <a:lnTo>
                      <a:pt x="3617" y="6241"/>
                    </a:lnTo>
                    <a:lnTo>
                      <a:pt x="6062" y="4859"/>
                    </a:lnTo>
                    <a:lnTo>
                      <a:pt x="9119" y="3538"/>
                    </a:lnTo>
                    <a:lnTo>
                      <a:pt x="12481" y="2312"/>
                    </a:lnTo>
                    <a:lnTo>
                      <a:pt x="16709" y="1111"/>
                    </a:lnTo>
                    <a:lnTo>
                      <a:pt x="21600" y="0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2" y="10740"/>
                    </a:moveTo>
                    <a:lnTo>
                      <a:pt x="903" y="9239"/>
                    </a:lnTo>
                    <a:lnTo>
                      <a:pt x="2032" y="7802"/>
                    </a:lnTo>
                    <a:lnTo>
                      <a:pt x="3613" y="6391"/>
                    </a:lnTo>
                    <a:lnTo>
                      <a:pt x="6096" y="5010"/>
                    </a:lnTo>
                    <a:lnTo>
                      <a:pt x="8994" y="3658"/>
                    </a:lnTo>
                    <a:lnTo>
                      <a:pt x="12606" y="2402"/>
                    </a:lnTo>
                    <a:lnTo>
                      <a:pt x="16896" y="1171"/>
                    </a:lnTo>
                    <a:lnTo>
                      <a:pt x="21600" y="0"/>
                    </a:lnTo>
                    <a:lnTo>
                      <a:pt x="21148" y="0"/>
                    </a:lnTo>
                    <a:lnTo>
                      <a:pt x="16445" y="1171"/>
                    </a:lnTo>
                    <a:lnTo>
                      <a:pt x="12155" y="2402"/>
                    </a:lnTo>
                    <a:lnTo>
                      <a:pt x="8542" y="3688"/>
                    </a:lnTo>
                    <a:lnTo>
                      <a:pt x="5645" y="5010"/>
                    </a:lnTo>
                    <a:lnTo>
                      <a:pt x="3161" y="6391"/>
                    </a:lnTo>
                    <a:lnTo>
                      <a:pt x="1580" y="7802"/>
                    </a:lnTo>
                    <a:lnTo>
                      <a:pt x="452" y="9269"/>
                    </a:lnTo>
                    <a:lnTo>
                      <a:pt x="0" y="10740"/>
                    </a:lnTo>
                    <a:lnTo>
                      <a:pt x="226" y="12181"/>
                    </a:lnTo>
                    <a:lnTo>
                      <a:pt x="1129" y="13588"/>
                    </a:lnTo>
                    <a:lnTo>
                      <a:pt x="2484" y="14999"/>
                    </a:lnTo>
                    <a:lnTo>
                      <a:pt x="4516" y="16380"/>
                    </a:lnTo>
                    <a:lnTo>
                      <a:pt x="7187" y="17761"/>
                    </a:lnTo>
                    <a:lnTo>
                      <a:pt x="10348" y="19078"/>
                    </a:lnTo>
                    <a:lnTo>
                      <a:pt x="13961" y="20369"/>
                    </a:lnTo>
                    <a:lnTo>
                      <a:pt x="18213" y="21600"/>
                    </a:lnTo>
                    <a:lnTo>
                      <a:pt x="18665" y="21600"/>
                    </a:lnTo>
                    <a:lnTo>
                      <a:pt x="14413" y="20369"/>
                    </a:lnTo>
                    <a:lnTo>
                      <a:pt x="10800" y="19078"/>
                    </a:lnTo>
                    <a:lnTo>
                      <a:pt x="7639" y="17761"/>
                    </a:lnTo>
                    <a:lnTo>
                      <a:pt x="4967" y="16380"/>
                    </a:lnTo>
                    <a:lnTo>
                      <a:pt x="2935" y="14999"/>
                    </a:lnTo>
                    <a:lnTo>
                      <a:pt x="1580" y="13588"/>
                    </a:lnTo>
                    <a:lnTo>
                      <a:pt x="677" y="12181"/>
                    </a:lnTo>
                    <a:lnTo>
                      <a:pt x="452" y="10740"/>
                    </a:lnTo>
                    <a:lnTo>
                      <a:pt x="452" y="10740"/>
                    </a:lnTo>
                    <a:close/>
                    <a:moveTo>
                      <a:pt x="452" y="107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53" y="10500"/>
                    </a:moveTo>
                    <a:lnTo>
                      <a:pt x="852" y="8998"/>
                    </a:lnTo>
                    <a:lnTo>
                      <a:pt x="2087" y="7532"/>
                    </a:lnTo>
                    <a:lnTo>
                      <a:pt x="3850" y="6121"/>
                    </a:lnTo>
                    <a:lnTo>
                      <a:pt x="6318" y="4709"/>
                    </a:lnTo>
                    <a:lnTo>
                      <a:pt x="9287" y="3448"/>
                    </a:lnTo>
                    <a:lnTo>
                      <a:pt x="12989" y="2222"/>
                    </a:lnTo>
                    <a:lnTo>
                      <a:pt x="17045" y="1081"/>
                    </a:lnTo>
                    <a:lnTo>
                      <a:pt x="21600" y="0"/>
                    </a:lnTo>
                    <a:lnTo>
                      <a:pt x="21247" y="0"/>
                    </a:lnTo>
                    <a:lnTo>
                      <a:pt x="16692" y="1051"/>
                    </a:lnTo>
                    <a:lnTo>
                      <a:pt x="12637" y="2192"/>
                    </a:lnTo>
                    <a:lnTo>
                      <a:pt x="9140" y="3418"/>
                    </a:lnTo>
                    <a:lnTo>
                      <a:pt x="6142" y="4709"/>
                    </a:lnTo>
                    <a:lnTo>
                      <a:pt x="3673" y="6091"/>
                    </a:lnTo>
                    <a:lnTo>
                      <a:pt x="1734" y="7532"/>
                    </a:lnTo>
                    <a:lnTo>
                      <a:pt x="529" y="8998"/>
                    </a:lnTo>
                    <a:lnTo>
                      <a:pt x="0" y="10500"/>
                    </a:lnTo>
                    <a:lnTo>
                      <a:pt x="176" y="12031"/>
                    </a:lnTo>
                    <a:lnTo>
                      <a:pt x="852" y="13558"/>
                    </a:lnTo>
                    <a:lnTo>
                      <a:pt x="2263" y="15089"/>
                    </a:lnTo>
                    <a:lnTo>
                      <a:pt x="4379" y="16590"/>
                    </a:lnTo>
                    <a:lnTo>
                      <a:pt x="6671" y="17882"/>
                    </a:lnTo>
                    <a:lnTo>
                      <a:pt x="9287" y="19138"/>
                    </a:lnTo>
                    <a:lnTo>
                      <a:pt x="12460" y="20399"/>
                    </a:lnTo>
                    <a:lnTo>
                      <a:pt x="15987" y="21600"/>
                    </a:lnTo>
                    <a:lnTo>
                      <a:pt x="16340" y="21600"/>
                    </a:lnTo>
                    <a:lnTo>
                      <a:pt x="12813" y="20399"/>
                    </a:lnTo>
                    <a:lnTo>
                      <a:pt x="9639" y="19138"/>
                    </a:lnTo>
                    <a:lnTo>
                      <a:pt x="7024" y="17882"/>
                    </a:lnTo>
                    <a:lnTo>
                      <a:pt x="4731" y="16590"/>
                    </a:lnTo>
                    <a:lnTo>
                      <a:pt x="2616" y="15089"/>
                    </a:lnTo>
                    <a:lnTo>
                      <a:pt x="1205" y="13558"/>
                    </a:lnTo>
                    <a:lnTo>
                      <a:pt x="529" y="12031"/>
                    </a:lnTo>
                    <a:lnTo>
                      <a:pt x="353" y="10500"/>
                    </a:lnTo>
                    <a:lnTo>
                      <a:pt x="353" y="10500"/>
                    </a:lnTo>
                    <a:close/>
                    <a:moveTo>
                      <a:pt x="353" y="1050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65" y="9749"/>
                    </a:moveTo>
                    <a:lnTo>
                      <a:pt x="1239" y="8548"/>
                    </a:lnTo>
                    <a:lnTo>
                      <a:pt x="2477" y="7382"/>
                    </a:lnTo>
                    <a:lnTo>
                      <a:pt x="4155" y="6181"/>
                    </a:lnTo>
                    <a:lnTo>
                      <a:pt x="6477" y="4980"/>
                    </a:lnTo>
                    <a:lnTo>
                      <a:pt x="9419" y="3778"/>
                    </a:lnTo>
                    <a:lnTo>
                      <a:pt x="12800" y="2552"/>
                    </a:lnTo>
                    <a:lnTo>
                      <a:pt x="16981" y="1291"/>
                    </a:lnTo>
                    <a:lnTo>
                      <a:pt x="19123" y="661"/>
                    </a:lnTo>
                    <a:lnTo>
                      <a:pt x="21600" y="0"/>
                    </a:lnTo>
                    <a:lnTo>
                      <a:pt x="21290" y="0"/>
                    </a:lnTo>
                    <a:lnTo>
                      <a:pt x="18813" y="661"/>
                    </a:lnTo>
                    <a:lnTo>
                      <a:pt x="16516" y="1291"/>
                    </a:lnTo>
                    <a:lnTo>
                      <a:pt x="14503" y="1922"/>
                    </a:lnTo>
                    <a:lnTo>
                      <a:pt x="12490" y="2552"/>
                    </a:lnTo>
                    <a:lnTo>
                      <a:pt x="9110" y="3778"/>
                    </a:lnTo>
                    <a:lnTo>
                      <a:pt x="6168" y="4980"/>
                    </a:lnTo>
                    <a:lnTo>
                      <a:pt x="3871" y="6181"/>
                    </a:lnTo>
                    <a:lnTo>
                      <a:pt x="2168" y="7352"/>
                    </a:lnTo>
                    <a:lnTo>
                      <a:pt x="929" y="8518"/>
                    </a:lnTo>
                    <a:lnTo>
                      <a:pt x="155" y="9719"/>
                    </a:lnTo>
                    <a:lnTo>
                      <a:pt x="0" y="11010"/>
                    </a:lnTo>
                    <a:lnTo>
                      <a:pt x="310" y="12361"/>
                    </a:lnTo>
                    <a:lnTo>
                      <a:pt x="1239" y="13708"/>
                    </a:lnTo>
                    <a:lnTo>
                      <a:pt x="2942" y="15149"/>
                    </a:lnTo>
                    <a:lnTo>
                      <a:pt x="3871" y="15870"/>
                    </a:lnTo>
                    <a:lnTo>
                      <a:pt x="5084" y="16620"/>
                    </a:lnTo>
                    <a:lnTo>
                      <a:pt x="6323" y="17401"/>
                    </a:lnTo>
                    <a:lnTo>
                      <a:pt x="7871" y="18212"/>
                    </a:lnTo>
                    <a:lnTo>
                      <a:pt x="9419" y="19018"/>
                    </a:lnTo>
                    <a:lnTo>
                      <a:pt x="11277" y="19858"/>
                    </a:lnTo>
                    <a:lnTo>
                      <a:pt x="13110" y="20699"/>
                    </a:lnTo>
                    <a:lnTo>
                      <a:pt x="15277" y="21600"/>
                    </a:lnTo>
                    <a:lnTo>
                      <a:pt x="15587" y="21600"/>
                    </a:lnTo>
                    <a:lnTo>
                      <a:pt x="13419" y="20699"/>
                    </a:lnTo>
                    <a:lnTo>
                      <a:pt x="11561" y="19858"/>
                    </a:lnTo>
                    <a:lnTo>
                      <a:pt x="9729" y="19018"/>
                    </a:lnTo>
                    <a:lnTo>
                      <a:pt x="8181" y="18212"/>
                    </a:lnTo>
                    <a:lnTo>
                      <a:pt x="6632" y="17401"/>
                    </a:lnTo>
                    <a:lnTo>
                      <a:pt x="5394" y="16650"/>
                    </a:lnTo>
                    <a:lnTo>
                      <a:pt x="4155" y="15870"/>
                    </a:lnTo>
                    <a:lnTo>
                      <a:pt x="3252" y="15149"/>
                    </a:lnTo>
                    <a:lnTo>
                      <a:pt x="1548" y="13708"/>
                    </a:lnTo>
                    <a:lnTo>
                      <a:pt x="619" y="12361"/>
                    </a:lnTo>
                    <a:lnTo>
                      <a:pt x="310" y="11040"/>
                    </a:lnTo>
                    <a:lnTo>
                      <a:pt x="465" y="9749"/>
                    </a:lnTo>
                    <a:lnTo>
                      <a:pt x="465" y="9749"/>
                    </a:lnTo>
                    <a:close/>
                    <a:moveTo>
                      <a:pt x="465" y="974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24"/>
                  </a:moveTo>
                  <a:lnTo>
                    <a:pt x="1502" y="3480"/>
                  </a:lnTo>
                  <a:lnTo>
                    <a:pt x="3433" y="6137"/>
                  </a:lnTo>
                  <a:lnTo>
                    <a:pt x="5758" y="8793"/>
                  </a:lnTo>
                  <a:lnTo>
                    <a:pt x="8118" y="11357"/>
                  </a:lnTo>
                  <a:lnTo>
                    <a:pt x="10907" y="13998"/>
                  </a:lnTo>
                  <a:lnTo>
                    <a:pt x="13911" y="16563"/>
                  </a:lnTo>
                  <a:lnTo>
                    <a:pt x="17309" y="19127"/>
                  </a:lnTo>
                  <a:lnTo>
                    <a:pt x="20956" y="21600"/>
                  </a:lnTo>
                  <a:lnTo>
                    <a:pt x="21600" y="21600"/>
                  </a:lnTo>
                  <a:lnTo>
                    <a:pt x="17738" y="19035"/>
                  </a:lnTo>
                  <a:lnTo>
                    <a:pt x="14340" y="16379"/>
                  </a:lnTo>
                  <a:lnTo>
                    <a:pt x="11122" y="13723"/>
                  </a:lnTo>
                  <a:lnTo>
                    <a:pt x="8332" y="10991"/>
                  </a:lnTo>
                  <a:lnTo>
                    <a:pt x="5758" y="8335"/>
                  </a:lnTo>
                  <a:lnTo>
                    <a:pt x="3648" y="5587"/>
                  </a:lnTo>
                  <a:lnTo>
                    <a:pt x="1717" y="2748"/>
                  </a:lnTo>
                  <a:lnTo>
                    <a:pt x="0" y="0"/>
                  </a:lnTo>
                  <a:lnTo>
                    <a:pt x="0" y="824"/>
                  </a:lnTo>
                  <a:lnTo>
                    <a:pt x="0" y="824"/>
                  </a:lnTo>
                  <a:close/>
                  <a:moveTo>
                    <a:pt x="0" y="824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21"/>
                  </a:moveTo>
                  <a:lnTo>
                    <a:pt x="10277" y="12169"/>
                  </a:lnTo>
                  <a:lnTo>
                    <a:pt x="20458" y="21600"/>
                  </a:lnTo>
                  <a:lnTo>
                    <a:pt x="21600" y="21600"/>
                  </a:lnTo>
                  <a:lnTo>
                    <a:pt x="15891" y="16732"/>
                  </a:lnTo>
                  <a:lnTo>
                    <a:pt x="10848" y="11256"/>
                  </a:lnTo>
                  <a:lnTo>
                    <a:pt x="0" y="0"/>
                  </a:lnTo>
                  <a:lnTo>
                    <a:pt x="0" y="1521"/>
                  </a:lnTo>
                  <a:lnTo>
                    <a:pt x="0" y="1521"/>
                  </a:lnTo>
                  <a:close/>
                  <a:moveTo>
                    <a:pt x="0" y="1521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802"/>
                  </a:lnTo>
                  <a:lnTo>
                    <a:pt x="21336" y="20149"/>
                  </a:lnTo>
                  <a:lnTo>
                    <a:pt x="21072" y="19508"/>
                  </a:lnTo>
                  <a:lnTo>
                    <a:pt x="20279" y="17984"/>
                  </a:lnTo>
                  <a:lnTo>
                    <a:pt x="19486" y="16460"/>
                  </a:lnTo>
                  <a:lnTo>
                    <a:pt x="17527" y="13557"/>
                  </a:lnTo>
                  <a:lnTo>
                    <a:pt x="15017" y="10873"/>
                  </a:lnTo>
                  <a:lnTo>
                    <a:pt x="12374" y="8333"/>
                  </a:lnTo>
                  <a:lnTo>
                    <a:pt x="9490" y="6023"/>
                  </a:lnTo>
                  <a:lnTo>
                    <a:pt x="6451" y="3846"/>
                  </a:lnTo>
                  <a:lnTo>
                    <a:pt x="3303" y="1814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3039" y="1814"/>
                  </a:lnTo>
                  <a:lnTo>
                    <a:pt x="6055" y="3846"/>
                  </a:lnTo>
                  <a:lnTo>
                    <a:pt x="9094" y="6023"/>
                  </a:lnTo>
                  <a:lnTo>
                    <a:pt x="12000" y="8333"/>
                  </a:lnTo>
                  <a:lnTo>
                    <a:pt x="14752" y="10873"/>
                  </a:lnTo>
                  <a:lnTo>
                    <a:pt x="17130" y="13557"/>
                  </a:lnTo>
                  <a:lnTo>
                    <a:pt x="19222" y="16460"/>
                  </a:lnTo>
                  <a:lnTo>
                    <a:pt x="20015" y="17984"/>
                  </a:lnTo>
                  <a:lnTo>
                    <a:pt x="20807" y="19580"/>
                  </a:lnTo>
                  <a:lnTo>
                    <a:pt x="21204" y="20584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987"/>
                  </a:lnTo>
                  <a:lnTo>
                    <a:pt x="17292" y="15465"/>
                  </a:lnTo>
                  <a:lnTo>
                    <a:pt x="12231" y="10123"/>
                  </a:lnTo>
                  <a:lnTo>
                    <a:pt x="6658" y="4908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6296" y="5061"/>
                  </a:lnTo>
                  <a:lnTo>
                    <a:pt x="12050" y="10429"/>
                  </a:lnTo>
                  <a:lnTo>
                    <a:pt x="17111" y="15925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661"/>
                  </a:lnTo>
                  <a:lnTo>
                    <a:pt x="11782" y="10017"/>
                  </a:lnTo>
                  <a:lnTo>
                    <a:pt x="637" y="0"/>
                  </a:lnTo>
                  <a:lnTo>
                    <a:pt x="0" y="0"/>
                  </a:lnTo>
                  <a:lnTo>
                    <a:pt x="5732" y="5322"/>
                  </a:lnTo>
                  <a:lnTo>
                    <a:pt x="11463" y="10643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864"/>
                  </a:moveTo>
                  <a:lnTo>
                    <a:pt x="0" y="21600"/>
                  </a:lnTo>
                  <a:lnTo>
                    <a:pt x="1364" y="18565"/>
                  </a:lnTo>
                  <a:lnTo>
                    <a:pt x="3183" y="15529"/>
                  </a:lnTo>
                  <a:lnTo>
                    <a:pt x="5432" y="12678"/>
                  </a:lnTo>
                  <a:lnTo>
                    <a:pt x="7857" y="9919"/>
                  </a:lnTo>
                  <a:lnTo>
                    <a:pt x="10888" y="7266"/>
                  </a:lnTo>
                  <a:lnTo>
                    <a:pt x="14046" y="4783"/>
                  </a:lnTo>
                  <a:lnTo>
                    <a:pt x="17684" y="2300"/>
                  </a:lnTo>
                  <a:lnTo>
                    <a:pt x="21600" y="0"/>
                  </a:lnTo>
                  <a:lnTo>
                    <a:pt x="21145" y="0"/>
                  </a:lnTo>
                  <a:lnTo>
                    <a:pt x="17381" y="2208"/>
                  </a:lnTo>
                  <a:lnTo>
                    <a:pt x="13895" y="4599"/>
                  </a:lnTo>
                  <a:lnTo>
                    <a:pt x="10737" y="7082"/>
                  </a:lnTo>
                  <a:lnTo>
                    <a:pt x="7857" y="9643"/>
                  </a:lnTo>
                  <a:lnTo>
                    <a:pt x="5432" y="12310"/>
                  </a:lnTo>
                  <a:lnTo>
                    <a:pt x="3335" y="15069"/>
                  </a:lnTo>
                  <a:lnTo>
                    <a:pt x="1516" y="17921"/>
                  </a:lnTo>
                  <a:lnTo>
                    <a:pt x="0" y="20864"/>
                  </a:lnTo>
                  <a:lnTo>
                    <a:pt x="0" y="20864"/>
                  </a:lnTo>
                  <a:close/>
                  <a:moveTo>
                    <a:pt x="0" y="20864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937" y="0"/>
                  </a:lnTo>
                  <a:lnTo>
                    <a:pt x="15002" y="4760"/>
                  </a:lnTo>
                  <a:lnTo>
                    <a:pt x="9473" y="9736"/>
                  </a:lnTo>
                  <a:lnTo>
                    <a:pt x="4423" y="15145"/>
                  </a:lnTo>
                  <a:lnTo>
                    <a:pt x="0" y="20735"/>
                  </a:lnTo>
                  <a:lnTo>
                    <a:pt x="0" y="21600"/>
                  </a:lnTo>
                  <a:lnTo>
                    <a:pt x="4423" y="15578"/>
                  </a:lnTo>
                  <a:lnTo>
                    <a:pt x="9473" y="10169"/>
                  </a:lnTo>
                  <a:lnTo>
                    <a:pt x="15223" y="497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155" y="0"/>
                  </a:lnTo>
                  <a:lnTo>
                    <a:pt x="9636" y="9771"/>
                  </a:lnTo>
                  <a:lnTo>
                    <a:pt x="4818" y="14914"/>
                  </a:lnTo>
                  <a:lnTo>
                    <a:pt x="0" y="20057"/>
                  </a:lnTo>
                  <a:lnTo>
                    <a:pt x="0" y="21600"/>
                  </a:lnTo>
                  <a:lnTo>
                    <a:pt x="10117" y="1028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4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4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4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1440" y="622440"/>
              <a:ext cx="9140760" cy="2495520"/>
              <a:chOff x="1440" y="622440"/>
              <a:chExt cx="9140760" cy="2495520"/>
            </a:xfrm>
          </p:grpSpPr>
          <p:sp>
            <p:nvSpPr>
              <p:cNvPr id="268" name=""/>
              <p:cNvSpPr/>
              <p:nvPr/>
            </p:nvSpPr>
            <p:spPr>
              <a:xfrm>
                <a:off x="1440" y="124488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440" y="311652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440" y="24926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440" y="186876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44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144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4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/>
          <p:cNvSpPr txBox="1"/>
          <p:nvPr/>
        </p:nvSpPr>
        <p:spPr>
          <a:xfrm>
            <a:off x="7481520" y="6243480"/>
            <a:ext cx="2746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5B20-ECC6-41D4-977B-3DF75A1B99A6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5257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n example of newly formed jobs for those who were previously unemployed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667560" cy="37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279" name="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20"/>
                  </a:moveTo>
                  <a:lnTo>
                    <a:pt x="21600" y="0"/>
                  </a:lnTo>
                  <a:lnTo>
                    <a:pt x="21058" y="1291"/>
                  </a:lnTo>
                  <a:lnTo>
                    <a:pt x="20335" y="2671"/>
                  </a:lnTo>
                  <a:lnTo>
                    <a:pt x="18889" y="4972"/>
                  </a:lnTo>
                  <a:lnTo>
                    <a:pt x="17292" y="7272"/>
                  </a:lnTo>
                  <a:lnTo>
                    <a:pt x="15123" y="9573"/>
                  </a:lnTo>
                  <a:lnTo>
                    <a:pt x="12773" y="11950"/>
                  </a:lnTo>
                  <a:lnTo>
                    <a:pt x="10062" y="14328"/>
                  </a:lnTo>
                  <a:lnTo>
                    <a:pt x="7019" y="16769"/>
                  </a:lnTo>
                  <a:lnTo>
                    <a:pt x="3766" y="19146"/>
                  </a:lnTo>
                  <a:lnTo>
                    <a:pt x="0" y="21600"/>
                  </a:lnTo>
                  <a:lnTo>
                    <a:pt x="331" y="21600"/>
                  </a:lnTo>
                  <a:lnTo>
                    <a:pt x="4127" y="19146"/>
                  </a:lnTo>
                  <a:lnTo>
                    <a:pt x="7381" y="16769"/>
                  </a:lnTo>
                  <a:lnTo>
                    <a:pt x="10423" y="14328"/>
                  </a:lnTo>
                  <a:lnTo>
                    <a:pt x="13135" y="11950"/>
                  </a:lnTo>
                  <a:lnTo>
                    <a:pt x="15485" y="9573"/>
                  </a:lnTo>
                  <a:lnTo>
                    <a:pt x="17623" y="7272"/>
                  </a:lnTo>
                  <a:lnTo>
                    <a:pt x="19250" y="4972"/>
                  </a:lnTo>
                  <a:lnTo>
                    <a:pt x="20696" y="2671"/>
                  </a:lnTo>
                  <a:lnTo>
                    <a:pt x="21238" y="1828"/>
                  </a:lnTo>
                  <a:lnTo>
                    <a:pt x="21600" y="920"/>
                  </a:lnTo>
                  <a:lnTo>
                    <a:pt x="21600" y="920"/>
                  </a:lnTo>
                  <a:close/>
                  <a:moveTo>
                    <a:pt x="21600" y="92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6787" y="5462"/>
                  </a:lnTo>
                  <a:lnTo>
                    <a:pt x="11688" y="10924"/>
                  </a:lnTo>
                  <a:lnTo>
                    <a:pt x="5844" y="16386"/>
                  </a:lnTo>
                  <a:lnTo>
                    <a:pt x="0" y="21600"/>
                  </a:lnTo>
                  <a:lnTo>
                    <a:pt x="688" y="21600"/>
                  </a:lnTo>
                  <a:lnTo>
                    <a:pt x="6532" y="16634"/>
                  </a:lnTo>
                  <a:lnTo>
                    <a:pt x="11688" y="11669"/>
                  </a:lnTo>
                  <a:lnTo>
                    <a:pt x="21600" y="993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629" y="21600"/>
                  </a:lnTo>
                  <a:lnTo>
                    <a:pt x="12343" y="12706"/>
                  </a:lnTo>
                  <a:lnTo>
                    <a:pt x="21600" y="5082"/>
                  </a:lnTo>
                  <a:lnTo>
                    <a:pt x="21600" y="0"/>
                  </a:lnTo>
                  <a:lnTo>
                    <a:pt x="10800" y="11435"/>
                  </a:lnTo>
                  <a:lnTo>
                    <a:pt x="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283" name="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8000" y="21600"/>
                    </a:lnTo>
                    <a:lnTo>
                      <a:pt x="21600" y="21600"/>
                    </a:lnTo>
                    <a:lnTo>
                      <a:pt x="36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979" y="0"/>
                    </a:moveTo>
                    <a:lnTo>
                      <a:pt x="1490" y="0"/>
                    </a:lnTo>
                    <a:lnTo>
                      <a:pt x="5214" y="1081"/>
                    </a:lnTo>
                    <a:lnTo>
                      <a:pt x="8938" y="2222"/>
                    </a:lnTo>
                    <a:lnTo>
                      <a:pt x="11917" y="3448"/>
                    </a:lnTo>
                    <a:lnTo>
                      <a:pt x="14897" y="4739"/>
                    </a:lnTo>
                    <a:lnTo>
                      <a:pt x="16386" y="6061"/>
                    </a:lnTo>
                    <a:lnTo>
                      <a:pt x="18621" y="7442"/>
                    </a:lnTo>
                    <a:lnTo>
                      <a:pt x="19366" y="8848"/>
                    </a:lnTo>
                    <a:lnTo>
                      <a:pt x="20110" y="10320"/>
                    </a:lnTo>
                    <a:lnTo>
                      <a:pt x="19366" y="13232"/>
                    </a:lnTo>
                    <a:lnTo>
                      <a:pt x="15641" y="16140"/>
                    </a:lnTo>
                    <a:lnTo>
                      <a:pt x="13407" y="17551"/>
                    </a:lnTo>
                    <a:lnTo>
                      <a:pt x="9683" y="18958"/>
                    </a:lnTo>
                    <a:lnTo>
                      <a:pt x="5214" y="20309"/>
                    </a:lnTo>
                    <a:lnTo>
                      <a:pt x="0" y="21600"/>
                    </a:lnTo>
                    <a:lnTo>
                      <a:pt x="1490" y="21600"/>
                    </a:lnTo>
                    <a:lnTo>
                      <a:pt x="6703" y="20309"/>
                    </a:lnTo>
                    <a:lnTo>
                      <a:pt x="11172" y="18928"/>
                    </a:lnTo>
                    <a:lnTo>
                      <a:pt x="14897" y="17551"/>
                    </a:lnTo>
                    <a:lnTo>
                      <a:pt x="17131" y="16110"/>
                    </a:lnTo>
                    <a:lnTo>
                      <a:pt x="20855" y="13202"/>
                    </a:lnTo>
                    <a:lnTo>
                      <a:pt x="21600" y="10290"/>
                    </a:lnTo>
                    <a:lnTo>
                      <a:pt x="20855" y="8848"/>
                    </a:lnTo>
                    <a:lnTo>
                      <a:pt x="20110" y="7442"/>
                    </a:lnTo>
                    <a:lnTo>
                      <a:pt x="17876" y="6061"/>
                    </a:lnTo>
                    <a:lnTo>
                      <a:pt x="16386" y="4709"/>
                    </a:lnTo>
                    <a:lnTo>
                      <a:pt x="13407" y="3448"/>
                    </a:lnTo>
                    <a:lnTo>
                      <a:pt x="10428" y="2222"/>
                    </a:lnTo>
                    <a:lnTo>
                      <a:pt x="6703" y="1081"/>
                    </a:lnTo>
                    <a:lnTo>
                      <a:pt x="2979" y="0"/>
                    </a:lnTo>
                    <a:lnTo>
                      <a:pt x="2979" y="0"/>
                    </a:lnTo>
                    <a:close/>
                    <a:moveTo>
                      <a:pt x="2979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213" y="10079"/>
                    </a:moveTo>
                    <a:lnTo>
                      <a:pt x="20439" y="8638"/>
                    </a:lnTo>
                    <a:lnTo>
                      <a:pt x="18892" y="7232"/>
                    </a:lnTo>
                    <a:lnTo>
                      <a:pt x="16958" y="5880"/>
                    </a:lnTo>
                    <a:lnTo>
                      <a:pt x="14701" y="4589"/>
                    </a:lnTo>
                    <a:lnTo>
                      <a:pt x="11993" y="3328"/>
                    </a:lnTo>
                    <a:lnTo>
                      <a:pt x="8511" y="2162"/>
                    </a:lnTo>
                    <a:lnTo>
                      <a:pt x="5029" y="1021"/>
                    </a:lnTo>
                    <a:lnTo>
                      <a:pt x="774" y="0"/>
                    </a:lnTo>
                    <a:lnTo>
                      <a:pt x="0" y="0"/>
                    </a:lnTo>
                    <a:lnTo>
                      <a:pt x="4256" y="1021"/>
                    </a:lnTo>
                    <a:lnTo>
                      <a:pt x="7737" y="2162"/>
                    </a:lnTo>
                    <a:lnTo>
                      <a:pt x="11219" y="3328"/>
                    </a:lnTo>
                    <a:lnTo>
                      <a:pt x="13927" y="4589"/>
                    </a:lnTo>
                    <a:lnTo>
                      <a:pt x="16184" y="5880"/>
                    </a:lnTo>
                    <a:lnTo>
                      <a:pt x="18118" y="7232"/>
                    </a:lnTo>
                    <a:lnTo>
                      <a:pt x="19666" y="8638"/>
                    </a:lnTo>
                    <a:lnTo>
                      <a:pt x="20439" y="10079"/>
                    </a:lnTo>
                    <a:lnTo>
                      <a:pt x="20826" y="11581"/>
                    </a:lnTo>
                    <a:lnTo>
                      <a:pt x="20439" y="13052"/>
                    </a:lnTo>
                    <a:lnTo>
                      <a:pt x="19666" y="14548"/>
                    </a:lnTo>
                    <a:lnTo>
                      <a:pt x="18118" y="16020"/>
                    </a:lnTo>
                    <a:lnTo>
                      <a:pt x="16571" y="17461"/>
                    </a:lnTo>
                    <a:lnTo>
                      <a:pt x="13927" y="18903"/>
                    </a:lnTo>
                    <a:lnTo>
                      <a:pt x="11219" y="20279"/>
                    </a:lnTo>
                    <a:lnTo>
                      <a:pt x="7737" y="21600"/>
                    </a:lnTo>
                    <a:lnTo>
                      <a:pt x="8511" y="21600"/>
                    </a:lnTo>
                    <a:lnTo>
                      <a:pt x="11993" y="20279"/>
                    </a:lnTo>
                    <a:lnTo>
                      <a:pt x="14701" y="18903"/>
                    </a:lnTo>
                    <a:lnTo>
                      <a:pt x="17344" y="17461"/>
                    </a:lnTo>
                    <a:lnTo>
                      <a:pt x="18892" y="16020"/>
                    </a:lnTo>
                    <a:lnTo>
                      <a:pt x="20439" y="14548"/>
                    </a:lnTo>
                    <a:lnTo>
                      <a:pt x="21213" y="13052"/>
                    </a:lnTo>
                    <a:lnTo>
                      <a:pt x="21600" y="11581"/>
                    </a:lnTo>
                    <a:lnTo>
                      <a:pt x="21213" y="10079"/>
                    </a:lnTo>
                    <a:lnTo>
                      <a:pt x="21213" y="10079"/>
                    </a:lnTo>
                    <a:close/>
                    <a:moveTo>
                      <a:pt x="21213" y="1007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990" y="9629"/>
                    </a:moveTo>
                    <a:lnTo>
                      <a:pt x="20075" y="8458"/>
                    </a:lnTo>
                    <a:lnTo>
                      <a:pt x="18551" y="7292"/>
                    </a:lnTo>
                    <a:lnTo>
                      <a:pt x="16721" y="6151"/>
                    </a:lnTo>
                    <a:lnTo>
                      <a:pt x="14281" y="5010"/>
                    </a:lnTo>
                    <a:lnTo>
                      <a:pt x="11537" y="3809"/>
                    </a:lnTo>
                    <a:lnTo>
                      <a:pt x="8233" y="2612"/>
                    </a:lnTo>
                    <a:lnTo>
                      <a:pt x="4574" y="1351"/>
                    </a:lnTo>
                    <a:lnTo>
                      <a:pt x="610" y="0"/>
                    </a:lnTo>
                    <a:lnTo>
                      <a:pt x="0" y="0"/>
                    </a:lnTo>
                    <a:lnTo>
                      <a:pt x="4269" y="1351"/>
                    </a:lnTo>
                    <a:lnTo>
                      <a:pt x="7928" y="2612"/>
                    </a:lnTo>
                    <a:lnTo>
                      <a:pt x="10978" y="3839"/>
                    </a:lnTo>
                    <a:lnTo>
                      <a:pt x="13976" y="5010"/>
                    </a:lnTo>
                    <a:lnTo>
                      <a:pt x="16111" y="6181"/>
                    </a:lnTo>
                    <a:lnTo>
                      <a:pt x="17941" y="7322"/>
                    </a:lnTo>
                    <a:lnTo>
                      <a:pt x="19465" y="8458"/>
                    </a:lnTo>
                    <a:lnTo>
                      <a:pt x="20380" y="9629"/>
                    </a:lnTo>
                    <a:lnTo>
                      <a:pt x="20990" y="10950"/>
                    </a:lnTo>
                    <a:lnTo>
                      <a:pt x="20685" y="12301"/>
                    </a:lnTo>
                    <a:lnTo>
                      <a:pt x="20075" y="13678"/>
                    </a:lnTo>
                    <a:lnTo>
                      <a:pt x="18551" y="15119"/>
                    </a:lnTo>
                    <a:lnTo>
                      <a:pt x="16721" y="16620"/>
                    </a:lnTo>
                    <a:lnTo>
                      <a:pt x="13976" y="18212"/>
                    </a:lnTo>
                    <a:lnTo>
                      <a:pt x="10368" y="19858"/>
                    </a:lnTo>
                    <a:lnTo>
                      <a:pt x="6404" y="21600"/>
                    </a:lnTo>
                    <a:lnTo>
                      <a:pt x="7014" y="21600"/>
                    </a:lnTo>
                    <a:lnTo>
                      <a:pt x="10978" y="19858"/>
                    </a:lnTo>
                    <a:lnTo>
                      <a:pt x="14586" y="18212"/>
                    </a:lnTo>
                    <a:lnTo>
                      <a:pt x="17331" y="16620"/>
                    </a:lnTo>
                    <a:lnTo>
                      <a:pt x="19160" y="15119"/>
                    </a:lnTo>
                    <a:lnTo>
                      <a:pt x="20685" y="13678"/>
                    </a:lnTo>
                    <a:lnTo>
                      <a:pt x="21295" y="12301"/>
                    </a:lnTo>
                    <a:lnTo>
                      <a:pt x="21600" y="10950"/>
                    </a:lnTo>
                    <a:lnTo>
                      <a:pt x="20990" y="9629"/>
                    </a:lnTo>
                    <a:lnTo>
                      <a:pt x="20990" y="9629"/>
                    </a:lnTo>
                    <a:close/>
                    <a:moveTo>
                      <a:pt x="20990" y="962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109"/>
                    </a:moveTo>
                    <a:lnTo>
                      <a:pt x="20901" y="8668"/>
                    </a:lnTo>
                    <a:lnTo>
                      <a:pt x="19541" y="7232"/>
                    </a:lnTo>
                    <a:lnTo>
                      <a:pt x="17676" y="5880"/>
                    </a:lnTo>
                    <a:lnTo>
                      <a:pt x="15345" y="4559"/>
                    </a:lnTo>
                    <a:lnTo>
                      <a:pt x="12315" y="3298"/>
                    </a:lnTo>
                    <a:lnTo>
                      <a:pt x="8858" y="2132"/>
                    </a:lnTo>
                    <a:lnTo>
                      <a:pt x="4895" y="1021"/>
                    </a:lnTo>
                    <a:lnTo>
                      <a:pt x="466" y="0"/>
                    </a:lnTo>
                    <a:lnTo>
                      <a:pt x="0" y="0"/>
                    </a:lnTo>
                    <a:lnTo>
                      <a:pt x="4429" y="1021"/>
                    </a:lnTo>
                    <a:lnTo>
                      <a:pt x="8391" y="2132"/>
                    </a:lnTo>
                    <a:lnTo>
                      <a:pt x="11849" y="3298"/>
                    </a:lnTo>
                    <a:lnTo>
                      <a:pt x="14879" y="4559"/>
                    </a:lnTo>
                    <a:lnTo>
                      <a:pt x="17210" y="5880"/>
                    </a:lnTo>
                    <a:lnTo>
                      <a:pt x="19075" y="7232"/>
                    </a:lnTo>
                    <a:lnTo>
                      <a:pt x="20435" y="8668"/>
                    </a:lnTo>
                    <a:lnTo>
                      <a:pt x="21134" y="10109"/>
                    </a:lnTo>
                    <a:lnTo>
                      <a:pt x="21134" y="11641"/>
                    </a:lnTo>
                    <a:lnTo>
                      <a:pt x="20668" y="13172"/>
                    </a:lnTo>
                    <a:lnTo>
                      <a:pt x="19541" y="14669"/>
                    </a:lnTo>
                    <a:lnTo>
                      <a:pt x="17676" y="16140"/>
                    </a:lnTo>
                    <a:lnTo>
                      <a:pt x="15112" y="17581"/>
                    </a:lnTo>
                    <a:lnTo>
                      <a:pt x="12082" y="18958"/>
                    </a:lnTo>
                    <a:lnTo>
                      <a:pt x="8391" y="20309"/>
                    </a:lnTo>
                    <a:lnTo>
                      <a:pt x="3963" y="21600"/>
                    </a:lnTo>
                    <a:lnTo>
                      <a:pt x="4429" y="21600"/>
                    </a:lnTo>
                    <a:lnTo>
                      <a:pt x="8858" y="20309"/>
                    </a:lnTo>
                    <a:lnTo>
                      <a:pt x="12548" y="18958"/>
                    </a:lnTo>
                    <a:lnTo>
                      <a:pt x="15578" y="17581"/>
                    </a:lnTo>
                    <a:lnTo>
                      <a:pt x="18142" y="16140"/>
                    </a:lnTo>
                    <a:lnTo>
                      <a:pt x="20007" y="14669"/>
                    </a:lnTo>
                    <a:lnTo>
                      <a:pt x="21134" y="13172"/>
                    </a:lnTo>
                    <a:lnTo>
                      <a:pt x="21600" y="11641"/>
                    </a:lnTo>
                    <a:lnTo>
                      <a:pt x="21600" y="10109"/>
                    </a:lnTo>
                    <a:lnTo>
                      <a:pt x="21600" y="10109"/>
                    </a:lnTo>
                    <a:close/>
                    <a:moveTo>
                      <a:pt x="21600" y="1010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440"/>
                    </a:moveTo>
                    <a:lnTo>
                      <a:pt x="21035" y="9058"/>
                    </a:lnTo>
                    <a:lnTo>
                      <a:pt x="19905" y="7712"/>
                    </a:lnTo>
                    <a:lnTo>
                      <a:pt x="18021" y="6361"/>
                    </a:lnTo>
                    <a:lnTo>
                      <a:pt x="15603" y="5040"/>
                    </a:lnTo>
                    <a:lnTo>
                      <a:pt x="12590" y="3748"/>
                    </a:lnTo>
                    <a:lnTo>
                      <a:pt x="9199" y="2462"/>
                    </a:lnTo>
                    <a:lnTo>
                      <a:pt x="5086" y="1201"/>
                    </a:lnTo>
                    <a:lnTo>
                      <a:pt x="377" y="0"/>
                    </a:lnTo>
                    <a:lnTo>
                      <a:pt x="0" y="0"/>
                    </a:lnTo>
                    <a:lnTo>
                      <a:pt x="4709" y="1201"/>
                    </a:lnTo>
                    <a:lnTo>
                      <a:pt x="8822" y="2462"/>
                    </a:lnTo>
                    <a:lnTo>
                      <a:pt x="12213" y="3748"/>
                    </a:lnTo>
                    <a:lnTo>
                      <a:pt x="15227" y="5040"/>
                    </a:lnTo>
                    <a:lnTo>
                      <a:pt x="17644" y="6361"/>
                    </a:lnTo>
                    <a:lnTo>
                      <a:pt x="19528" y="7712"/>
                    </a:lnTo>
                    <a:lnTo>
                      <a:pt x="20658" y="9058"/>
                    </a:lnTo>
                    <a:lnTo>
                      <a:pt x="21223" y="10440"/>
                    </a:lnTo>
                    <a:lnTo>
                      <a:pt x="21223" y="11851"/>
                    </a:lnTo>
                    <a:lnTo>
                      <a:pt x="20658" y="13262"/>
                    </a:lnTo>
                    <a:lnTo>
                      <a:pt x="19340" y="14669"/>
                    </a:lnTo>
                    <a:lnTo>
                      <a:pt x="17456" y="16080"/>
                    </a:lnTo>
                    <a:lnTo>
                      <a:pt x="14850" y="17491"/>
                    </a:lnTo>
                    <a:lnTo>
                      <a:pt x="11648" y="18903"/>
                    </a:lnTo>
                    <a:lnTo>
                      <a:pt x="7880" y="20249"/>
                    </a:lnTo>
                    <a:lnTo>
                      <a:pt x="3579" y="21600"/>
                    </a:lnTo>
                    <a:lnTo>
                      <a:pt x="3956" y="21600"/>
                    </a:lnTo>
                    <a:lnTo>
                      <a:pt x="8257" y="20249"/>
                    </a:lnTo>
                    <a:lnTo>
                      <a:pt x="12024" y="18903"/>
                    </a:lnTo>
                    <a:lnTo>
                      <a:pt x="15227" y="17491"/>
                    </a:lnTo>
                    <a:lnTo>
                      <a:pt x="17833" y="16110"/>
                    </a:lnTo>
                    <a:lnTo>
                      <a:pt x="19716" y="14699"/>
                    </a:lnTo>
                    <a:lnTo>
                      <a:pt x="21035" y="13292"/>
                    </a:lnTo>
                    <a:lnTo>
                      <a:pt x="21600" y="11851"/>
                    </a:lnTo>
                    <a:lnTo>
                      <a:pt x="21600" y="10440"/>
                    </a:lnTo>
                    <a:lnTo>
                      <a:pt x="21600" y="10440"/>
                    </a:lnTo>
                    <a:close/>
                    <a:moveTo>
                      <a:pt x="21600" y="104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449" y="10650"/>
                    </a:moveTo>
                    <a:lnTo>
                      <a:pt x="20847" y="9178"/>
                    </a:lnTo>
                    <a:lnTo>
                      <a:pt x="20270" y="8428"/>
                    </a:lnTo>
                    <a:lnTo>
                      <a:pt x="19668" y="7712"/>
                    </a:lnTo>
                    <a:lnTo>
                      <a:pt x="18765" y="6991"/>
                    </a:lnTo>
                    <a:lnTo>
                      <a:pt x="17862" y="6271"/>
                    </a:lnTo>
                    <a:lnTo>
                      <a:pt x="16658" y="5580"/>
                    </a:lnTo>
                    <a:lnTo>
                      <a:pt x="15303" y="4890"/>
                    </a:lnTo>
                    <a:lnTo>
                      <a:pt x="12318" y="3598"/>
                    </a:lnTo>
                    <a:lnTo>
                      <a:pt x="8856" y="2342"/>
                    </a:lnTo>
                    <a:lnTo>
                      <a:pt x="4817" y="1141"/>
                    </a:lnTo>
                    <a:lnTo>
                      <a:pt x="301" y="0"/>
                    </a:lnTo>
                    <a:lnTo>
                      <a:pt x="0" y="0"/>
                    </a:lnTo>
                    <a:lnTo>
                      <a:pt x="4516" y="1141"/>
                    </a:lnTo>
                    <a:lnTo>
                      <a:pt x="8555" y="2342"/>
                    </a:lnTo>
                    <a:lnTo>
                      <a:pt x="12017" y="3598"/>
                    </a:lnTo>
                    <a:lnTo>
                      <a:pt x="15002" y="4920"/>
                    </a:lnTo>
                    <a:lnTo>
                      <a:pt x="16357" y="5610"/>
                    </a:lnTo>
                    <a:lnTo>
                      <a:pt x="17561" y="6301"/>
                    </a:lnTo>
                    <a:lnTo>
                      <a:pt x="18464" y="7022"/>
                    </a:lnTo>
                    <a:lnTo>
                      <a:pt x="19367" y="7742"/>
                    </a:lnTo>
                    <a:lnTo>
                      <a:pt x="20120" y="8458"/>
                    </a:lnTo>
                    <a:lnTo>
                      <a:pt x="20546" y="9178"/>
                    </a:lnTo>
                    <a:lnTo>
                      <a:pt x="20998" y="9929"/>
                    </a:lnTo>
                    <a:lnTo>
                      <a:pt x="21148" y="10650"/>
                    </a:lnTo>
                    <a:lnTo>
                      <a:pt x="21299" y="11401"/>
                    </a:lnTo>
                    <a:lnTo>
                      <a:pt x="21148" y="12151"/>
                    </a:lnTo>
                    <a:lnTo>
                      <a:pt x="20847" y="12872"/>
                    </a:lnTo>
                    <a:lnTo>
                      <a:pt x="20546" y="13618"/>
                    </a:lnTo>
                    <a:lnTo>
                      <a:pt x="19969" y="14338"/>
                    </a:lnTo>
                    <a:lnTo>
                      <a:pt x="19217" y="15089"/>
                    </a:lnTo>
                    <a:lnTo>
                      <a:pt x="18163" y="15810"/>
                    </a:lnTo>
                    <a:lnTo>
                      <a:pt x="17109" y="16530"/>
                    </a:lnTo>
                    <a:lnTo>
                      <a:pt x="14701" y="17852"/>
                    </a:lnTo>
                    <a:lnTo>
                      <a:pt x="11866" y="19138"/>
                    </a:lnTo>
                    <a:lnTo>
                      <a:pt x="8404" y="20399"/>
                    </a:lnTo>
                    <a:lnTo>
                      <a:pt x="4516" y="21600"/>
                    </a:lnTo>
                    <a:lnTo>
                      <a:pt x="4817" y="21600"/>
                    </a:lnTo>
                    <a:lnTo>
                      <a:pt x="8705" y="20399"/>
                    </a:lnTo>
                    <a:lnTo>
                      <a:pt x="12167" y="19138"/>
                    </a:lnTo>
                    <a:lnTo>
                      <a:pt x="15002" y="17882"/>
                    </a:lnTo>
                    <a:lnTo>
                      <a:pt x="17410" y="16560"/>
                    </a:lnTo>
                    <a:lnTo>
                      <a:pt x="18464" y="15840"/>
                    </a:lnTo>
                    <a:lnTo>
                      <a:pt x="19518" y="15119"/>
                    </a:lnTo>
                    <a:lnTo>
                      <a:pt x="20270" y="14368"/>
                    </a:lnTo>
                    <a:lnTo>
                      <a:pt x="20847" y="13648"/>
                    </a:lnTo>
                    <a:lnTo>
                      <a:pt x="21148" y="12902"/>
                    </a:lnTo>
                    <a:lnTo>
                      <a:pt x="21449" y="12151"/>
                    </a:lnTo>
                    <a:lnTo>
                      <a:pt x="21600" y="11401"/>
                    </a:lnTo>
                    <a:lnTo>
                      <a:pt x="21449" y="10650"/>
                    </a:lnTo>
                    <a:lnTo>
                      <a:pt x="21449" y="10650"/>
                    </a:lnTo>
                    <a:close/>
                    <a:moveTo>
                      <a:pt x="21449" y="1065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609" y="9719"/>
                    </a:moveTo>
                    <a:lnTo>
                      <a:pt x="4349" y="8158"/>
                    </a:lnTo>
                    <a:lnTo>
                      <a:pt x="6089" y="6661"/>
                    </a:lnTo>
                    <a:lnTo>
                      <a:pt x="8553" y="5280"/>
                    </a:lnTo>
                    <a:lnTo>
                      <a:pt x="11162" y="3959"/>
                    </a:lnTo>
                    <a:lnTo>
                      <a:pt x="12032" y="3358"/>
                    </a:lnTo>
                    <a:lnTo>
                      <a:pt x="13772" y="2788"/>
                    </a:lnTo>
                    <a:lnTo>
                      <a:pt x="15511" y="2222"/>
                    </a:lnTo>
                    <a:lnTo>
                      <a:pt x="16381" y="1712"/>
                    </a:lnTo>
                    <a:lnTo>
                      <a:pt x="18121" y="1231"/>
                    </a:lnTo>
                    <a:lnTo>
                      <a:pt x="18991" y="781"/>
                    </a:lnTo>
                    <a:lnTo>
                      <a:pt x="20730" y="360"/>
                    </a:lnTo>
                    <a:lnTo>
                      <a:pt x="21600" y="0"/>
                    </a:lnTo>
                    <a:lnTo>
                      <a:pt x="19860" y="0"/>
                    </a:lnTo>
                    <a:lnTo>
                      <a:pt x="18991" y="360"/>
                    </a:lnTo>
                    <a:lnTo>
                      <a:pt x="17251" y="781"/>
                    </a:lnTo>
                    <a:lnTo>
                      <a:pt x="16381" y="1231"/>
                    </a:lnTo>
                    <a:lnTo>
                      <a:pt x="14642" y="1712"/>
                    </a:lnTo>
                    <a:lnTo>
                      <a:pt x="13772" y="2222"/>
                    </a:lnTo>
                    <a:lnTo>
                      <a:pt x="12032" y="2788"/>
                    </a:lnTo>
                    <a:lnTo>
                      <a:pt x="10293" y="3358"/>
                    </a:lnTo>
                    <a:lnTo>
                      <a:pt x="9423" y="3959"/>
                    </a:lnTo>
                    <a:lnTo>
                      <a:pt x="6958" y="5280"/>
                    </a:lnTo>
                    <a:lnTo>
                      <a:pt x="4349" y="6661"/>
                    </a:lnTo>
                    <a:lnTo>
                      <a:pt x="2609" y="8158"/>
                    </a:lnTo>
                    <a:lnTo>
                      <a:pt x="870" y="9719"/>
                    </a:lnTo>
                    <a:lnTo>
                      <a:pt x="0" y="11401"/>
                    </a:lnTo>
                    <a:lnTo>
                      <a:pt x="870" y="13022"/>
                    </a:lnTo>
                    <a:lnTo>
                      <a:pt x="1740" y="14609"/>
                    </a:lnTo>
                    <a:lnTo>
                      <a:pt x="3479" y="16110"/>
                    </a:lnTo>
                    <a:lnTo>
                      <a:pt x="5219" y="17581"/>
                    </a:lnTo>
                    <a:lnTo>
                      <a:pt x="8553" y="18988"/>
                    </a:lnTo>
                    <a:lnTo>
                      <a:pt x="12902" y="20309"/>
                    </a:lnTo>
                    <a:lnTo>
                      <a:pt x="18121" y="21600"/>
                    </a:lnTo>
                    <a:lnTo>
                      <a:pt x="19860" y="21600"/>
                    </a:lnTo>
                    <a:lnTo>
                      <a:pt x="14642" y="20309"/>
                    </a:lnTo>
                    <a:lnTo>
                      <a:pt x="10293" y="18988"/>
                    </a:lnTo>
                    <a:lnTo>
                      <a:pt x="6958" y="17581"/>
                    </a:lnTo>
                    <a:lnTo>
                      <a:pt x="5219" y="16140"/>
                    </a:lnTo>
                    <a:lnTo>
                      <a:pt x="3479" y="14609"/>
                    </a:lnTo>
                    <a:lnTo>
                      <a:pt x="2609" y="13052"/>
                    </a:lnTo>
                    <a:lnTo>
                      <a:pt x="1740" y="11401"/>
                    </a:lnTo>
                    <a:lnTo>
                      <a:pt x="2609" y="9719"/>
                    </a:lnTo>
                    <a:lnTo>
                      <a:pt x="2609" y="9719"/>
                    </a:lnTo>
                    <a:close/>
                    <a:moveTo>
                      <a:pt x="2609" y="971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00" y="10320"/>
                    </a:moveTo>
                    <a:lnTo>
                      <a:pt x="2167" y="8758"/>
                    </a:lnTo>
                    <a:lnTo>
                      <a:pt x="3901" y="7262"/>
                    </a:lnTo>
                    <a:lnTo>
                      <a:pt x="6068" y="5850"/>
                    </a:lnTo>
                    <a:lnTo>
                      <a:pt x="9102" y="4499"/>
                    </a:lnTo>
                    <a:lnTo>
                      <a:pt x="11703" y="3208"/>
                    </a:lnTo>
                    <a:lnTo>
                      <a:pt x="15098" y="2042"/>
                    </a:lnTo>
                    <a:lnTo>
                      <a:pt x="18132" y="961"/>
                    </a:lnTo>
                    <a:lnTo>
                      <a:pt x="21600" y="0"/>
                    </a:lnTo>
                    <a:lnTo>
                      <a:pt x="20733" y="0"/>
                    </a:lnTo>
                    <a:lnTo>
                      <a:pt x="17266" y="961"/>
                    </a:lnTo>
                    <a:lnTo>
                      <a:pt x="14304" y="2042"/>
                    </a:lnTo>
                    <a:lnTo>
                      <a:pt x="11270" y="3208"/>
                    </a:lnTo>
                    <a:lnTo>
                      <a:pt x="8235" y="4499"/>
                    </a:lnTo>
                    <a:lnTo>
                      <a:pt x="5635" y="5850"/>
                    </a:lnTo>
                    <a:lnTo>
                      <a:pt x="3468" y="7262"/>
                    </a:lnTo>
                    <a:lnTo>
                      <a:pt x="1734" y="8758"/>
                    </a:lnTo>
                    <a:lnTo>
                      <a:pt x="433" y="10320"/>
                    </a:lnTo>
                    <a:lnTo>
                      <a:pt x="0" y="11881"/>
                    </a:lnTo>
                    <a:lnTo>
                      <a:pt x="867" y="13382"/>
                    </a:lnTo>
                    <a:lnTo>
                      <a:pt x="2167" y="14879"/>
                    </a:lnTo>
                    <a:lnTo>
                      <a:pt x="3901" y="16290"/>
                    </a:lnTo>
                    <a:lnTo>
                      <a:pt x="6935" y="17701"/>
                    </a:lnTo>
                    <a:lnTo>
                      <a:pt x="10403" y="19048"/>
                    </a:lnTo>
                    <a:lnTo>
                      <a:pt x="14665" y="20339"/>
                    </a:lnTo>
                    <a:lnTo>
                      <a:pt x="19866" y="21600"/>
                    </a:lnTo>
                    <a:lnTo>
                      <a:pt x="20733" y="21600"/>
                    </a:lnTo>
                    <a:lnTo>
                      <a:pt x="15532" y="20339"/>
                    </a:lnTo>
                    <a:lnTo>
                      <a:pt x="11270" y="19048"/>
                    </a:lnTo>
                    <a:lnTo>
                      <a:pt x="7802" y="17701"/>
                    </a:lnTo>
                    <a:lnTo>
                      <a:pt x="4768" y="16320"/>
                    </a:lnTo>
                    <a:lnTo>
                      <a:pt x="3034" y="14879"/>
                    </a:lnTo>
                    <a:lnTo>
                      <a:pt x="1734" y="13412"/>
                    </a:lnTo>
                    <a:lnTo>
                      <a:pt x="867" y="11881"/>
                    </a:lnTo>
                    <a:lnTo>
                      <a:pt x="1300" y="10320"/>
                    </a:lnTo>
                    <a:lnTo>
                      <a:pt x="1300" y="10320"/>
                    </a:lnTo>
                    <a:close/>
                    <a:moveTo>
                      <a:pt x="1300" y="1032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20989" y="0"/>
                    </a:lnTo>
                    <a:lnTo>
                      <a:pt x="16098" y="1111"/>
                    </a:lnTo>
                    <a:lnTo>
                      <a:pt x="12175" y="2312"/>
                    </a:lnTo>
                    <a:lnTo>
                      <a:pt x="8508" y="3538"/>
                    </a:lnTo>
                    <a:lnTo>
                      <a:pt x="5451" y="4859"/>
                    </a:lnTo>
                    <a:lnTo>
                      <a:pt x="3311" y="6241"/>
                    </a:lnTo>
                    <a:lnTo>
                      <a:pt x="1477" y="7652"/>
                    </a:lnTo>
                    <a:lnTo>
                      <a:pt x="306" y="9118"/>
                    </a:lnTo>
                    <a:lnTo>
                      <a:pt x="0" y="10620"/>
                    </a:lnTo>
                    <a:lnTo>
                      <a:pt x="306" y="12031"/>
                    </a:lnTo>
                    <a:lnTo>
                      <a:pt x="1223" y="13442"/>
                    </a:lnTo>
                    <a:lnTo>
                      <a:pt x="2394" y="14819"/>
                    </a:lnTo>
                    <a:lnTo>
                      <a:pt x="4534" y="16230"/>
                    </a:lnTo>
                    <a:lnTo>
                      <a:pt x="6979" y="17611"/>
                    </a:lnTo>
                    <a:lnTo>
                      <a:pt x="10036" y="18958"/>
                    </a:lnTo>
                    <a:lnTo>
                      <a:pt x="13704" y="20309"/>
                    </a:lnTo>
                    <a:lnTo>
                      <a:pt x="17626" y="21600"/>
                    </a:lnTo>
                    <a:lnTo>
                      <a:pt x="18238" y="21600"/>
                    </a:lnTo>
                    <a:lnTo>
                      <a:pt x="14315" y="20309"/>
                    </a:lnTo>
                    <a:lnTo>
                      <a:pt x="10647" y="18958"/>
                    </a:lnTo>
                    <a:lnTo>
                      <a:pt x="7591" y="17611"/>
                    </a:lnTo>
                    <a:lnTo>
                      <a:pt x="5145" y="16230"/>
                    </a:lnTo>
                    <a:lnTo>
                      <a:pt x="3006" y="14819"/>
                    </a:lnTo>
                    <a:lnTo>
                      <a:pt x="1783" y="13442"/>
                    </a:lnTo>
                    <a:lnTo>
                      <a:pt x="917" y="12031"/>
                    </a:lnTo>
                    <a:lnTo>
                      <a:pt x="611" y="10620"/>
                    </a:lnTo>
                    <a:lnTo>
                      <a:pt x="917" y="9118"/>
                    </a:lnTo>
                    <a:lnTo>
                      <a:pt x="2089" y="7652"/>
                    </a:lnTo>
                    <a:lnTo>
                      <a:pt x="3617" y="6241"/>
                    </a:lnTo>
                    <a:lnTo>
                      <a:pt x="6062" y="4859"/>
                    </a:lnTo>
                    <a:lnTo>
                      <a:pt x="9119" y="3538"/>
                    </a:lnTo>
                    <a:lnTo>
                      <a:pt x="12481" y="2312"/>
                    </a:lnTo>
                    <a:lnTo>
                      <a:pt x="16709" y="1111"/>
                    </a:lnTo>
                    <a:lnTo>
                      <a:pt x="21600" y="0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2" y="10740"/>
                    </a:moveTo>
                    <a:lnTo>
                      <a:pt x="903" y="9239"/>
                    </a:lnTo>
                    <a:lnTo>
                      <a:pt x="2032" y="7802"/>
                    </a:lnTo>
                    <a:lnTo>
                      <a:pt x="3613" y="6391"/>
                    </a:lnTo>
                    <a:lnTo>
                      <a:pt x="6096" y="5010"/>
                    </a:lnTo>
                    <a:lnTo>
                      <a:pt x="8994" y="3658"/>
                    </a:lnTo>
                    <a:lnTo>
                      <a:pt x="12606" y="2402"/>
                    </a:lnTo>
                    <a:lnTo>
                      <a:pt x="16896" y="1171"/>
                    </a:lnTo>
                    <a:lnTo>
                      <a:pt x="21600" y="0"/>
                    </a:lnTo>
                    <a:lnTo>
                      <a:pt x="21148" y="0"/>
                    </a:lnTo>
                    <a:lnTo>
                      <a:pt x="16445" y="1171"/>
                    </a:lnTo>
                    <a:lnTo>
                      <a:pt x="12155" y="2402"/>
                    </a:lnTo>
                    <a:lnTo>
                      <a:pt x="8542" y="3688"/>
                    </a:lnTo>
                    <a:lnTo>
                      <a:pt x="5645" y="5010"/>
                    </a:lnTo>
                    <a:lnTo>
                      <a:pt x="3161" y="6391"/>
                    </a:lnTo>
                    <a:lnTo>
                      <a:pt x="1580" y="7802"/>
                    </a:lnTo>
                    <a:lnTo>
                      <a:pt x="452" y="9269"/>
                    </a:lnTo>
                    <a:lnTo>
                      <a:pt x="0" y="10740"/>
                    </a:lnTo>
                    <a:lnTo>
                      <a:pt x="226" y="12181"/>
                    </a:lnTo>
                    <a:lnTo>
                      <a:pt x="1129" y="13588"/>
                    </a:lnTo>
                    <a:lnTo>
                      <a:pt x="2484" y="14999"/>
                    </a:lnTo>
                    <a:lnTo>
                      <a:pt x="4516" y="16380"/>
                    </a:lnTo>
                    <a:lnTo>
                      <a:pt x="7187" y="17761"/>
                    </a:lnTo>
                    <a:lnTo>
                      <a:pt x="10348" y="19078"/>
                    </a:lnTo>
                    <a:lnTo>
                      <a:pt x="13961" y="20369"/>
                    </a:lnTo>
                    <a:lnTo>
                      <a:pt x="18213" y="21600"/>
                    </a:lnTo>
                    <a:lnTo>
                      <a:pt x="18665" y="21600"/>
                    </a:lnTo>
                    <a:lnTo>
                      <a:pt x="14413" y="20369"/>
                    </a:lnTo>
                    <a:lnTo>
                      <a:pt x="10800" y="19078"/>
                    </a:lnTo>
                    <a:lnTo>
                      <a:pt x="7639" y="17761"/>
                    </a:lnTo>
                    <a:lnTo>
                      <a:pt x="4967" y="16380"/>
                    </a:lnTo>
                    <a:lnTo>
                      <a:pt x="2935" y="14999"/>
                    </a:lnTo>
                    <a:lnTo>
                      <a:pt x="1580" y="13588"/>
                    </a:lnTo>
                    <a:lnTo>
                      <a:pt x="677" y="12181"/>
                    </a:lnTo>
                    <a:lnTo>
                      <a:pt x="452" y="10740"/>
                    </a:lnTo>
                    <a:lnTo>
                      <a:pt x="452" y="10740"/>
                    </a:lnTo>
                    <a:close/>
                    <a:moveTo>
                      <a:pt x="452" y="107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53" y="10500"/>
                    </a:moveTo>
                    <a:lnTo>
                      <a:pt x="852" y="8998"/>
                    </a:lnTo>
                    <a:lnTo>
                      <a:pt x="2087" y="7532"/>
                    </a:lnTo>
                    <a:lnTo>
                      <a:pt x="3850" y="6121"/>
                    </a:lnTo>
                    <a:lnTo>
                      <a:pt x="6318" y="4709"/>
                    </a:lnTo>
                    <a:lnTo>
                      <a:pt x="9287" y="3448"/>
                    </a:lnTo>
                    <a:lnTo>
                      <a:pt x="12989" y="2222"/>
                    </a:lnTo>
                    <a:lnTo>
                      <a:pt x="17045" y="1081"/>
                    </a:lnTo>
                    <a:lnTo>
                      <a:pt x="21600" y="0"/>
                    </a:lnTo>
                    <a:lnTo>
                      <a:pt x="21247" y="0"/>
                    </a:lnTo>
                    <a:lnTo>
                      <a:pt x="16692" y="1051"/>
                    </a:lnTo>
                    <a:lnTo>
                      <a:pt x="12637" y="2192"/>
                    </a:lnTo>
                    <a:lnTo>
                      <a:pt x="9140" y="3418"/>
                    </a:lnTo>
                    <a:lnTo>
                      <a:pt x="6142" y="4709"/>
                    </a:lnTo>
                    <a:lnTo>
                      <a:pt x="3673" y="6091"/>
                    </a:lnTo>
                    <a:lnTo>
                      <a:pt x="1734" y="7532"/>
                    </a:lnTo>
                    <a:lnTo>
                      <a:pt x="529" y="8998"/>
                    </a:lnTo>
                    <a:lnTo>
                      <a:pt x="0" y="10500"/>
                    </a:lnTo>
                    <a:lnTo>
                      <a:pt x="176" y="12031"/>
                    </a:lnTo>
                    <a:lnTo>
                      <a:pt x="852" y="13558"/>
                    </a:lnTo>
                    <a:lnTo>
                      <a:pt x="2263" y="15089"/>
                    </a:lnTo>
                    <a:lnTo>
                      <a:pt x="4379" y="16590"/>
                    </a:lnTo>
                    <a:lnTo>
                      <a:pt x="6671" y="17882"/>
                    </a:lnTo>
                    <a:lnTo>
                      <a:pt x="9287" y="19138"/>
                    </a:lnTo>
                    <a:lnTo>
                      <a:pt x="12460" y="20399"/>
                    </a:lnTo>
                    <a:lnTo>
                      <a:pt x="15987" y="21600"/>
                    </a:lnTo>
                    <a:lnTo>
                      <a:pt x="16340" y="21600"/>
                    </a:lnTo>
                    <a:lnTo>
                      <a:pt x="12813" y="20399"/>
                    </a:lnTo>
                    <a:lnTo>
                      <a:pt x="9639" y="19138"/>
                    </a:lnTo>
                    <a:lnTo>
                      <a:pt x="7024" y="17882"/>
                    </a:lnTo>
                    <a:lnTo>
                      <a:pt x="4731" y="16590"/>
                    </a:lnTo>
                    <a:lnTo>
                      <a:pt x="2616" y="15089"/>
                    </a:lnTo>
                    <a:lnTo>
                      <a:pt x="1205" y="13558"/>
                    </a:lnTo>
                    <a:lnTo>
                      <a:pt x="529" y="12031"/>
                    </a:lnTo>
                    <a:lnTo>
                      <a:pt x="353" y="10500"/>
                    </a:lnTo>
                    <a:lnTo>
                      <a:pt x="353" y="10500"/>
                    </a:lnTo>
                    <a:close/>
                    <a:moveTo>
                      <a:pt x="353" y="1050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65" y="9749"/>
                    </a:moveTo>
                    <a:lnTo>
                      <a:pt x="1239" y="8548"/>
                    </a:lnTo>
                    <a:lnTo>
                      <a:pt x="2477" y="7382"/>
                    </a:lnTo>
                    <a:lnTo>
                      <a:pt x="4155" y="6181"/>
                    </a:lnTo>
                    <a:lnTo>
                      <a:pt x="6477" y="4980"/>
                    </a:lnTo>
                    <a:lnTo>
                      <a:pt x="9419" y="3778"/>
                    </a:lnTo>
                    <a:lnTo>
                      <a:pt x="12800" y="2552"/>
                    </a:lnTo>
                    <a:lnTo>
                      <a:pt x="16981" y="1291"/>
                    </a:lnTo>
                    <a:lnTo>
                      <a:pt x="19123" y="661"/>
                    </a:lnTo>
                    <a:lnTo>
                      <a:pt x="21600" y="0"/>
                    </a:lnTo>
                    <a:lnTo>
                      <a:pt x="21290" y="0"/>
                    </a:lnTo>
                    <a:lnTo>
                      <a:pt x="18813" y="661"/>
                    </a:lnTo>
                    <a:lnTo>
                      <a:pt x="16516" y="1291"/>
                    </a:lnTo>
                    <a:lnTo>
                      <a:pt x="14503" y="1922"/>
                    </a:lnTo>
                    <a:lnTo>
                      <a:pt x="12490" y="2552"/>
                    </a:lnTo>
                    <a:lnTo>
                      <a:pt x="9110" y="3778"/>
                    </a:lnTo>
                    <a:lnTo>
                      <a:pt x="6168" y="4980"/>
                    </a:lnTo>
                    <a:lnTo>
                      <a:pt x="3871" y="6181"/>
                    </a:lnTo>
                    <a:lnTo>
                      <a:pt x="2168" y="7352"/>
                    </a:lnTo>
                    <a:lnTo>
                      <a:pt x="929" y="8518"/>
                    </a:lnTo>
                    <a:lnTo>
                      <a:pt x="155" y="9719"/>
                    </a:lnTo>
                    <a:lnTo>
                      <a:pt x="0" y="11010"/>
                    </a:lnTo>
                    <a:lnTo>
                      <a:pt x="310" y="12361"/>
                    </a:lnTo>
                    <a:lnTo>
                      <a:pt x="1239" y="13708"/>
                    </a:lnTo>
                    <a:lnTo>
                      <a:pt x="2942" y="15149"/>
                    </a:lnTo>
                    <a:lnTo>
                      <a:pt x="3871" y="15870"/>
                    </a:lnTo>
                    <a:lnTo>
                      <a:pt x="5084" y="16620"/>
                    </a:lnTo>
                    <a:lnTo>
                      <a:pt x="6323" y="17401"/>
                    </a:lnTo>
                    <a:lnTo>
                      <a:pt x="7871" y="18212"/>
                    </a:lnTo>
                    <a:lnTo>
                      <a:pt x="9419" y="19018"/>
                    </a:lnTo>
                    <a:lnTo>
                      <a:pt x="11277" y="19858"/>
                    </a:lnTo>
                    <a:lnTo>
                      <a:pt x="13110" y="20699"/>
                    </a:lnTo>
                    <a:lnTo>
                      <a:pt x="15277" y="21600"/>
                    </a:lnTo>
                    <a:lnTo>
                      <a:pt x="15587" y="21600"/>
                    </a:lnTo>
                    <a:lnTo>
                      <a:pt x="13419" y="20699"/>
                    </a:lnTo>
                    <a:lnTo>
                      <a:pt x="11561" y="19858"/>
                    </a:lnTo>
                    <a:lnTo>
                      <a:pt x="9729" y="19018"/>
                    </a:lnTo>
                    <a:lnTo>
                      <a:pt x="8181" y="18212"/>
                    </a:lnTo>
                    <a:lnTo>
                      <a:pt x="6632" y="17401"/>
                    </a:lnTo>
                    <a:lnTo>
                      <a:pt x="5394" y="16650"/>
                    </a:lnTo>
                    <a:lnTo>
                      <a:pt x="4155" y="15870"/>
                    </a:lnTo>
                    <a:lnTo>
                      <a:pt x="3252" y="15149"/>
                    </a:lnTo>
                    <a:lnTo>
                      <a:pt x="1548" y="13708"/>
                    </a:lnTo>
                    <a:lnTo>
                      <a:pt x="619" y="12361"/>
                    </a:lnTo>
                    <a:lnTo>
                      <a:pt x="310" y="11040"/>
                    </a:lnTo>
                    <a:lnTo>
                      <a:pt x="465" y="9749"/>
                    </a:lnTo>
                    <a:lnTo>
                      <a:pt x="465" y="9749"/>
                    </a:lnTo>
                    <a:close/>
                    <a:moveTo>
                      <a:pt x="465" y="974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24"/>
                  </a:moveTo>
                  <a:lnTo>
                    <a:pt x="1502" y="3480"/>
                  </a:lnTo>
                  <a:lnTo>
                    <a:pt x="3433" y="6137"/>
                  </a:lnTo>
                  <a:lnTo>
                    <a:pt x="5758" y="8793"/>
                  </a:lnTo>
                  <a:lnTo>
                    <a:pt x="8118" y="11357"/>
                  </a:lnTo>
                  <a:lnTo>
                    <a:pt x="10907" y="13998"/>
                  </a:lnTo>
                  <a:lnTo>
                    <a:pt x="13911" y="16563"/>
                  </a:lnTo>
                  <a:lnTo>
                    <a:pt x="17309" y="19127"/>
                  </a:lnTo>
                  <a:lnTo>
                    <a:pt x="20956" y="21600"/>
                  </a:lnTo>
                  <a:lnTo>
                    <a:pt x="21600" y="21600"/>
                  </a:lnTo>
                  <a:lnTo>
                    <a:pt x="17738" y="19035"/>
                  </a:lnTo>
                  <a:lnTo>
                    <a:pt x="14340" y="16379"/>
                  </a:lnTo>
                  <a:lnTo>
                    <a:pt x="11122" y="13723"/>
                  </a:lnTo>
                  <a:lnTo>
                    <a:pt x="8332" y="10991"/>
                  </a:lnTo>
                  <a:lnTo>
                    <a:pt x="5758" y="8335"/>
                  </a:lnTo>
                  <a:lnTo>
                    <a:pt x="3648" y="5587"/>
                  </a:lnTo>
                  <a:lnTo>
                    <a:pt x="1717" y="2748"/>
                  </a:lnTo>
                  <a:lnTo>
                    <a:pt x="0" y="0"/>
                  </a:lnTo>
                  <a:lnTo>
                    <a:pt x="0" y="824"/>
                  </a:lnTo>
                  <a:lnTo>
                    <a:pt x="0" y="824"/>
                  </a:lnTo>
                  <a:close/>
                  <a:moveTo>
                    <a:pt x="0" y="824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21"/>
                  </a:moveTo>
                  <a:lnTo>
                    <a:pt x="10277" y="12169"/>
                  </a:lnTo>
                  <a:lnTo>
                    <a:pt x="20458" y="21600"/>
                  </a:lnTo>
                  <a:lnTo>
                    <a:pt x="21600" y="21600"/>
                  </a:lnTo>
                  <a:lnTo>
                    <a:pt x="15891" y="16732"/>
                  </a:lnTo>
                  <a:lnTo>
                    <a:pt x="10848" y="11256"/>
                  </a:lnTo>
                  <a:lnTo>
                    <a:pt x="0" y="0"/>
                  </a:lnTo>
                  <a:lnTo>
                    <a:pt x="0" y="1521"/>
                  </a:lnTo>
                  <a:lnTo>
                    <a:pt x="0" y="1521"/>
                  </a:lnTo>
                  <a:close/>
                  <a:moveTo>
                    <a:pt x="0" y="1521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802"/>
                  </a:lnTo>
                  <a:lnTo>
                    <a:pt x="21336" y="20149"/>
                  </a:lnTo>
                  <a:lnTo>
                    <a:pt x="21072" y="19508"/>
                  </a:lnTo>
                  <a:lnTo>
                    <a:pt x="20279" y="17984"/>
                  </a:lnTo>
                  <a:lnTo>
                    <a:pt x="19486" y="16460"/>
                  </a:lnTo>
                  <a:lnTo>
                    <a:pt x="17527" y="13557"/>
                  </a:lnTo>
                  <a:lnTo>
                    <a:pt x="15017" y="10873"/>
                  </a:lnTo>
                  <a:lnTo>
                    <a:pt x="12374" y="8333"/>
                  </a:lnTo>
                  <a:lnTo>
                    <a:pt x="9490" y="6023"/>
                  </a:lnTo>
                  <a:lnTo>
                    <a:pt x="6451" y="3846"/>
                  </a:lnTo>
                  <a:lnTo>
                    <a:pt x="3303" y="1814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3039" y="1814"/>
                  </a:lnTo>
                  <a:lnTo>
                    <a:pt x="6055" y="3846"/>
                  </a:lnTo>
                  <a:lnTo>
                    <a:pt x="9094" y="6023"/>
                  </a:lnTo>
                  <a:lnTo>
                    <a:pt x="12000" y="8333"/>
                  </a:lnTo>
                  <a:lnTo>
                    <a:pt x="14752" y="10873"/>
                  </a:lnTo>
                  <a:lnTo>
                    <a:pt x="17130" y="13557"/>
                  </a:lnTo>
                  <a:lnTo>
                    <a:pt x="19222" y="16460"/>
                  </a:lnTo>
                  <a:lnTo>
                    <a:pt x="20015" y="17984"/>
                  </a:lnTo>
                  <a:lnTo>
                    <a:pt x="20807" y="19580"/>
                  </a:lnTo>
                  <a:lnTo>
                    <a:pt x="21204" y="20584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987"/>
                  </a:lnTo>
                  <a:lnTo>
                    <a:pt x="17292" y="15465"/>
                  </a:lnTo>
                  <a:lnTo>
                    <a:pt x="12231" y="10123"/>
                  </a:lnTo>
                  <a:lnTo>
                    <a:pt x="6658" y="4908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6296" y="5061"/>
                  </a:lnTo>
                  <a:lnTo>
                    <a:pt x="12050" y="10429"/>
                  </a:lnTo>
                  <a:lnTo>
                    <a:pt x="17111" y="15925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661"/>
                  </a:lnTo>
                  <a:lnTo>
                    <a:pt x="11782" y="10017"/>
                  </a:lnTo>
                  <a:lnTo>
                    <a:pt x="637" y="0"/>
                  </a:lnTo>
                  <a:lnTo>
                    <a:pt x="0" y="0"/>
                  </a:lnTo>
                  <a:lnTo>
                    <a:pt x="5732" y="5322"/>
                  </a:lnTo>
                  <a:lnTo>
                    <a:pt x="11463" y="10643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864"/>
                  </a:moveTo>
                  <a:lnTo>
                    <a:pt x="0" y="21600"/>
                  </a:lnTo>
                  <a:lnTo>
                    <a:pt x="1364" y="18565"/>
                  </a:lnTo>
                  <a:lnTo>
                    <a:pt x="3183" y="15529"/>
                  </a:lnTo>
                  <a:lnTo>
                    <a:pt x="5432" y="12678"/>
                  </a:lnTo>
                  <a:lnTo>
                    <a:pt x="7857" y="9919"/>
                  </a:lnTo>
                  <a:lnTo>
                    <a:pt x="10888" y="7266"/>
                  </a:lnTo>
                  <a:lnTo>
                    <a:pt x="14046" y="4783"/>
                  </a:lnTo>
                  <a:lnTo>
                    <a:pt x="17684" y="2300"/>
                  </a:lnTo>
                  <a:lnTo>
                    <a:pt x="21600" y="0"/>
                  </a:lnTo>
                  <a:lnTo>
                    <a:pt x="21145" y="0"/>
                  </a:lnTo>
                  <a:lnTo>
                    <a:pt x="17381" y="2208"/>
                  </a:lnTo>
                  <a:lnTo>
                    <a:pt x="13895" y="4599"/>
                  </a:lnTo>
                  <a:lnTo>
                    <a:pt x="10737" y="7082"/>
                  </a:lnTo>
                  <a:lnTo>
                    <a:pt x="7857" y="9643"/>
                  </a:lnTo>
                  <a:lnTo>
                    <a:pt x="5432" y="12310"/>
                  </a:lnTo>
                  <a:lnTo>
                    <a:pt x="3335" y="15069"/>
                  </a:lnTo>
                  <a:lnTo>
                    <a:pt x="1516" y="17921"/>
                  </a:lnTo>
                  <a:lnTo>
                    <a:pt x="0" y="20864"/>
                  </a:lnTo>
                  <a:lnTo>
                    <a:pt x="0" y="20864"/>
                  </a:lnTo>
                  <a:close/>
                  <a:moveTo>
                    <a:pt x="0" y="20864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937" y="0"/>
                  </a:lnTo>
                  <a:lnTo>
                    <a:pt x="15002" y="4760"/>
                  </a:lnTo>
                  <a:lnTo>
                    <a:pt x="9473" y="9736"/>
                  </a:lnTo>
                  <a:lnTo>
                    <a:pt x="4423" y="15145"/>
                  </a:lnTo>
                  <a:lnTo>
                    <a:pt x="0" y="20735"/>
                  </a:lnTo>
                  <a:lnTo>
                    <a:pt x="0" y="21600"/>
                  </a:lnTo>
                  <a:lnTo>
                    <a:pt x="4423" y="15578"/>
                  </a:lnTo>
                  <a:lnTo>
                    <a:pt x="9473" y="10169"/>
                  </a:lnTo>
                  <a:lnTo>
                    <a:pt x="15223" y="497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155" y="0"/>
                  </a:lnTo>
                  <a:lnTo>
                    <a:pt x="9636" y="9771"/>
                  </a:lnTo>
                  <a:lnTo>
                    <a:pt x="4818" y="14914"/>
                  </a:lnTo>
                  <a:lnTo>
                    <a:pt x="0" y="20057"/>
                  </a:lnTo>
                  <a:lnTo>
                    <a:pt x="0" y="21600"/>
                  </a:lnTo>
                  <a:lnTo>
                    <a:pt x="10117" y="1028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4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4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4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1440" y="622440"/>
              <a:ext cx="9140760" cy="2495520"/>
              <a:chOff x="1440" y="622440"/>
              <a:chExt cx="9140760" cy="2495520"/>
            </a:xfrm>
          </p:grpSpPr>
          <p:sp>
            <p:nvSpPr>
              <p:cNvPr id="308" name=""/>
              <p:cNvSpPr/>
              <p:nvPr/>
            </p:nvSpPr>
            <p:spPr>
              <a:xfrm>
                <a:off x="1440" y="124488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40" y="311652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40" y="24926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40" y="186876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4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144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4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"/>
          <p:cNvSpPr txBox="1"/>
          <p:nvPr/>
        </p:nvSpPr>
        <p:spPr>
          <a:xfrm>
            <a:off x="7481520" y="6243480"/>
            <a:ext cx="2746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7054-E2DF-487A-9D8C-0AA7272DF81E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150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ends for Unemploymen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ヒラギノ角ゴ ProN W3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e positive trend is not likely to continue according to Gustav Horn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Gustav Horn is the director of the union of IMK (Institute for Macroeconomic Policy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e expects the unemployment numbers to rise in the first half of the year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conomists in Germany expect an average of 3.03 million germans to be unemployed by the end of this year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owever, the German government is optimistic about the future of Germany’s work force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319" name="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20"/>
                  </a:moveTo>
                  <a:lnTo>
                    <a:pt x="21600" y="0"/>
                  </a:lnTo>
                  <a:lnTo>
                    <a:pt x="21058" y="1291"/>
                  </a:lnTo>
                  <a:lnTo>
                    <a:pt x="20335" y="2671"/>
                  </a:lnTo>
                  <a:lnTo>
                    <a:pt x="18889" y="4972"/>
                  </a:lnTo>
                  <a:lnTo>
                    <a:pt x="17292" y="7272"/>
                  </a:lnTo>
                  <a:lnTo>
                    <a:pt x="15123" y="9573"/>
                  </a:lnTo>
                  <a:lnTo>
                    <a:pt x="12773" y="11950"/>
                  </a:lnTo>
                  <a:lnTo>
                    <a:pt x="10062" y="14328"/>
                  </a:lnTo>
                  <a:lnTo>
                    <a:pt x="7019" y="16769"/>
                  </a:lnTo>
                  <a:lnTo>
                    <a:pt x="3766" y="19146"/>
                  </a:lnTo>
                  <a:lnTo>
                    <a:pt x="0" y="21600"/>
                  </a:lnTo>
                  <a:lnTo>
                    <a:pt x="331" y="21600"/>
                  </a:lnTo>
                  <a:lnTo>
                    <a:pt x="4127" y="19146"/>
                  </a:lnTo>
                  <a:lnTo>
                    <a:pt x="7381" y="16769"/>
                  </a:lnTo>
                  <a:lnTo>
                    <a:pt x="10423" y="14328"/>
                  </a:lnTo>
                  <a:lnTo>
                    <a:pt x="13135" y="11950"/>
                  </a:lnTo>
                  <a:lnTo>
                    <a:pt x="15485" y="9573"/>
                  </a:lnTo>
                  <a:lnTo>
                    <a:pt x="17623" y="7272"/>
                  </a:lnTo>
                  <a:lnTo>
                    <a:pt x="19250" y="4972"/>
                  </a:lnTo>
                  <a:lnTo>
                    <a:pt x="20696" y="2671"/>
                  </a:lnTo>
                  <a:lnTo>
                    <a:pt x="21238" y="1828"/>
                  </a:lnTo>
                  <a:lnTo>
                    <a:pt x="21600" y="920"/>
                  </a:lnTo>
                  <a:lnTo>
                    <a:pt x="21600" y="920"/>
                  </a:lnTo>
                  <a:close/>
                  <a:moveTo>
                    <a:pt x="21600" y="92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6787" y="5462"/>
                  </a:lnTo>
                  <a:lnTo>
                    <a:pt x="11688" y="10924"/>
                  </a:lnTo>
                  <a:lnTo>
                    <a:pt x="5844" y="16386"/>
                  </a:lnTo>
                  <a:lnTo>
                    <a:pt x="0" y="21600"/>
                  </a:lnTo>
                  <a:lnTo>
                    <a:pt x="688" y="21600"/>
                  </a:lnTo>
                  <a:lnTo>
                    <a:pt x="6532" y="16634"/>
                  </a:lnTo>
                  <a:lnTo>
                    <a:pt x="11688" y="11669"/>
                  </a:lnTo>
                  <a:lnTo>
                    <a:pt x="21600" y="993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629" y="21600"/>
                  </a:lnTo>
                  <a:lnTo>
                    <a:pt x="12343" y="12706"/>
                  </a:lnTo>
                  <a:lnTo>
                    <a:pt x="21600" y="5082"/>
                  </a:lnTo>
                  <a:lnTo>
                    <a:pt x="21600" y="0"/>
                  </a:lnTo>
                  <a:lnTo>
                    <a:pt x="10800" y="11435"/>
                  </a:lnTo>
                  <a:lnTo>
                    <a:pt x="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323" name="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8000" y="21600"/>
                    </a:lnTo>
                    <a:lnTo>
                      <a:pt x="21600" y="21600"/>
                    </a:lnTo>
                    <a:lnTo>
                      <a:pt x="36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979" y="0"/>
                    </a:moveTo>
                    <a:lnTo>
                      <a:pt x="1490" y="0"/>
                    </a:lnTo>
                    <a:lnTo>
                      <a:pt x="5214" y="1081"/>
                    </a:lnTo>
                    <a:lnTo>
                      <a:pt x="8938" y="2222"/>
                    </a:lnTo>
                    <a:lnTo>
                      <a:pt x="11917" y="3448"/>
                    </a:lnTo>
                    <a:lnTo>
                      <a:pt x="14897" y="4739"/>
                    </a:lnTo>
                    <a:lnTo>
                      <a:pt x="16386" y="6061"/>
                    </a:lnTo>
                    <a:lnTo>
                      <a:pt x="18621" y="7442"/>
                    </a:lnTo>
                    <a:lnTo>
                      <a:pt x="19366" y="8848"/>
                    </a:lnTo>
                    <a:lnTo>
                      <a:pt x="20110" y="10320"/>
                    </a:lnTo>
                    <a:lnTo>
                      <a:pt x="19366" y="13232"/>
                    </a:lnTo>
                    <a:lnTo>
                      <a:pt x="15641" y="16140"/>
                    </a:lnTo>
                    <a:lnTo>
                      <a:pt x="13407" y="17551"/>
                    </a:lnTo>
                    <a:lnTo>
                      <a:pt x="9683" y="18958"/>
                    </a:lnTo>
                    <a:lnTo>
                      <a:pt x="5214" y="20309"/>
                    </a:lnTo>
                    <a:lnTo>
                      <a:pt x="0" y="21600"/>
                    </a:lnTo>
                    <a:lnTo>
                      <a:pt x="1490" y="21600"/>
                    </a:lnTo>
                    <a:lnTo>
                      <a:pt x="6703" y="20309"/>
                    </a:lnTo>
                    <a:lnTo>
                      <a:pt x="11172" y="18928"/>
                    </a:lnTo>
                    <a:lnTo>
                      <a:pt x="14897" y="17551"/>
                    </a:lnTo>
                    <a:lnTo>
                      <a:pt x="17131" y="16110"/>
                    </a:lnTo>
                    <a:lnTo>
                      <a:pt x="20855" y="13202"/>
                    </a:lnTo>
                    <a:lnTo>
                      <a:pt x="21600" y="10290"/>
                    </a:lnTo>
                    <a:lnTo>
                      <a:pt x="20855" y="8848"/>
                    </a:lnTo>
                    <a:lnTo>
                      <a:pt x="20110" y="7442"/>
                    </a:lnTo>
                    <a:lnTo>
                      <a:pt x="17876" y="6061"/>
                    </a:lnTo>
                    <a:lnTo>
                      <a:pt x="16386" y="4709"/>
                    </a:lnTo>
                    <a:lnTo>
                      <a:pt x="13407" y="3448"/>
                    </a:lnTo>
                    <a:lnTo>
                      <a:pt x="10428" y="2222"/>
                    </a:lnTo>
                    <a:lnTo>
                      <a:pt x="6703" y="1081"/>
                    </a:lnTo>
                    <a:lnTo>
                      <a:pt x="2979" y="0"/>
                    </a:lnTo>
                    <a:lnTo>
                      <a:pt x="2979" y="0"/>
                    </a:lnTo>
                    <a:close/>
                    <a:moveTo>
                      <a:pt x="2979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213" y="10079"/>
                    </a:moveTo>
                    <a:lnTo>
                      <a:pt x="20439" y="8638"/>
                    </a:lnTo>
                    <a:lnTo>
                      <a:pt x="18892" y="7232"/>
                    </a:lnTo>
                    <a:lnTo>
                      <a:pt x="16958" y="5880"/>
                    </a:lnTo>
                    <a:lnTo>
                      <a:pt x="14701" y="4589"/>
                    </a:lnTo>
                    <a:lnTo>
                      <a:pt x="11993" y="3328"/>
                    </a:lnTo>
                    <a:lnTo>
                      <a:pt x="8511" y="2162"/>
                    </a:lnTo>
                    <a:lnTo>
                      <a:pt x="5029" y="1021"/>
                    </a:lnTo>
                    <a:lnTo>
                      <a:pt x="774" y="0"/>
                    </a:lnTo>
                    <a:lnTo>
                      <a:pt x="0" y="0"/>
                    </a:lnTo>
                    <a:lnTo>
                      <a:pt x="4256" y="1021"/>
                    </a:lnTo>
                    <a:lnTo>
                      <a:pt x="7737" y="2162"/>
                    </a:lnTo>
                    <a:lnTo>
                      <a:pt x="11219" y="3328"/>
                    </a:lnTo>
                    <a:lnTo>
                      <a:pt x="13927" y="4589"/>
                    </a:lnTo>
                    <a:lnTo>
                      <a:pt x="16184" y="5880"/>
                    </a:lnTo>
                    <a:lnTo>
                      <a:pt x="18118" y="7232"/>
                    </a:lnTo>
                    <a:lnTo>
                      <a:pt x="19666" y="8638"/>
                    </a:lnTo>
                    <a:lnTo>
                      <a:pt x="20439" y="10079"/>
                    </a:lnTo>
                    <a:lnTo>
                      <a:pt x="20826" y="11581"/>
                    </a:lnTo>
                    <a:lnTo>
                      <a:pt x="20439" y="13052"/>
                    </a:lnTo>
                    <a:lnTo>
                      <a:pt x="19666" y="14548"/>
                    </a:lnTo>
                    <a:lnTo>
                      <a:pt x="18118" y="16020"/>
                    </a:lnTo>
                    <a:lnTo>
                      <a:pt x="16571" y="17461"/>
                    </a:lnTo>
                    <a:lnTo>
                      <a:pt x="13927" y="18903"/>
                    </a:lnTo>
                    <a:lnTo>
                      <a:pt x="11219" y="20279"/>
                    </a:lnTo>
                    <a:lnTo>
                      <a:pt x="7737" y="21600"/>
                    </a:lnTo>
                    <a:lnTo>
                      <a:pt x="8511" y="21600"/>
                    </a:lnTo>
                    <a:lnTo>
                      <a:pt x="11993" y="20279"/>
                    </a:lnTo>
                    <a:lnTo>
                      <a:pt x="14701" y="18903"/>
                    </a:lnTo>
                    <a:lnTo>
                      <a:pt x="17344" y="17461"/>
                    </a:lnTo>
                    <a:lnTo>
                      <a:pt x="18892" y="16020"/>
                    </a:lnTo>
                    <a:lnTo>
                      <a:pt x="20439" y="14548"/>
                    </a:lnTo>
                    <a:lnTo>
                      <a:pt x="21213" y="13052"/>
                    </a:lnTo>
                    <a:lnTo>
                      <a:pt x="21600" y="11581"/>
                    </a:lnTo>
                    <a:lnTo>
                      <a:pt x="21213" y="10079"/>
                    </a:lnTo>
                    <a:lnTo>
                      <a:pt x="21213" y="10079"/>
                    </a:lnTo>
                    <a:close/>
                    <a:moveTo>
                      <a:pt x="21213" y="1007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990" y="9629"/>
                    </a:moveTo>
                    <a:lnTo>
                      <a:pt x="20075" y="8458"/>
                    </a:lnTo>
                    <a:lnTo>
                      <a:pt x="18551" y="7292"/>
                    </a:lnTo>
                    <a:lnTo>
                      <a:pt x="16721" y="6151"/>
                    </a:lnTo>
                    <a:lnTo>
                      <a:pt x="14281" y="5010"/>
                    </a:lnTo>
                    <a:lnTo>
                      <a:pt x="11537" y="3809"/>
                    </a:lnTo>
                    <a:lnTo>
                      <a:pt x="8233" y="2612"/>
                    </a:lnTo>
                    <a:lnTo>
                      <a:pt x="4574" y="1351"/>
                    </a:lnTo>
                    <a:lnTo>
                      <a:pt x="610" y="0"/>
                    </a:lnTo>
                    <a:lnTo>
                      <a:pt x="0" y="0"/>
                    </a:lnTo>
                    <a:lnTo>
                      <a:pt x="4269" y="1351"/>
                    </a:lnTo>
                    <a:lnTo>
                      <a:pt x="7928" y="2612"/>
                    </a:lnTo>
                    <a:lnTo>
                      <a:pt x="10978" y="3839"/>
                    </a:lnTo>
                    <a:lnTo>
                      <a:pt x="13976" y="5010"/>
                    </a:lnTo>
                    <a:lnTo>
                      <a:pt x="16111" y="6181"/>
                    </a:lnTo>
                    <a:lnTo>
                      <a:pt x="17941" y="7322"/>
                    </a:lnTo>
                    <a:lnTo>
                      <a:pt x="19465" y="8458"/>
                    </a:lnTo>
                    <a:lnTo>
                      <a:pt x="20380" y="9629"/>
                    </a:lnTo>
                    <a:lnTo>
                      <a:pt x="20990" y="10950"/>
                    </a:lnTo>
                    <a:lnTo>
                      <a:pt x="20685" y="12301"/>
                    </a:lnTo>
                    <a:lnTo>
                      <a:pt x="20075" y="13678"/>
                    </a:lnTo>
                    <a:lnTo>
                      <a:pt x="18551" y="15119"/>
                    </a:lnTo>
                    <a:lnTo>
                      <a:pt x="16721" y="16620"/>
                    </a:lnTo>
                    <a:lnTo>
                      <a:pt x="13976" y="18212"/>
                    </a:lnTo>
                    <a:lnTo>
                      <a:pt x="10368" y="19858"/>
                    </a:lnTo>
                    <a:lnTo>
                      <a:pt x="6404" y="21600"/>
                    </a:lnTo>
                    <a:lnTo>
                      <a:pt x="7014" y="21600"/>
                    </a:lnTo>
                    <a:lnTo>
                      <a:pt x="10978" y="19858"/>
                    </a:lnTo>
                    <a:lnTo>
                      <a:pt x="14586" y="18212"/>
                    </a:lnTo>
                    <a:lnTo>
                      <a:pt x="17331" y="16620"/>
                    </a:lnTo>
                    <a:lnTo>
                      <a:pt x="19160" y="15119"/>
                    </a:lnTo>
                    <a:lnTo>
                      <a:pt x="20685" y="13678"/>
                    </a:lnTo>
                    <a:lnTo>
                      <a:pt x="21295" y="12301"/>
                    </a:lnTo>
                    <a:lnTo>
                      <a:pt x="21600" y="10950"/>
                    </a:lnTo>
                    <a:lnTo>
                      <a:pt x="20990" y="9629"/>
                    </a:lnTo>
                    <a:lnTo>
                      <a:pt x="20990" y="9629"/>
                    </a:lnTo>
                    <a:close/>
                    <a:moveTo>
                      <a:pt x="20990" y="962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109"/>
                    </a:moveTo>
                    <a:lnTo>
                      <a:pt x="20901" y="8668"/>
                    </a:lnTo>
                    <a:lnTo>
                      <a:pt x="19541" y="7232"/>
                    </a:lnTo>
                    <a:lnTo>
                      <a:pt x="17676" y="5880"/>
                    </a:lnTo>
                    <a:lnTo>
                      <a:pt x="15345" y="4559"/>
                    </a:lnTo>
                    <a:lnTo>
                      <a:pt x="12315" y="3298"/>
                    </a:lnTo>
                    <a:lnTo>
                      <a:pt x="8858" y="2132"/>
                    </a:lnTo>
                    <a:lnTo>
                      <a:pt x="4895" y="1021"/>
                    </a:lnTo>
                    <a:lnTo>
                      <a:pt x="466" y="0"/>
                    </a:lnTo>
                    <a:lnTo>
                      <a:pt x="0" y="0"/>
                    </a:lnTo>
                    <a:lnTo>
                      <a:pt x="4429" y="1021"/>
                    </a:lnTo>
                    <a:lnTo>
                      <a:pt x="8391" y="2132"/>
                    </a:lnTo>
                    <a:lnTo>
                      <a:pt x="11849" y="3298"/>
                    </a:lnTo>
                    <a:lnTo>
                      <a:pt x="14879" y="4559"/>
                    </a:lnTo>
                    <a:lnTo>
                      <a:pt x="17210" y="5880"/>
                    </a:lnTo>
                    <a:lnTo>
                      <a:pt x="19075" y="7232"/>
                    </a:lnTo>
                    <a:lnTo>
                      <a:pt x="20435" y="8668"/>
                    </a:lnTo>
                    <a:lnTo>
                      <a:pt x="21134" y="10109"/>
                    </a:lnTo>
                    <a:lnTo>
                      <a:pt x="21134" y="11641"/>
                    </a:lnTo>
                    <a:lnTo>
                      <a:pt x="20668" y="13172"/>
                    </a:lnTo>
                    <a:lnTo>
                      <a:pt x="19541" y="14669"/>
                    </a:lnTo>
                    <a:lnTo>
                      <a:pt x="17676" y="16140"/>
                    </a:lnTo>
                    <a:lnTo>
                      <a:pt x="15112" y="17581"/>
                    </a:lnTo>
                    <a:lnTo>
                      <a:pt x="12082" y="18958"/>
                    </a:lnTo>
                    <a:lnTo>
                      <a:pt x="8391" y="20309"/>
                    </a:lnTo>
                    <a:lnTo>
                      <a:pt x="3963" y="21600"/>
                    </a:lnTo>
                    <a:lnTo>
                      <a:pt x="4429" y="21600"/>
                    </a:lnTo>
                    <a:lnTo>
                      <a:pt x="8858" y="20309"/>
                    </a:lnTo>
                    <a:lnTo>
                      <a:pt x="12548" y="18958"/>
                    </a:lnTo>
                    <a:lnTo>
                      <a:pt x="15578" y="17581"/>
                    </a:lnTo>
                    <a:lnTo>
                      <a:pt x="18142" y="16140"/>
                    </a:lnTo>
                    <a:lnTo>
                      <a:pt x="20007" y="14669"/>
                    </a:lnTo>
                    <a:lnTo>
                      <a:pt x="21134" y="13172"/>
                    </a:lnTo>
                    <a:lnTo>
                      <a:pt x="21600" y="11641"/>
                    </a:lnTo>
                    <a:lnTo>
                      <a:pt x="21600" y="10109"/>
                    </a:lnTo>
                    <a:lnTo>
                      <a:pt x="21600" y="10109"/>
                    </a:lnTo>
                    <a:close/>
                    <a:moveTo>
                      <a:pt x="21600" y="1010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440"/>
                    </a:moveTo>
                    <a:lnTo>
                      <a:pt x="21035" y="9058"/>
                    </a:lnTo>
                    <a:lnTo>
                      <a:pt x="19905" y="7712"/>
                    </a:lnTo>
                    <a:lnTo>
                      <a:pt x="18021" y="6361"/>
                    </a:lnTo>
                    <a:lnTo>
                      <a:pt x="15603" y="5040"/>
                    </a:lnTo>
                    <a:lnTo>
                      <a:pt x="12590" y="3748"/>
                    </a:lnTo>
                    <a:lnTo>
                      <a:pt x="9199" y="2462"/>
                    </a:lnTo>
                    <a:lnTo>
                      <a:pt x="5086" y="1201"/>
                    </a:lnTo>
                    <a:lnTo>
                      <a:pt x="377" y="0"/>
                    </a:lnTo>
                    <a:lnTo>
                      <a:pt x="0" y="0"/>
                    </a:lnTo>
                    <a:lnTo>
                      <a:pt x="4709" y="1201"/>
                    </a:lnTo>
                    <a:lnTo>
                      <a:pt x="8822" y="2462"/>
                    </a:lnTo>
                    <a:lnTo>
                      <a:pt x="12213" y="3748"/>
                    </a:lnTo>
                    <a:lnTo>
                      <a:pt x="15227" y="5040"/>
                    </a:lnTo>
                    <a:lnTo>
                      <a:pt x="17644" y="6361"/>
                    </a:lnTo>
                    <a:lnTo>
                      <a:pt x="19528" y="7712"/>
                    </a:lnTo>
                    <a:lnTo>
                      <a:pt x="20658" y="9058"/>
                    </a:lnTo>
                    <a:lnTo>
                      <a:pt x="21223" y="10440"/>
                    </a:lnTo>
                    <a:lnTo>
                      <a:pt x="21223" y="11851"/>
                    </a:lnTo>
                    <a:lnTo>
                      <a:pt x="20658" y="13262"/>
                    </a:lnTo>
                    <a:lnTo>
                      <a:pt x="19340" y="14669"/>
                    </a:lnTo>
                    <a:lnTo>
                      <a:pt x="17456" y="16080"/>
                    </a:lnTo>
                    <a:lnTo>
                      <a:pt x="14850" y="17491"/>
                    </a:lnTo>
                    <a:lnTo>
                      <a:pt x="11648" y="18903"/>
                    </a:lnTo>
                    <a:lnTo>
                      <a:pt x="7880" y="20249"/>
                    </a:lnTo>
                    <a:lnTo>
                      <a:pt x="3579" y="21600"/>
                    </a:lnTo>
                    <a:lnTo>
                      <a:pt x="3956" y="21600"/>
                    </a:lnTo>
                    <a:lnTo>
                      <a:pt x="8257" y="20249"/>
                    </a:lnTo>
                    <a:lnTo>
                      <a:pt x="12024" y="18903"/>
                    </a:lnTo>
                    <a:lnTo>
                      <a:pt x="15227" y="17491"/>
                    </a:lnTo>
                    <a:lnTo>
                      <a:pt x="17833" y="16110"/>
                    </a:lnTo>
                    <a:lnTo>
                      <a:pt x="19716" y="14699"/>
                    </a:lnTo>
                    <a:lnTo>
                      <a:pt x="21035" y="13292"/>
                    </a:lnTo>
                    <a:lnTo>
                      <a:pt x="21600" y="11851"/>
                    </a:lnTo>
                    <a:lnTo>
                      <a:pt x="21600" y="10440"/>
                    </a:lnTo>
                    <a:lnTo>
                      <a:pt x="21600" y="10440"/>
                    </a:lnTo>
                    <a:close/>
                    <a:moveTo>
                      <a:pt x="21600" y="104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449" y="10650"/>
                    </a:moveTo>
                    <a:lnTo>
                      <a:pt x="20847" y="9178"/>
                    </a:lnTo>
                    <a:lnTo>
                      <a:pt x="20270" y="8428"/>
                    </a:lnTo>
                    <a:lnTo>
                      <a:pt x="19668" y="7712"/>
                    </a:lnTo>
                    <a:lnTo>
                      <a:pt x="18765" y="6991"/>
                    </a:lnTo>
                    <a:lnTo>
                      <a:pt x="17862" y="6271"/>
                    </a:lnTo>
                    <a:lnTo>
                      <a:pt x="16658" y="5580"/>
                    </a:lnTo>
                    <a:lnTo>
                      <a:pt x="15303" y="4890"/>
                    </a:lnTo>
                    <a:lnTo>
                      <a:pt x="12318" y="3598"/>
                    </a:lnTo>
                    <a:lnTo>
                      <a:pt x="8856" y="2342"/>
                    </a:lnTo>
                    <a:lnTo>
                      <a:pt x="4817" y="1141"/>
                    </a:lnTo>
                    <a:lnTo>
                      <a:pt x="301" y="0"/>
                    </a:lnTo>
                    <a:lnTo>
                      <a:pt x="0" y="0"/>
                    </a:lnTo>
                    <a:lnTo>
                      <a:pt x="4516" y="1141"/>
                    </a:lnTo>
                    <a:lnTo>
                      <a:pt x="8555" y="2342"/>
                    </a:lnTo>
                    <a:lnTo>
                      <a:pt x="12017" y="3598"/>
                    </a:lnTo>
                    <a:lnTo>
                      <a:pt x="15002" y="4920"/>
                    </a:lnTo>
                    <a:lnTo>
                      <a:pt x="16357" y="5610"/>
                    </a:lnTo>
                    <a:lnTo>
                      <a:pt x="17561" y="6301"/>
                    </a:lnTo>
                    <a:lnTo>
                      <a:pt x="18464" y="7022"/>
                    </a:lnTo>
                    <a:lnTo>
                      <a:pt x="19367" y="7742"/>
                    </a:lnTo>
                    <a:lnTo>
                      <a:pt x="20120" y="8458"/>
                    </a:lnTo>
                    <a:lnTo>
                      <a:pt x="20546" y="9178"/>
                    </a:lnTo>
                    <a:lnTo>
                      <a:pt x="20998" y="9929"/>
                    </a:lnTo>
                    <a:lnTo>
                      <a:pt x="21148" y="10650"/>
                    </a:lnTo>
                    <a:lnTo>
                      <a:pt x="21299" y="11401"/>
                    </a:lnTo>
                    <a:lnTo>
                      <a:pt x="21148" y="12151"/>
                    </a:lnTo>
                    <a:lnTo>
                      <a:pt x="20847" y="12872"/>
                    </a:lnTo>
                    <a:lnTo>
                      <a:pt x="20546" y="13618"/>
                    </a:lnTo>
                    <a:lnTo>
                      <a:pt x="19969" y="14338"/>
                    </a:lnTo>
                    <a:lnTo>
                      <a:pt x="19217" y="15089"/>
                    </a:lnTo>
                    <a:lnTo>
                      <a:pt x="18163" y="15810"/>
                    </a:lnTo>
                    <a:lnTo>
                      <a:pt x="17109" y="16530"/>
                    </a:lnTo>
                    <a:lnTo>
                      <a:pt x="14701" y="17852"/>
                    </a:lnTo>
                    <a:lnTo>
                      <a:pt x="11866" y="19138"/>
                    </a:lnTo>
                    <a:lnTo>
                      <a:pt x="8404" y="20399"/>
                    </a:lnTo>
                    <a:lnTo>
                      <a:pt x="4516" y="21600"/>
                    </a:lnTo>
                    <a:lnTo>
                      <a:pt x="4817" y="21600"/>
                    </a:lnTo>
                    <a:lnTo>
                      <a:pt x="8705" y="20399"/>
                    </a:lnTo>
                    <a:lnTo>
                      <a:pt x="12167" y="19138"/>
                    </a:lnTo>
                    <a:lnTo>
                      <a:pt x="15002" y="17882"/>
                    </a:lnTo>
                    <a:lnTo>
                      <a:pt x="17410" y="16560"/>
                    </a:lnTo>
                    <a:lnTo>
                      <a:pt x="18464" y="15840"/>
                    </a:lnTo>
                    <a:lnTo>
                      <a:pt x="19518" y="15119"/>
                    </a:lnTo>
                    <a:lnTo>
                      <a:pt x="20270" y="14368"/>
                    </a:lnTo>
                    <a:lnTo>
                      <a:pt x="20847" y="13648"/>
                    </a:lnTo>
                    <a:lnTo>
                      <a:pt x="21148" y="12902"/>
                    </a:lnTo>
                    <a:lnTo>
                      <a:pt x="21449" y="12151"/>
                    </a:lnTo>
                    <a:lnTo>
                      <a:pt x="21600" y="11401"/>
                    </a:lnTo>
                    <a:lnTo>
                      <a:pt x="21449" y="10650"/>
                    </a:lnTo>
                    <a:lnTo>
                      <a:pt x="21449" y="10650"/>
                    </a:lnTo>
                    <a:close/>
                    <a:moveTo>
                      <a:pt x="21449" y="1065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609" y="9719"/>
                    </a:moveTo>
                    <a:lnTo>
                      <a:pt x="4349" y="8158"/>
                    </a:lnTo>
                    <a:lnTo>
                      <a:pt x="6089" y="6661"/>
                    </a:lnTo>
                    <a:lnTo>
                      <a:pt x="8553" y="5280"/>
                    </a:lnTo>
                    <a:lnTo>
                      <a:pt x="11162" y="3959"/>
                    </a:lnTo>
                    <a:lnTo>
                      <a:pt x="12032" y="3358"/>
                    </a:lnTo>
                    <a:lnTo>
                      <a:pt x="13772" y="2788"/>
                    </a:lnTo>
                    <a:lnTo>
                      <a:pt x="15511" y="2222"/>
                    </a:lnTo>
                    <a:lnTo>
                      <a:pt x="16381" y="1712"/>
                    </a:lnTo>
                    <a:lnTo>
                      <a:pt x="18121" y="1231"/>
                    </a:lnTo>
                    <a:lnTo>
                      <a:pt x="18991" y="781"/>
                    </a:lnTo>
                    <a:lnTo>
                      <a:pt x="20730" y="360"/>
                    </a:lnTo>
                    <a:lnTo>
                      <a:pt x="21600" y="0"/>
                    </a:lnTo>
                    <a:lnTo>
                      <a:pt x="19860" y="0"/>
                    </a:lnTo>
                    <a:lnTo>
                      <a:pt x="18991" y="360"/>
                    </a:lnTo>
                    <a:lnTo>
                      <a:pt x="17251" y="781"/>
                    </a:lnTo>
                    <a:lnTo>
                      <a:pt x="16381" y="1231"/>
                    </a:lnTo>
                    <a:lnTo>
                      <a:pt x="14642" y="1712"/>
                    </a:lnTo>
                    <a:lnTo>
                      <a:pt x="13772" y="2222"/>
                    </a:lnTo>
                    <a:lnTo>
                      <a:pt x="12032" y="2788"/>
                    </a:lnTo>
                    <a:lnTo>
                      <a:pt x="10293" y="3358"/>
                    </a:lnTo>
                    <a:lnTo>
                      <a:pt x="9423" y="3959"/>
                    </a:lnTo>
                    <a:lnTo>
                      <a:pt x="6958" y="5280"/>
                    </a:lnTo>
                    <a:lnTo>
                      <a:pt x="4349" y="6661"/>
                    </a:lnTo>
                    <a:lnTo>
                      <a:pt x="2609" y="8158"/>
                    </a:lnTo>
                    <a:lnTo>
                      <a:pt x="870" y="9719"/>
                    </a:lnTo>
                    <a:lnTo>
                      <a:pt x="0" y="11401"/>
                    </a:lnTo>
                    <a:lnTo>
                      <a:pt x="870" y="13022"/>
                    </a:lnTo>
                    <a:lnTo>
                      <a:pt x="1740" y="14609"/>
                    </a:lnTo>
                    <a:lnTo>
                      <a:pt x="3479" y="16110"/>
                    </a:lnTo>
                    <a:lnTo>
                      <a:pt x="5219" y="17581"/>
                    </a:lnTo>
                    <a:lnTo>
                      <a:pt x="8553" y="18988"/>
                    </a:lnTo>
                    <a:lnTo>
                      <a:pt x="12902" y="20309"/>
                    </a:lnTo>
                    <a:lnTo>
                      <a:pt x="18121" y="21600"/>
                    </a:lnTo>
                    <a:lnTo>
                      <a:pt x="19860" y="21600"/>
                    </a:lnTo>
                    <a:lnTo>
                      <a:pt x="14642" y="20309"/>
                    </a:lnTo>
                    <a:lnTo>
                      <a:pt x="10293" y="18988"/>
                    </a:lnTo>
                    <a:lnTo>
                      <a:pt x="6958" y="17581"/>
                    </a:lnTo>
                    <a:lnTo>
                      <a:pt x="5219" y="16140"/>
                    </a:lnTo>
                    <a:lnTo>
                      <a:pt x="3479" y="14609"/>
                    </a:lnTo>
                    <a:lnTo>
                      <a:pt x="2609" y="13052"/>
                    </a:lnTo>
                    <a:lnTo>
                      <a:pt x="1740" y="11401"/>
                    </a:lnTo>
                    <a:lnTo>
                      <a:pt x="2609" y="9719"/>
                    </a:lnTo>
                    <a:lnTo>
                      <a:pt x="2609" y="9719"/>
                    </a:lnTo>
                    <a:close/>
                    <a:moveTo>
                      <a:pt x="2609" y="971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00" y="10320"/>
                    </a:moveTo>
                    <a:lnTo>
                      <a:pt x="2167" y="8758"/>
                    </a:lnTo>
                    <a:lnTo>
                      <a:pt x="3901" y="7262"/>
                    </a:lnTo>
                    <a:lnTo>
                      <a:pt x="6068" y="5850"/>
                    </a:lnTo>
                    <a:lnTo>
                      <a:pt x="9102" y="4499"/>
                    </a:lnTo>
                    <a:lnTo>
                      <a:pt x="11703" y="3208"/>
                    </a:lnTo>
                    <a:lnTo>
                      <a:pt x="15098" y="2042"/>
                    </a:lnTo>
                    <a:lnTo>
                      <a:pt x="18132" y="961"/>
                    </a:lnTo>
                    <a:lnTo>
                      <a:pt x="21600" y="0"/>
                    </a:lnTo>
                    <a:lnTo>
                      <a:pt x="20733" y="0"/>
                    </a:lnTo>
                    <a:lnTo>
                      <a:pt x="17266" y="961"/>
                    </a:lnTo>
                    <a:lnTo>
                      <a:pt x="14304" y="2042"/>
                    </a:lnTo>
                    <a:lnTo>
                      <a:pt x="11270" y="3208"/>
                    </a:lnTo>
                    <a:lnTo>
                      <a:pt x="8235" y="4499"/>
                    </a:lnTo>
                    <a:lnTo>
                      <a:pt x="5635" y="5850"/>
                    </a:lnTo>
                    <a:lnTo>
                      <a:pt x="3468" y="7262"/>
                    </a:lnTo>
                    <a:lnTo>
                      <a:pt x="1734" y="8758"/>
                    </a:lnTo>
                    <a:lnTo>
                      <a:pt x="433" y="10320"/>
                    </a:lnTo>
                    <a:lnTo>
                      <a:pt x="0" y="11881"/>
                    </a:lnTo>
                    <a:lnTo>
                      <a:pt x="867" y="13382"/>
                    </a:lnTo>
                    <a:lnTo>
                      <a:pt x="2167" y="14879"/>
                    </a:lnTo>
                    <a:lnTo>
                      <a:pt x="3901" y="16290"/>
                    </a:lnTo>
                    <a:lnTo>
                      <a:pt x="6935" y="17701"/>
                    </a:lnTo>
                    <a:lnTo>
                      <a:pt x="10403" y="19048"/>
                    </a:lnTo>
                    <a:lnTo>
                      <a:pt x="14665" y="20339"/>
                    </a:lnTo>
                    <a:lnTo>
                      <a:pt x="19866" y="21600"/>
                    </a:lnTo>
                    <a:lnTo>
                      <a:pt x="20733" y="21600"/>
                    </a:lnTo>
                    <a:lnTo>
                      <a:pt x="15532" y="20339"/>
                    </a:lnTo>
                    <a:lnTo>
                      <a:pt x="11270" y="19048"/>
                    </a:lnTo>
                    <a:lnTo>
                      <a:pt x="7802" y="17701"/>
                    </a:lnTo>
                    <a:lnTo>
                      <a:pt x="4768" y="16320"/>
                    </a:lnTo>
                    <a:lnTo>
                      <a:pt x="3034" y="14879"/>
                    </a:lnTo>
                    <a:lnTo>
                      <a:pt x="1734" y="13412"/>
                    </a:lnTo>
                    <a:lnTo>
                      <a:pt x="867" y="11881"/>
                    </a:lnTo>
                    <a:lnTo>
                      <a:pt x="1300" y="10320"/>
                    </a:lnTo>
                    <a:lnTo>
                      <a:pt x="1300" y="10320"/>
                    </a:lnTo>
                    <a:close/>
                    <a:moveTo>
                      <a:pt x="1300" y="1032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20989" y="0"/>
                    </a:lnTo>
                    <a:lnTo>
                      <a:pt x="16098" y="1111"/>
                    </a:lnTo>
                    <a:lnTo>
                      <a:pt x="12175" y="2312"/>
                    </a:lnTo>
                    <a:lnTo>
                      <a:pt x="8508" y="3538"/>
                    </a:lnTo>
                    <a:lnTo>
                      <a:pt x="5451" y="4859"/>
                    </a:lnTo>
                    <a:lnTo>
                      <a:pt x="3311" y="6241"/>
                    </a:lnTo>
                    <a:lnTo>
                      <a:pt x="1477" y="7652"/>
                    </a:lnTo>
                    <a:lnTo>
                      <a:pt x="306" y="9118"/>
                    </a:lnTo>
                    <a:lnTo>
                      <a:pt x="0" y="10620"/>
                    </a:lnTo>
                    <a:lnTo>
                      <a:pt x="306" y="12031"/>
                    </a:lnTo>
                    <a:lnTo>
                      <a:pt x="1223" y="13442"/>
                    </a:lnTo>
                    <a:lnTo>
                      <a:pt x="2394" y="14819"/>
                    </a:lnTo>
                    <a:lnTo>
                      <a:pt x="4534" y="16230"/>
                    </a:lnTo>
                    <a:lnTo>
                      <a:pt x="6979" y="17611"/>
                    </a:lnTo>
                    <a:lnTo>
                      <a:pt x="10036" y="18958"/>
                    </a:lnTo>
                    <a:lnTo>
                      <a:pt x="13704" y="20309"/>
                    </a:lnTo>
                    <a:lnTo>
                      <a:pt x="17626" y="21600"/>
                    </a:lnTo>
                    <a:lnTo>
                      <a:pt x="18238" y="21600"/>
                    </a:lnTo>
                    <a:lnTo>
                      <a:pt x="14315" y="20309"/>
                    </a:lnTo>
                    <a:lnTo>
                      <a:pt x="10647" y="18958"/>
                    </a:lnTo>
                    <a:lnTo>
                      <a:pt x="7591" y="17611"/>
                    </a:lnTo>
                    <a:lnTo>
                      <a:pt x="5145" y="16230"/>
                    </a:lnTo>
                    <a:lnTo>
                      <a:pt x="3006" y="14819"/>
                    </a:lnTo>
                    <a:lnTo>
                      <a:pt x="1783" y="13442"/>
                    </a:lnTo>
                    <a:lnTo>
                      <a:pt x="917" y="12031"/>
                    </a:lnTo>
                    <a:lnTo>
                      <a:pt x="611" y="10620"/>
                    </a:lnTo>
                    <a:lnTo>
                      <a:pt x="917" y="9118"/>
                    </a:lnTo>
                    <a:lnTo>
                      <a:pt x="2089" y="7652"/>
                    </a:lnTo>
                    <a:lnTo>
                      <a:pt x="3617" y="6241"/>
                    </a:lnTo>
                    <a:lnTo>
                      <a:pt x="6062" y="4859"/>
                    </a:lnTo>
                    <a:lnTo>
                      <a:pt x="9119" y="3538"/>
                    </a:lnTo>
                    <a:lnTo>
                      <a:pt x="12481" y="2312"/>
                    </a:lnTo>
                    <a:lnTo>
                      <a:pt x="16709" y="1111"/>
                    </a:lnTo>
                    <a:lnTo>
                      <a:pt x="21600" y="0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2" y="10740"/>
                    </a:moveTo>
                    <a:lnTo>
                      <a:pt x="903" y="9239"/>
                    </a:lnTo>
                    <a:lnTo>
                      <a:pt x="2032" y="7802"/>
                    </a:lnTo>
                    <a:lnTo>
                      <a:pt x="3613" y="6391"/>
                    </a:lnTo>
                    <a:lnTo>
                      <a:pt x="6096" y="5010"/>
                    </a:lnTo>
                    <a:lnTo>
                      <a:pt x="8994" y="3658"/>
                    </a:lnTo>
                    <a:lnTo>
                      <a:pt x="12606" y="2402"/>
                    </a:lnTo>
                    <a:lnTo>
                      <a:pt x="16896" y="1171"/>
                    </a:lnTo>
                    <a:lnTo>
                      <a:pt x="21600" y="0"/>
                    </a:lnTo>
                    <a:lnTo>
                      <a:pt x="21148" y="0"/>
                    </a:lnTo>
                    <a:lnTo>
                      <a:pt x="16445" y="1171"/>
                    </a:lnTo>
                    <a:lnTo>
                      <a:pt x="12155" y="2402"/>
                    </a:lnTo>
                    <a:lnTo>
                      <a:pt x="8542" y="3688"/>
                    </a:lnTo>
                    <a:lnTo>
                      <a:pt x="5645" y="5010"/>
                    </a:lnTo>
                    <a:lnTo>
                      <a:pt x="3161" y="6391"/>
                    </a:lnTo>
                    <a:lnTo>
                      <a:pt x="1580" y="7802"/>
                    </a:lnTo>
                    <a:lnTo>
                      <a:pt x="452" y="9269"/>
                    </a:lnTo>
                    <a:lnTo>
                      <a:pt x="0" y="10740"/>
                    </a:lnTo>
                    <a:lnTo>
                      <a:pt x="226" y="12181"/>
                    </a:lnTo>
                    <a:lnTo>
                      <a:pt x="1129" y="13588"/>
                    </a:lnTo>
                    <a:lnTo>
                      <a:pt x="2484" y="14999"/>
                    </a:lnTo>
                    <a:lnTo>
                      <a:pt x="4516" y="16380"/>
                    </a:lnTo>
                    <a:lnTo>
                      <a:pt x="7187" y="17761"/>
                    </a:lnTo>
                    <a:lnTo>
                      <a:pt x="10348" y="19078"/>
                    </a:lnTo>
                    <a:lnTo>
                      <a:pt x="13961" y="20369"/>
                    </a:lnTo>
                    <a:lnTo>
                      <a:pt x="18213" y="21600"/>
                    </a:lnTo>
                    <a:lnTo>
                      <a:pt x="18665" y="21600"/>
                    </a:lnTo>
                    <a:lnTo>
                      <a:pt x="14413" y="20369"/>
                    </a:lnTo>
                    <a:lnTo>
                      <a:pt x="10800" y="19078"/>
                    </a:lnTo>
                    <a:lnTo>
                      <a:pt x="7639" y="17761"/>
                    </a:lnTo>
                    <a:lnTo>
                      <a:pt x="4967" y="16380"/>
                    </a:lnTo>
                    <a:lnTo>
                      <a:pt x="2935" y="14999"/>
                    </a:lnTo>
                    <a:lnTo>
                      <a:pt x="1580" y="13588"/>
                    </a:lnTo>
                    <a:lnTo>
                      <a:pt x="677" y="12181"/>
                    </a:lnTo>
                    <a:lnTo>
                      <a:pt x="452" y="10740"/>
                    </a:lnTo>
                    <a:lnTo>
                      <a:pt x="452" y="10740"/>
                    </a:lnTo>
                    <a:close/>
                    <a:moveTo>
                      <a:pt x="452" y="107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53" y="10500"/>
                    </a:moveTo>
                    <a:lnTo>
                      <a:pt x="852" y="8998"/>
                    </a:lnTo>
                    <a:lnTo>
                      <a:pt x="2087" y="7532"/>
                    </a:lnTo>
                    <a:lnTo>
                      <a:pt x="3850" y="6121"/>
                    </a:lnTo>
                    <a:lnTo>
                      <a:pt x="6318" y="4709"/>
                    </a:lnTo>
                    <a:lnTo>
                      <a:pt x="9287" y="3448"/>
                    </a:lnTo>
                    <a:lnTo>
                      <a:pt x="12989" y="2222"/>
                    </a:lnTo>
                    <a:lnTo>
                      <a:pt x="17045" y="1081"/>
                    </a:lnTo>
                    <a:lnTo>
                      <a:pt x="21600" y="0"/>
                    </a:lnTo>
                    <a:lnTo>
                      <a:pt x="21247" y="0"/>
                    </a:lnTo>
                    <a:lnTo>
                      <a:pt x="16692" y="1051"/>
                    </a:lnTo>
                    <a:lnTo>
                      <a:pt x="12637" y="2192"/>
                    </a:lnTo>
                    <a:lnTo>
                      <a:pt x="9140" y="3418"/>
                    </a:lnTo>
                    <a:lnTo>
                      <a:pt x="6142" y="4709"/>
                    </a:lnTo>
                    <a:lnTo>
                      <a:pt x="3673" y="6091"/>
                    </a:lnTo>
                    <a:lnTo>
                      <a:pt x="1734" y="7532"/>
                    </a:lnTo>
                    <a:lnTo>
                      <a:pt x="529" y="8998"/>
                    </a:lnTo>
                    <a:lnTo>
                      <a:pt x="0" y="10500"/>
                    </a:lnTo>
                    <a:lnTo>
                      <a:pt x="176" y="12031"/>
                    </a:lnTo>
                    <a:lnTo>
                      <a:pt x="852" y="13558"/>
                    </a:lnTo>
                    <a:lnTo>
                      <a:pt x="2263" y="15089"/>
                    </a:lnTo>
                    <a:lnTo>
                      <a:pt x="4379" y="16590"/>
                    </a:lnTo>
                    <a:lnTo>
                      <a:pt x="6671" y="17882"/>
                    </a:lnTo>
                    <a:lnTo>
                      <a:pt x="9287" y="19138"/>
                    </a:lnTo>
                    <a:lnTo>
                      <a:pt x="12460" y="20399"/>
                    </a:lnTo>
                    <a:lnTo>
                      <a:pt x="15987" y="21600"/>
                    </a:lnTo>
                    <a:lnTo>
                      <a:pt x="16340" y="21600"/>
                    </a:lnTo>
                    <a:lnTo>
                      <a:pt x="12813" y="20399"/>
                    </a:lnTo>
                    <a:lnTo>
                      <a:pt x="9639" y="19138"/>
                    </a:lnTo>
                    <a:lnTo>
                      <a:pt x="7024" y="17882"/>
                    </a:lnTo>
                    <a:lnTo>
                      <a:pt x="4731" y="16590"/>
                    </a:lnTo>
                    <a:lnTo>
                      <a:pt x="2616" y="15089"/>
                    </a:lnTo>
                    <a:lnTo>
                      <a:pt x="1205" y="13558"/>
                    </a:lnTo>
                    <a:lnTo>
                      <a:pt x="529" y="12031"/>
                    </a:lnTo>
                    <a:lnTo>
                      <a:pt x="353" y="10500"/>
                    </a:lnTo>
                    <a:lnTo>
                      <a:pt x="353" y="10500"/>
                    </a:lnTo>
                    <a:close/>
                    <a:moveTo>
                      <a:pt x="353" y="1050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65" y="9749"/>
                    </a:moveTo>
                    <a:lnTo>
                      <a:pt x="1239" y="8548"/>
                    </a:lnTo>
                    <a:lnTo>
                      <a:pt x="2477" y="7382"/>
                    </a:lnTo>
                    <a:lnTo>
                      <a:pt x="4155" y="6181"/>
                    </a:lnTo>
                    <a:lnTo>
                      <a:pt x="6477" y="4980"/>
                    </a:lnTo>
                    <a:lnTo>
                      <a:pt x="9419" y="3778"/>
                    </a:lnTo>
                    <a:lnTo>
                      <a:pt x="12800" y="2552"/>
                    </a:lnTo>
                    <a:lnTo>
                      <a:pt x="16981" y="1291"/>
                    </a:lnTo>
                    <a:lnTo>
                      <a:pt x="19123" y="661"/>
                    </a:lnTo>
                    <a:lnTo>
                      <a:pt x="21600" y="0"/>
                    </a:lnTo>
                    <a:lnTo>
                      <a:pt x="21290" y="0"/>
                    </a:lnTo>
                    <a:lnTo>
                      <a:pt x="18813" y="661"/>
                    </a:lnTo>
                    <a:lnTo>
                      <a:pt x="16516" y="1291"/>
                    </a:lnTo>
                    <a:lnTo>
                      <a:pt x="14503" y="1922"/>
                    </a:lnTo>
                    <a:lnTo>
                      <a:pt x="12490" y="2552"/>
                    </a:lnTo>
                    <a:lnTo>
                      <a:pt x="9110" y="3778"/>
                    </a:lnTo>
                    <a:lnTo>
                      <a:pt x="6168" y="4980"/>
                    </a:lnTo>
                    <a:lnTo>
                      <a:pt x="3871" y="6181"/>
                    </a:lnTo>
                    <a:lnTo>
                      <a:pt x="2168" y="7352"/>
                    </a:lnTo>
                    <a:lnTo>
                      <a:pt x="929" y="8518"/>
                    </a:lnTo>
                    <a:lnTo>
                      <a:pt x="155" y="9719"/>
                    </a:lnTo>
                    <a:lnTo>
                      <a:pt x="0" y="11010"/>
                    </a:lnTo>
                    <a:lnTo>
                      <a:pt x="310" y="12361"/>
                    </a:lnTo>
                    <a:lnTo>
                      <a:pt x="1239" y="13708"/>
                    </a:lnTo>
                    <a:lnTo>
                      <a:pt x="2942" y="15149"/>
                    </a:lnTo>
                    <a:lnTo>
                      <a:pt x="3871" y="15870"/>
                    </a:lnTo>
                    <a:lnTo>
                      <a:pt x="5084" y="16620"/>
                    </a:lnTo>
                    <a:lnTo>
                      <a:pt x="6323" y="17401"/>
                    </a:lnTo>
                    <a:lnTo>
                      <a:pt x="7871" y="18212"/>
                    </a:lnTo>
                    <a:lnTo>
                      <a:pt x="9419" y="19018"/>
                    </a:lnTo>
                    <a:lnTo>
                      <a:pt x="11277" y="19858"/>
                    </a:lnTo>
                    <a:lnTo>
                      <a:pt x="13110" y="20699"/>
                    </a:lnTo>
                    <a:lnTo>
                      <a:pt x="15277" y="21600"/>
                    </a:lnTo>
                    <a:lnTo>
                      <a:pt x="15587" y="21600"/>
                    </a:lnTo>
                    <a:lnTo>
                      <a:pt x="13419" y="20699"/>
                    </a:lnTo>
                    <a:lnTo>
                      <a:pt x="11561" y="19858"/>
                    </a:lnTo>
                    <a:lnTo>
                      <a:pt x="9729" y="19018"/>
                    </a:lnTo>
                    <a:lnTo>
                      <a:pt x="8181" y="18212"/>
                    </a:lnTo>
                    <a:lnTo>
                      <a:pt x="6632" y="17401"/>
                    </a:lnTo>
                    <a:lnTo>
                      <a:pt x="5394" y="16650"/>
                    </a:lnTo>
                    <a:lnTo>
                      <a:pt x="4155" y="15870"/>
                    </a:lnTo>
                    <a:lnTo>
                      <a:pt x="3252" y="15149"/>
                    </a:lnTo>
                    <a:lnTo>
                      <a:pt x="1548" y="13708"/>
                    </a:lnTo>
                    <a:lnTo>
                      <a:pt x="619" y="12361"/>
                    </a:lnTo>
                    <a:lnTo>
                      <a:pt x="310" y="11040"/>
                    </a:lnTo>
                    <a:lnTo>
                      <a:pt x="465" y="9749"/>
                    </a:lnTo>
                    <a:lnTo>
                      <a:pt x="465" y="9749"/>
                    </a:lnTo>
                    <a:close/>
                    <a:moveTo>
                      <a:pt x="465" y="974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24"/>
                  </a:moveTo>
                  <a:lnTo>
                    <a:pt x="1502" y="3480"/>
                  </a:lnTo>
                  <a:lnTo>
                    <a:pt x="3433" y="6137"/>
                  </a:lnTo>
                  <a:lnTo>
                    <a:pt x="5758" y="8793"/>
                  </a:lnTo>
                  <a:lnTo>
                    <a:pt x="8118" y="11357"/>
                  </a:lnTo>
                  <a:lnTo>
                    <a:pt x="10907" y="13998"/>
                  </a:lnTo>
                  <a:lnTo>
                    <a:pt x="13911" y="16563"/>
                  </a:lnTo>
                  <a:lnTo>
                    <a:pt x="17309" y="19127"/>
                  </a:lnTo>
                  <a:lnTo>
                    <a:pt x="20956" y="21600"/>
                  </a:lnTo>
                  <a:lnTo>
                    <a:pt x="21600" y="21600"/>
                  </a:lnTo>
                  <a:lnTo>
                    <a:pt x="17738" y="19035"/>
                  </a:lnTo>
                  <a:lnTo>
                    <a:pt x="14340" y="16379"/>
                  </a:lnTo>
                  <a:lnTo>
                    <a:pt x="11122" y="13723"/>
                  </a:lnTo>
                  <a:lnTo>
                    <a:pt x="8332" y="10991"/>
                  </a:lnTo>
                  <a:lnTo>
                    <a:pt x="5758" y="8335"/>
                  </a:lnTo>
                  <a:lnTo>
                    <a:pt x="3648" y="5587"/>
                  </a:lnTo>
                  <a:lnTo>
                    <a:pt x="1717" y="2748"/>
                  </a:lnTo>
                  <a:lnTo>
                    <a:pt x="0" y="0"/>
                  </a:lnTo>
                  <a:lnTo>
                    <a:pt x="0" y="824"/>
                  </a:lnTo>
                  <a:lnTo>
                    <a:pt x="0" y="824"/>
                  </a:lnTo>
                  <a:close/>
                  <a:moveTo>
                    <a:pt x="0" y="824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21"/>
                  </a:moveTo>
                  <a:lnTo>
                    <a:pt x="10277" y="12169"/>
                  </a:lnTo>
                  <a:lnTo>
                    <a:pt x="20458" y="21600"/>
                  </a:lnTo>
                  <a:lnTo>
                    <a:pt x="21600" y="21600"/>
                  </a:lnTo>
                  <a:lnTo>
                    <a:pt x="15891" y="16732"/>
                  </a:lnTo>
                  <a:lnTo>
                    <a:pt x="10848" y="11256"/>
                  </a:lnTo>
                  <a:lnTo>
                    <a:pt x="0" y="0"/>
                  </a:lnTo>
                  <a:lnTo>
                    <a:pt x="0" y="1521"/>
                  </a:lnTo>
                  <a:lnTo>
                    <a:pt x="0" y="1521"/>
                  </a:lnTo>
                  <a:close/>
                  <a:moveTo>
                    <a:pt x="0" y="1521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802"/>
                  </a:lnTo>
                  <a:lnTo>
                    <a:pt x="21336" y="20149"/>
                  </a:lnTo>
                  <a:lnTo>
                    <a:pt x="21072" y="19508"/>
                  </a:lnTo>
                  <a:lnTo>
                    <a:pt x="20279" y="17984"/>
                  </a:lnTo>
                  <a:lnTo>
                    <a:pt x="19486" y="16460"/>
                  </a:lnTo>
                  <a:lnTo>
                    <a:pt x="17527" y="13557"/>
                  </a:lnTo>
                  <a:lnTo>
                    <a:pt x="15017" y="10873"/>
                  </a:lnTo>
                  <a:lnTo>
                    <a:pt x="12374" y="8333"/>
                  </a:lnTo>
                  <a:lnTo>
                    <a:pt x="9490" y="6023"/>
                  </a:lnTo>
                  <a:lnTo>
                    <a:pt x="6451" y="3846"/>
                  </a:lnTo>
                  <a:lnTo>
                    <a:pt x="3303" y="1814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3039" y="1814"/>
                  </a:lnTo>
                  <a:lnTo>
                    <a:pt x="6055" y="3846"/>
                  </a:lnTo>
                  <a:lnTo>
                    <a:pt x="9094" y="6023"/>
                  </a:lnTo>
                  <a:lnTo>
                    <a:pt x="12000" y="8333"/>
                  </a:lnTo>
                  <a:lnTo>
                    <a:pt x="14752" y="10873"/>
                  </a:lnTo>
                  <a:lnTo>
                    <a:pt x="17130" y="13557"/>
                  </a:lnTo>
                  <a:lnTo>
                    <a:pt x="19222" y="16460"/>
                  </a:lnTo>
                  <a:lnTo>
                    <a:pt x="20015" y="17984"/>
                  </a:lnTo>
                  <a:lnTo>
                    <a:pt x="20807" y="19580"/>
                  </a:lnTo>
                  <a:lnTo>
                    <a:pt x="21204" y="20584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987"/>
                  </a:lnTo>
                  <a:lnTo>
                    <a:pt x="17292" y="15465"/>
                  </a:lnTo>
                  <a:lnTo>
                    <a:pt x="12231" y="10123"/>
                  </a:lnTo>
                  <a:lnTo>
                    <a:pt x="6658" y="4908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6296" y="5061"/>
                  </a:lnTo>
                  <a:lnTo>
                    <a:pt x="12050" y="10429"/>
                  </a:lnTo>
                  <a:lnTo>
                    <a:pt x="17111" y="15925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661"/>
                  </a:lnTo>
                  <a:lnTo>
                    <a:pt x="11782" y="10017"/>
                  </a:lnTo>
                  <a:lnTo>
                    <a:pt x="637" y="0"/>
                  </a:lnTo>
                  <a:lnTo>
                    <a:pt x="0" y="0"/>
                  </a:lnTo>
                  <a:lnTo>
                    <a:pt x="5732" y="5322"/>
                  </a:lnTo>
                  <a:lnTo>
                    <a:pt x="11463" y="10643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864"/>
                  </a:moveTo>
                  <a:lnTo>
                    <a:pt x="0" y="21600"/>
                  </a:lnTo>
                  <a:lnTo>
                    <a:pt x="1364" y="18565"/>
                  </a:lnTo>
                  <a:lnTo>
                    <a:pt x="3183" y="15529"/>
                  </a:lnTo>
                  <a:lnTo>
                    <a:pt x="5432" y="12678"/>
                  </a:lnTo>
                  <a:lnTo>
                    <a:pt x="7857" y="9919"/>
                  </a:lnTo>
                  <a:lnTo>
                    <a:pt x="10888" y="7266"/>
                  </a:lnTo>
                  <a:lnTo>
                    <a:pt x="14046" y="4783"/>
                  </a:lnTo>
                  <a:lnTo>
                    <a:pt x="17684" y="2300"/>
                  </a:lnTo>
                  <a:lnTo>
                    <a:pt x="21600" y="0"/>
                  </a:lnTo>
                  <a:lnTo>
                    <a:pt x="21145" y="0"/>
                  </a:lnTo>
                  <a:lnTo>
                    <a:pt x="17381" y="2208"/>
                  </a:lnTo>
                  <a:lnTo>
                    <a:pt x="13895" y="4599"/>
                  </a:lnTo>
                  <a:lnTo>
                    <a:pt x="10737" y="7082"/>
                  </a:lnTo>
                  <a:lnTo>
                    <a:pt x="7857" y="9643"/>
                  </a:lnTo>
                  <a:lnTo>
                    <a:pt x="5432" y="12310"/>
                  </a:lnTo>
                  <a:lnTo>
                    <a:pt x="3335" y="15069"/>
                  </a:lnTo>
                  <a:lnTo>
                    <a:pt x="1516" y="17921"/>
                  </a:lnTo>
                  <a:lnTo>
                    <a:pt x="0" y="20864"/>
                  </a:lnTo>
                  <a:lnTo>
                    <a:pt x="0" y="20864"/>
                  </a:lnTo>
                  <a:close/>
                  <a:moveTo>
                    <a:pt x="0" y="20864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937" y="0"/>
                  </a:lnTo>
                  <a:lnTo>
                    <a:pt x="15002" y="4760"/>
                  </a:lnTo>
                  <a:lnTo>
                    <a:pt x="9473" y="9736"/>
                  </a:lnTo>
                  <a:lnTo>
                    <a:pt x="4423" y="15145"/>
                  </a:lnTo>
                  <a:lnTo>
                    <a:pt x="0" y="20735"/>
                  </a:lnTo>
                  <a:lnTo>
                    <a:pt x="0" y="21600"/>
                  </a:lnTo>
                  <a:lnTo>
                    <a:pt x="4423" y="15578"/>
                  </a:lnTo>
                  <a:lnTo>
                    <a:pt x="9473" y="10169"/>
                  </a:lnTo>
                  <a:lnTo>
                    <a:pt x="15223" y="497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155" y="0"/>
                  </a:lnTo>
                  <a:lnTo>
                    <a:pt x="9636" y="9771"/>
                  </a:lnTo>
                  <a:lnTo>
                    <a:pt x="4818" y="14914"/>
                  </a:lnTo>
                  <a:lnTo>
                    <a:pt x="0" y="20057"/>
                  </a:lnTo>
                  <a:lnTo>
                    <a:pt x="0" y="21600"/>
                  </a:lnTo>
                  <a:lnTo>
                    <a:pt x="10117" y="1028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4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4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4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440" y="622440"/>
              <a:ext cx="9140760" cy="2495520"/>
              <a:chOff x="1440" y="622440"/>
              <a:chExt cx="9140760" cy="2495520"/>
            </a:xfrm>
          </p:grpSpPr>
          <p:sp>
            <p:nvSpPr>
              <p:cNvPr id="348" name=""/>
              <p:cNvSpPr/>
              <p:nvPr/>
            </p:nvSpPr>
            <p:spPr>
              <a:xfrm>
                <a:off x="1440" y="124488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440" y="311652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40" y="24926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440" y="186876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44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144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4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"/>
          <p:cNvSpPr txBox="1"/>
          <p:nvPr/>
        </p:nvSpPr>
        <p:spPr>
          <a:xfrm>
            <a:off x="7481520" y="6243480"/>
            <a:ext cx="2746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5F9D-1545-4186-BD48-C06295523A0F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194080" y="1082520"/>
            <a:ext cx="3670200" cy="4686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ecff"/>
                </a:solidFill>
                <a:latin typeface="Arial"/>
              </a:rPr>
              <a:t>This map shows how Germany’s unemployment is spread out over the country by region and district. It is clear that there is still a higher rate of unemployment in the east as compared to the west. </a:t>
            </a: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65240" y="1079640"/>
            <a:ext cx="468612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359" name="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20"/>
                  </a:moveTo>
                  <a:lnTo>
                    <a:pt x="21600" y="0"/>
                  </a:lnTo>
                  <a:lnTo>
                    <a:pt x="21058" y="1291"/>
                  </a:lnTo>
                  <a:lnTo>
                    <a:pt x="20335" y="2671"/>
                  </a:lnTo>
                  <a:lnTo>
                    <a:pt x="18889" y="4972"/>
                  </a:lnTo>
                  <a:lnTo>
                    <a:pt x="17292" y="7272"/>
                  </a:lnTo>
                  <a:lnTo>
                    <a:pt x="15123" y="9573"/>
                  </a:lnTo>
                  <a:lnTo>
                    <a:pt x="12773" y="11950"/>
                  </a:lnTo>
                  <a:lnTo>
                    <a:pt x="10062" y="14328"/>
                  </a:lnTo>
                  <a:lnTo>
                    <a:pt x="7019" y="16769"/>
                  </a:lnTo>
                  <a:lnTo>
                    <a:pt x="3766" y="19146"/>
                  </a:lnTo>
                  <a:lnTo>
                    <a:pt x="0" y="21600"/>
                  </a:lnTo>
                  <a:lnTo>
                    <a:pt x="331" y="21600"/>
                  </a:lnTo>
                  <a:lnTo>
                    <a:pt x="4127" y="19146"/>
                  </a:lnTo>
                  <a:lnTo>
                    <a:pt x="7381" y="16769"/>
                  </a:lnTo>
                  <a:lnTo>
                    <a:pt x="10423" y="14328"/>
                  </a:lnTo>
                  <a:lnTo>
                    <a:pt x="13135" y="11950"/>
                  </a:lnTo>
                  <a:lnTo>
                    <a:pt x="15485" y="9573"/>
                  </a:lnTo>
                  <a:lnTo>
                    <a:pt x="17623" y="7272"/>
                  </a:lnTo>
                  <a:lnTo>
                    <a:pt x="19250" y="4972"/>
                  </a:lnTo>
                  <a:lnTo>
                    <a:pt x="20696" y="2671"/>
                  </a:lnTo>
                  <a:lnTo>
                    <a:pt x="21238" y="1828"/>
                  </a:lnTo>
                  <a:lnTo>
                    <a:pt x="21600" y="920"/>
                  </a:lnTo>
                  <a:lnTo>
                    <a:pt x="21600" y="920"/>
                  </a:lnTo>
                  <a:close/>
                  <a:moveTo>
                    <a:pt x="21600" y="92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6787" y="5462"/>
                  </a:lnTo>
                  <a:lnTo>
                    <a:pt x="11688" y="10924"/>
                  </a:lnTo>
                  <a:lnTo>
                    <a:pt x="5844" y="16386"/>
                  </a:lnTo>
                  <a:lnTo>
                    <a:pt x="0" y="21600"/>
                  </a:lnTo>
                  <a:lnTo>
                    <a:pt x="688" y="21600"/>
                  </a:lnTo>
                  <a:lnTo>
                    <a:pt x="6532" y="16634"/>
                  </a:lnTo>
                  <a:lnTo>
                    <a:pt x="11688" y="11669"/>
                  </a:lnTo>
                  <a:lnTo>
                    <a:pt x="21600" y="993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629" y="21600"/>
                  </a:lnTo>
                  <a:lnTo>
                    <a:pt x="12343" y="12706"/>
                  </a:lnTo>
                  <a:lnTo>
                    <a:pt x="21600" y="5082"/>
                  </a:lnTo>
                  <a:lnTo>
                    <a:pt x="21600" y="0"/>
                  </a:lnTo>
                  <a:lnTo>
                    <a:pt x="10800" y="11435"/>
                  </a:lnTo>
                  <a:lnTo>
                    <a:pt x="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363" name="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8000" y="21600"/>
                    </a:lnTo>
                    <a:lnTo>
                      <a:pt x="21600" y="21600"/>
                    </a:lnTo>
                    <a:lnTo>
                      <a:pt x="36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979" y="0"/>
                    </a:moveTo>
                    <a:lnTo>
                      <a:pt x="1490" y="0"/>
                    </a:lnTo>
                    <a:lnTo>
                      <a:pt x="5214" y="1081"/>
                    </a:lnTo>
                    <a:lnTo>
                      <a:pt x="8938" y="2222"/>
                    </a:lnTo>
                    <a:lnTo>
                      <a:pt x="11917" y="3448"/>
                    </a:lnTo>
                    <a:lnTo>
                      <a:pt x="14897" y="4739"/>
                    </a:lnTo>
                    <a:lnTo>
                      <a:pt x="16386" y="6061"/>
                    </a:lnTo>
                    <a:lnTo>
                      <a:pt x="18621" y="7442"/>
                    </a:lnTo>
                    <a:lnTo>
                      <a:pt x="19366" y="8848"/>
                    </a:lnTo>
                    <a:lnTo>
                      <a:pt x="20110" y="10320"/>
                    </a:lnTo>
                    <a:lnTo>
                      <a:pt x="19366" y="13232"/>
                    </a:lnTo>
                    <a:lnTo>
                      <a:pt x="15641" y="16140"/>
                    </a:lnTo>
                    <a:lnTo>
                      <a:pt x="13407" y="17551"/>
                    </a:lnTo>
                    <a:lnTo>
                      <a:pt x="9683" y="18958"/>
                    </a:lnTo>
                    <a:lnTo>
                      <a:pt x="5214" y="20309"/>
                    </a:lnTo>
                    <a:lnTo>
                      <a:pt x="0" y="21600"/>
                    </a:lnTo>
                    <a:lnTo>
                      <a:pt x="1490" y="21600"/>
                    </a:lnTo>
                    <a:lnTo>
                      <a:pt x="6703" y="20309"/>
                    </a:lnTo>
                    <a:lnTo>
                      <a:pt x="11172" y="18928"/>
                    </a:lnTo>
                    <a:lnTo>
                      <a:pt x="14897" y="17551"/>
                    </a:lnTo>
                    <a:lnTo>
                      <a:pt x="17131" y="16110"/>
                    </a:lnTo>
                    <a:lnTo>
                      <a:pt x="20855" y="13202"/>
                    </a:lnTo>
                    <a:lnTo>
                      <a:pt x="21600" y="10290"/>
                    </a:lnTo>
                    <a:lnTo>
                      <a:pt x="20855" y="8848"/>
                    </a:lnTo>
                    <a:lnTo>
                      <a:pt x="20110" y="7442"/>
                    </a:lnTo>
                    <a:lnTo>
                      <a:pt x="17876" y="6061"/>
                    </a:lnTo>
                    <a:lnTo>
                      <a:pt x="16386" y="4709"/>
                    </a:lnTo>
                    <a:lnTo>
                      <a:pt x="13407" y="3448"/>
                    </a:lnTo>
                    <a:lnTo>
                      <a:pt x="10428" y="2222"/>
                    </a:lnTo>
                    <a:lnTo>
                      <a:pt x="6703" y="1081"/>
                    </a:lnTo>
                    <a:lnTo>
                      <a:pt x="2979" y="0"/>
                    </a:lnTo>
                    <a:lnTo>
                      <a:pt x="2979" y="0"/>
                    </a:lnTo>
                    <a:close/>
                    <a:moveTo>
                      <a:pt x="2979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213" y="10079"/>
                    </a:moveTo>
                    <a:lnTo>
                      <a:pt x="20439" y="8638"/>
                    </a:lnTo>
                    <a:lnTo>
                      <a:pt x="18892" y="7232"/>
                    </a:lnTo>
                    <a:lnTo>
                      <a:pt x="16958" y="5880"/>
                    </a:lnTo>
                    <a:lnTo>
                      <a:pt x="14701" y="4589"/>
                    </a:lnTo>
                    <a:lnTo>
                      <a:pt x="11993" y="3328"/>
                    </a:lnTo>
                    <a:lnTo>
                      <a:pt x="8511" y="2162"/>
                    </a:lnTo>
                    <a:lnTo>
                      <a:pt x="5029" y="1021"/>
                    </a:lnTo>
                    <a:lnTo>
                      <a:pt x="774" y="0"/>
                    </a:lnTo>
                    <a:lnTo>
                      <a:pt x="0" y="0"/>
                    </a:lnTo>
                    <a:lnTo>
                      <a:pt x="4256" y="1021"/>
                    </a:lnTo>
                    <a:lnTo>
                      <a:pt x="7737" y="2162"/>
                    </a:lnTo>
                    <a:lnTo>
                      <a:pt x="11219" y="3328"/>
                    </a:lnTo>
                    <a:lnTo>
                      <a:pt x="13927" y="4589"/>
                    </a:lnTo>
                    <a:lnTo>
                      <a:pt x="16184" y="5880"/>
                    </a:lnTo>
                    <a:lnTo>
                      <a:pt x="18118" y="7232"/>
                    </a:lnTo>
                    <a:lnTo>
                      <a:pt x="19666" y="8638"/>
                    </a:lnTo>
                    <a:lnTo>
                      <a:pt x="20439" y="10079"/>
                    </a:lnTo>
                    <a:lnTo>
                      <a:pt x="20826" y="11581"/>
                    </a:lnTo>
                    <a:lnTo>
                      <a:pt x="20439" y="13052"/>
                    </a:lnTo>
                    <a:lnTo>
                      <a:pt x="19666" y="14548"/>
                    </a:lnTo>
                    <a:lnTo>
                      <a:pt x="18118" y="16020"/>
                    </a:lnTo>
                    <a:lnTo>
                      <a:pt x="16571" y="17461"/>
                    </a:lnTo>
                    <a:lnTo>
                      <a:pt x="13927" y="18903"/>
                    </a:lnTo>
                    <a:lnTo>
                      <a:pt x="11219" y="20279"/>
                    </a:lnTo>
                    <a:lnTo>
                      <a:pt x="7737" y="21600"/>
                    </a:lnTo>
                    <a:lnTo>
                      <a:pt x="8511" y="21600"/>
                    </a:lnTo>
                    <a:lnTo>
                      <a:pt x="11993" y="20279"/>
                    </a:lnTo>
                    <a:lnTo>
                      <a:pt x="14701" y="18903"/>
                    </a:lnTo>
                    <a:lnTo>
                      <a:pt x="17344" y="17461"/>
                    </a:lnTo>
                    <a:lnTo>
                      <a:pt x="18892" y="16020"/>
                    </a:lnTo>
                    <a:lnTo>
                      <a:pt x="20439" y="14548"/>
                    </a:lnTo>
                    <a:lnTo>
                      <a:pt x="21213" y="13052"/>
                    </a:lnTo>
                    <a:lnTo>
                      <a:pt x="21600" y="11581"/>
                    </a:lnTo>
                    <a:lnTo>
                      <a:pt x="21213" y="10079"/>
                    </a:lnTo>
                    <a:lnTo>
                      <a:pt x="21213" y="10079"/>
                    </a:lnTo>
                    <a:close/>
                    <a:moveTo>
                      <a:pt x="21213" y="1007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990" y="9629"/>
                    </a:moveTo>
                    <a:lnTo>
                      <a:pt x="20075" y="8458"/>
                    </a:lnTo>
                    <a:lnTo>
                      <a:pt x="18551" y="7292"/>
                    </a:lnTo>
                    <a:lnTo>
                      <a:pt x="16721" y="6151"/>
                    </a:lnTo>
                    <a:lnTo>
                      <a:pt x="14281" y="5010"/>
                    </a:lnTo>
                    <a:lnTo>
                      <a:pt x="11537" y="3809"/>
                    </a:lnTo>
                    <a:lnTo>
                      <a:pt x="8233" y="2612"/>
                    </a:lnTo>
                    <a:lnTo>
                      <a:pt x="4574" y="1351"/>
                    </a:lnTo>
                    <a:lnTo>
                      <a:pt x="610" y="0"/>
                    </a:lnTo>
                    <a:lnTo>
                      <a:pt x="0" y="0"/>
                    </a:lnTo>
                    <a:lnTo>
                      <a:pt x="4269" y="1351"/>
                    </a:lnTo>
                    <a:lnTo>
                      <a:pt x="7928" y="2612"/>
                    </a:lnTo>
                    <a:lnTo>
                      <a:pt x="10978" y="3839"/>
                    </a:lnTo>
                    <a:lnTo>
                      <a:pt x="13976" y="5010"/>
                    </a:lnTo>
                    <a:lnTo>
                      <a:pt x="16111" y="6181"/>
                    </a:lnTo>
                    <a:lnTo>
                      <a:pt x="17941" y="7322"/>
                    </a:lnTo>
                    <a:lnTo>
                      <a:pt x="19465" y="8458"/>
                    </a:lnTo>
                    <a:lnTo>
                      <a:pt x="20380" y="9629"/>
                    </a:lnTo>
                    <a:lnTo>
                      <a:pt x="20990" y="10950"/>
                    </a:lnTo>
                    <a:lnTo>
                      <a:pt x="20685" y="12301"/>
                    </a:lnTo>
                    <a:lnTo>
                      <a:pt x="20075" y="13678"/>
                    </a:lnTo>
                    <a:lnTo>
                      <a:pt x="18551" y="15119"/>
                    </a:lnTo>
                    <a:lnTo>
                      <a:pt x="16721" y="16620"/>
                    </a:lnTo>
                    <a:lnTo>
                      <a:pt x="13976" y="18212"/>
                    </a:lnTo>
                    <a:lnTo>
                      <a:pt x="10368" y="19858"/>
                    </a:lnTo>
                    <a:lnTo>
                      <a:pt x="6404" y="21600"/>
                    </a:lnTo>
                    <a:lnTo>
                      <a:pt x="7014" y="21600"/>
                    </a:lnTo>
                    <a:lnTo>
                      <a:pt x="10978" y="19858"/>
                    </a:lnTo>
                    <a:lnTo>
                      <a:pt x="14586" y="18212"/>
                    </a:lnTo>
                    <a:lnTo>
                      <a:pt x="17331" y="16620"/>
                    </a:lnTo>
                    <a:lnTo>
                      <a:pt x="19160" y="15119"/>
                    </a:lnTo>
                    <a:lnTo>
                      <a:pt x="20685" y="13678"/>
                    </a:lnTo>
                    <a:lnTo>
                      <a:pt x="21295" y="12301"/>
                    </a:lnTo>
                    <a:lnTo>
                      <a:pt x="21600" y="10950"/>
                    </a:lnTo>
                    <a:lnTo>
                      <a:pt x="20990" y="9629"/>
                    </a:lnTo>
                    <a:lnTo>
                      <a:pt x="20990" y="9629"/>
                    </a:lnTo>
                    <a:close/>
                    <a:moveTo>
                      <a:pt x="20990" y="962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109"/>
                    </a:moveTo>
                    <a:lnTo>
                      <a:pt x="20901" y="8668"/>
                    </a:lnTo>
                    <a:lnTo>
                      <a:pt x="19541" y="7232"/>
                    </a:lnTo>
                    <a:lnTo>
                      <a:pt x="17676" y="5880"/>
                    </a:lnTo>
                    <a:lnTo>
                      <a:pt x="15345" y="4559"/>
                    </a:lnTo>
                    <a:lnTo>
                      <a:pt x="12315" y="3298"/>
                    </a:lnTo>
                    <a:lnTo>
                      <a:pt x="8858" y="2132"/>
                    </a:lnTo>
                    <a:lnTo>
                      <a:pt x="4895" y="1021"/>
                    </a:lnTo>
                    <a:lnTo>
                      <a:pt x="466" y="0"/>
                    </a:lnTo>
                    <a:lnTo>
                      <a:pt x="0" y="0"/>
                    </a:lnTo>
                    <a:lnTo>
                      <a:pt x="4429" y="1021"/>
                    </a:lnTo>
                    <a:lnTo>
                      <a:pt x="8391" y="2132"/>
                    </a:lnTo>
                    <a:lnTo>
                      <a:pt x="11849" y="3298"/>
                    </a:lnTo>
                    <a:lnTo>
                      <a:pt x="14879" y="4559"/>
                    </a:lnTo>
                    <a:lnTo>
                      <a:pt x="17210" y="5880"/>
                    </a:lnTo>
                    <a:lnTo>
                      <a:pt x="19075" y="7232"/>
                    </a:lnTo>
                    <a:lnTo>
                      <a:pt x="20435" y="8668"/>
                    </a:lnTo>
                    <a:lnTo>
                      <a:pt x="21134" y="10109"/>
                    </a:lnTo>
                    <a:lnTo>
                      <a:pt x="21134" y="11641"/>
                    </a:lnTo>
                    <a:lnTo>
                      <a:pt x="20668" y="13172"/>
                    </a:lnTo>
                    <a:lnTo>
                      <a:pt x="19541" y="14669"/>
                    </a:lnTo>
                    <a:lnTo>
                      <a:pt x="17676" y="16140"/>
                    </a:lnTo>
                    <a:lnTo>
                      <a:pt x="15112" y="17581"/>
                    </a:lnTo>
                    <a:lnTo>
                      <a:pt x="12082" y="18958"/>
                    </a:lnTo>
                    <a:lnTo>
                      <a:pt x="8391" y="20309"/>
                    </a:lnTo>
                    <a:lnTo>
                      <a:pt x="3963" y="21600"/>
                    </a:lnTo>
                    <a:lnTo>
                      <a:pt x="4429" y="21600"/>
                    </a:lnTo>
                    <a:lnTo>
                      <a:pt x="8858" y="20309"/>
                    </a:lnTo>
                    <a:lnTo>
                      <a:pt x="12548" y="18958"/>
                    </a:lnTo>
                    <a:lnTo>
                      <a:pt x="15578" y="17581"/>
                    </a:lnTo>
                    <a:lnTo>
                      <a:pt x="18142" y="16140"/>
                    </a:lnTo>
                    <a:lnTo>
                      <a:pt x="20007" y="14669"/>
                    </a:lnTo>
                    <a:lnTo>
                      <a:pt x="21134" y="13172"/>
                    </a:lnTo>
                    <a:lnTo>
                      <a:pt x="21600" y="11641"/>
                    </a:lnTo>
                    <a:lnTo>
                      <a:pt x="21600" y="10109"/>
                    </a:lnTo>
                    <a:lnTo>
                      <a:pt x="21600" y="10109"/>
                    </a:lnTo>
                    <a:close/>
                    <a:moveTo>
                      <a:pt x="21600" y="1010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440"/>
                    </a:moveTo>
                    <a:lnTo>
                      <a:pt x="21035" y="9058"/>
                    </a:lnTo>
                    <a:lnTo>
                      <a:pt x="19905" y="7712"/>
                    </a:lnTo>
                    <a:lnTo>
                      <a:pt x="18021" y="6361"/>
                    </a:lnTo>
                    <a:lnTo>
                      <a:pt x="15603" y="5040"/>
                    </a:lnTo>
                    <a:lnTo>
                      <a:pt x="12590" y="3748"/>
                    </a:lnTo>
                    <a:lnTo>
                      <a:pt x="9199" y="2462"/>
                    </a:lnTo>
                    <a:lnTo>
                      <a:pt x="5086" y="1201"/>
                    </a:lnTo>
                    <a:lnTo>
                      <a:pt x="377" y="0"/>
                    </a:lnTo>
                    <a:lnTo>
                      <a:pt x="0" y="0"/>
                    </a:lnTo>
                    <a:lnTo>
                      <a:pt x="4709" y="1201"/>
                    </a:lnTo>
                    <a:lnTo>
                      <a:pt x="8822" y="2462"/>
                    </a:lnTo>
                    <a:lnTo>
                      <a:pt x="12213" y="3748"/>
                    </a:lnTo>
                    <a:lnTo>
                      <a:pt x="15227" y="5040"/>
                    </a:lnTo>
                    <a:lnTo>
                      <a:pt x="17644" y="6361"/>
                    </a:lnTo>
                    <a:lnTo>
                      <a:pt x="19528" y="7712"/>
                    </a:lnTo>
                    <a:lnTo>
                      <a:pt x="20658" y="9058"/>
                    </a:lnTo>
                    <a:lnTo>
                      <a:pt x="21223" y="10440"/>
                    </a:lnTo>
                    <a:lnTo>
                      <a:pt x="21223" y="11851"/>
                    </a:lnTo>
                    <a:lnTo>
                      <a:pt x="20658" y="13262"/>
                    </a:lnTo>
                    <a:lnTo>
                      <a:pt x="19340" y="14669"/>
                    </a:lnTo>
                    <a:lnTo>
                      <a:pt x="17456" y="16080"/>
                    </a:lnTo>
                    <a:lnTo>
                      <a:pt x="14850" y="17491"/>
                    </a:lnTo>
                    <a:lnTo>
                      <a:pt x="11648" y="18903"/>
                    </a:lnTo>
                    <a:lnTo>
                      <a:pt x="7880" y="20249"/>
                    </a:lnTo>
                    <a:lnTo>
                      <a:pt x="3579" y="21600"/>
                    </a:lnTo>
                    <a:lnTo>
                      <a:pt x="3956" y="21600"/>
                    </a:lnTo>
                    <a:lnTo>
                      <a:pt x="8257" y="20249"/>
                    </a:lnTo>
                    <a:lnTo>
                      <a:pt x="12024" y="18903"/>
                    </a:lnTo>
                    <a:lnTo>
                      <a:pt x="15227" y="17491"/>
                    </a:lnTo>
                    <a:lnTo>
                      <a:pt x="17833" y="16110"/>
                    </a:lnTo>
                    <a:lnTo>
                      <a:pt x="19716" y="14699"/>
                    </a:lnTo>
                    <a:lnTo>
                      <a:pt x="21035" y="13292"/>
                    </a:lnTo>
                    <a:lnTo>
                      <a:pt x="21600" y="11851"/>
                    </a:lnTo>
                    <a:lnTo>
                      <a:pt x="21600" y="10440"/>
                    </a:lnTo>
                    <a:lnTo>
                      <a:pt x="21600" y="10440"/>
                    </a:lnTo>
                    <a:close/>
                    <a:moveTo>
                      <a:pt x="21600" y="104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449" y="10650"/>
                    </a:moveTo>
                    <a:lnTo>
                      <a:pt x="20847" y="9178"/>
                    </a:lnTo>
                    <a:lnTo>
                      <a:pt x="20270" y="8428"/>
                    </a:lnTo>
                    <a:lnTo>
                      <a:pt x="19668" y="7712"/>
                    </a:lnTo>
                    <a:lnTo>
                      <a:pt x="18765" y="6991"/>
                    </a:lnTo>
                    <a:lnTo>
                      <a:pt x="17862" y="6271"/>
                    </a:lnTo>
                    <a:lnTo>
                      <a:pt x="16658" y="5580"/>
                    </a:lnTo>
                    <a:lnTo>
                      <a:pt x="15303" y="4890"/>
                    </a:lnTo>
                    <a:lnTo>
                      <a:pt x="12318" y="3598"/>
                    </a:lnTo>
                    <a:lnTo>
                      <a:pt x="8856" y="2342"/>
                    </a:lnTo>
                    <a:lnTo>
                      <a:pt x="4817" y="1141"/>
                    </a:lnTo>
                    <a:lnTo>
                      <a:pt x="301" y="0"/>
                    </a:lnTo>
                    <a:lnTo>
                      <a:pt x="0" y="0"/>
                    </a:lnTo>
                    <a:lnTo>
                      <a:pt x="4516" y="1141"/>
                    </a:lnTo>
                    <a:lnTo>
                      <a:pt x="8555" y="2342"/>
                    </a:lnTo>
                    <a:lnTo>
                      <a:pt x="12017" y="3598"/>
                    </a:lnTo>
                    <a:lnTo>
                      <a:pt x="15002" y="4920"/>
                    </a:lnTo>
                    <a:lnTo>
                      <a:pt x="16357" y="5610"/>
                    </a:lnTo>
                    <a:lnTo>
                      <a:pt x="17561" y="6301"/>
                    </a:lnTo>
                    <a:lnTo>
                      <a:pt x="18464" y="7022"/>
                    </a:lnTo>
                    <a:lnTo>
                      <a:pt x="19367" y="7742"/>
                    </a:lnTo>
                    <a:lnTo>
                      <a:pt x="20120" y="8458"/>
                    </a:lnTo>
                    <a:lnTo>
                      <a:pt x="20546" y="9178"/>
                    </a:lnTo>
                    <a:lnTo>
                      <a:pt x="20998" y="9929"/>
                    </a:lnTo>
                    <a:lnTo>
                      <a:pt x="21148" y="10650"/>
                    </a:lnTo>
                    <a:lnTo>
                      <a:pt x="21299" y="11401"/>
                    </a:lnTo>
                    <a:lnTo>
                      <a:pt x="21148" y="12151"/>
                    </a:lnTo>
                    <a:lnTo>
                      <a:pt x="20847" y="12872"/>
                    </a:lnTo>
                    <a:lnTo>
                      <a:pt x="20546" y="13618"/>
                    </a:lnTo>
                    <a:lnTo>
                      <a:pt x="19969" y="14338"/>
                    </a:lnTo>
                    <a:lnTo>
                      <a:pt x="19217" y="15089"/>
                    </a:lnTo>
                    <a:lnTo>
                      <a:pt x="18163" y="15810"/>
                    </a:lnTo>
                    <a:lnTo>
                      <a:pt x="17109" y="16530"/>
                    </a:lnTo>
                    <a:lnTo>
                      <a:pt x="14701" y="17852"/>
                    </a:lnTo>
                    <a:lnTo>
                      <a:pt x="11866" y="19138"/>
                    </a:lnTo>
                    <a:lnTo>
                      <a:pt x="8404" y="20399"/>
                    </a:lnTo>
                    <a:lnTo>
                      <a:pt x="4516" y="21600"/>
                    </a:lnTo>
                    <a:lnTo>
                      <a:pt x="4817" y="21600"/>
                    </a:lnTo>
                    <a:lnTo>
                      <a:pt x="8705" y="20399"/>
                    </a:lnTo>
                    <a:lnTo>
                      <a:pt x="12167" y="19138"/>
                    </a:lnTo>
                    <a:lnTo>
                      <a:pt x="15002" y="17882"/>
                    </a:lnTo>
                    <a:lnTo>
                      <a:pt x="17410" y="16560"/>
                    </a:lnTo>
                    <a:lnTo>
                      <a:pt x="18464" y="15840"/>
                    </a:lnTo>
                    <a:lnTo>
                      <a:pt x="19518" y="15119"/>
                    </a:lnTo>
                    <a:lnTo>
                      <a:pt x="20270" y="14368"/>
                    </a:lnTo>
                    <a:lnTo>
                      <a:pt x="20847" y="13648"/>
                    </a:lnTo>
                    <a:lnTo>
                      <a:pt x="21148" y="12902"/>
                    </a:lnTo>
                    <a:lnTo>
                      <a:pt x="21449" y="12151"/>
                    </a:lnTo>
                    <a:lnTo>
                      <a:pt x="21600" y="11401"/>
                    </a:lnTo>
                    <a:lnTo>
                      <a:pt x="21449" y="10650"/>
                    </a:lnTo>
                    <a:lnTo>
                      <a:pt x="21449" y="10650"/>
                    </a:lnTo>
                    <a:close/>
                    <a:moveTo>
                      <a:pt x="21449" y="1065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609" y="9719"/>
                    </a:moveTo>
                    <a:lnTo>
                      <a:pt x="4349" y="8158"/>
                    </a:lnTo>
                    <a:lnTo>
                      <a:pt x="6089" y="6661"/>
                    </a:lnTo>
                    <a:lnTo>
                      <a:pt x="8553" y="5280"/>
                    </a:lnTo>
                    <a:lnTo>
                      <a:pt x="11162" y="3959"/>
                    </a:lnTo>
                    <a:lnTo>
                      <a:pt x="12032" y="3358"/>
                    </a:lnTo>
                    <a:lnTo>
                      <a:pt x="13772" y="2788"/>
                    </a:lnTo>
                    <a:lnTo>
                      <a:pt x="15511" y="2222"/>
                    </a:lnTo>
                    <a:lnTo>
                      <a:pt x="16381" y="1712"/>
                    </a:lnTo>
                    <a:lnTo>
                      <a:pt x="18121" y="1231"/>
                    </a:lnTo>
                    <a:lnTo>
                      <a:pt x="18991" y="781"/>
                    </a:lnTo>
                    <a:lnTo>
                      <a:pt x="20730" y="360"/>
                    </a:lnTo>
                    <a:lnTo>
                      <a:pt x="21600" y="0"/>
                    </a:lnTo>
                    <a:lnTo>
                      <a:pt x="19860" y="0"/>
                    </a:lnTo>
                    <a:lnTo>
                      <a:pt x="18991" y="360"/>
                    </a:lnTo>
                    <a:lnTo>
                      <a:pt x="17251" y="781"/>
                    </a:lnTo>
                    <a:lnTo>
                      <a:pt x="16381" y="1231"/>
                    </a:lnTo>
                    <a:lnTo>
                      <a:pt x="14642" y="1712"/>
                    </a:lnTo>
                    <a:lnTo>
                      <a:pt x="13772" y="2222"/>
                    </a:lnTo>
                    <a:lnTo>
                      <a:pt x="12032" y="2788"/>
                    </a:lnTo>
                    <a:lnTo>
                      <a:pt x="10293" y="3358"/>
                    </a:lnTo>
                    <a:lnTo>
                      <a:pt x="9423" y="3959"/>
                    </a:lnTo>
                    <a:lnTo>
                      <a:pt x="6958" y="5280"/>
                    </a:lnTo>
                    <a:lnTo>
                      <a:pt x="4349" y="6661"/>
                    </a:lnTo>
                    <a:lnTo>
                      <a:pt x="2609" y="8158"/>
                    </a:lnTo>
                    <a:lnTo>
                      <a:pt x="870" y="9719"/>
                    </a:lnTo>
                    <a:lnTo>
                      <a:pt x="0" y="11401"/>
                    </a:lnTo>
                    <a:lnTo>
                      <a:pt x="870" y="13022"/>
                    </a:lnTo>
                    <a:lnTo>
                      <a:pt x="1740" y="14609"/>
                    </a:lnTo>
                    <a:lnTo>
                      <a:pt x="3479" y="16110"/>
                    </a:lnTo>
                    <a:lnTo>
                      <a:pt x="5219" y="17581"/>
                    </a:lnTo>
                    <a:lnTo>
                      <a:pt x="8553" y="18988"/>
                    </a:lnTo>
                    <a:lnTo>
                      <a:pt x="12902" y="20309"/>
                    </a:lnTo>
                    <a:lnTo>
                      <a:pt x="18121" y="21600"/>
                    </a:lnTo>
                    <a:lnTo>
                      <a:pt x="19860" y="21600"/>
                    </a:lnTo>
                    <a:lnTo>
                      <a:pt x="14642" y="20309"/>
                    </a:lnTo>
                    <a:lnTo>
                      <a:pt x="10293" y="18988"/>
                    </a:lnTo>
                    <a:lnTo>
                      <a:pt x="6958" y="17581"/>
                    </a:lnTo>
                    <a:lnTo>
                      <a:pt x="5219" y="16140"/>
                    </a:lnTo>
                    <a:lnTo>
                      <a:pt x="3479" y="14609"/>
                    </a:lnTo>
                    <a:lnTo>
                      <a:pt x="2609" y="13052"/>
                    </a:lnTo>
                    <a:lnTo>
                      <a:pt x="1740" y="11401"/>
                    </a:lnTo>
                    <a:lnTo>
                      <a:pt x="2609" y="9719"/>
                    </a:lnTo>
                    <a:lnTo>
                      <a:pt x="2609" y="9719"/>
                    </a:lnTo>
                    <a:close/>
                    <a:moveTo>
                      <a:pt x="2609" y="971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00" y="10320"/>
                    </a:moveTo>
                    <a:lnTo>
                      <a:pt x="2167" y="8758"/>
                    </a:lnTo>
                    <a:lnTo>
                      <a:pt x="3901" y="7262"/>
                    </a:lnTo>
                    <a:lnTo>
                      <a:pt x="6068" y="5850"/>
                    </a:lnTo>
                    <a:lnTo>
                      <a:pt x="9102" y="4499"/>
                    </a:lnTo>
                    <a:lnTo>
                      <a:pt x="11703" y="3208"/>
                    </a:lnTo>
                    <a:lnTo>
                      <a:pt x="15098" y="2042"/>
                    </a:lnTo>
                    <a:lnTo>
                      <a:pt x="18132" y="961"/>
                    </a:lnTo>
                    <a:lnTo>
                      <a:pt x="21600" y="0"/>
                    </a:lnTo>
                    <a:lnTo>
                      <a:pt x="20733" y="0"/>
                    </a:lnTo>
                    <a:lnTo>
                      <a:pt x="17266" y="961"/>
                    </a:lnTo>
                    <a:lnTo>
                      <a:pt x="14304" y="2042"/>
                    </a:lnTo>
                    <a:lnTo>
                      <a:pt x="11270" y="3208"/>
                    </a:lnTo>
                    <a:lnTo>
                      <a:pt x="8235" y="4499"/>
                    </a:lnTo>
                    <a:lnTo>
                      <a:pt x="5635" y="5850"/>
                    </a:lnTo>
                    <a:lnTo>
                      <a:pt x="3468" y="7262"/>
                    </a:lnTo>
                    <a:lnTo>
                      <a:pt x="1734" y="8758"/>
                    </a:lnTo>
                    <a:lnTo>
                      <a:pt x="433" y="10320"/>
                    </a:lnTo>
                    <a:lnTo>
                      <a:pt x="0" y="11881"/>
                    </a:lnTo>
                    <a:lnTo>
                      <a:pt x="867" y="13382"/>
                    </a:lnTo>
                    <a:lnTo>
                      <a:pt x="2167" y="14879"/>
                    </a:lnTo>
                    <a:lnTo>
                      <a:pt x="3901" y="16290"/>
                    </a:lnTo>
                    <a:lnTo>
                      <a:pt x="6935" y="17701"/>
                    </a:lnTo>
                    <a:lnTo>
                      <a:pt x="10403" y="19048"/>
                    </a:lnTo>
                    <a:lnTo>
                      <a:pt x="14665" y="20339"/>
                    </a:lnTo>
                    <a:lnTo>
                      <a:pt x="19866" y="21600"/>
                    </a:lnTo>
                    <a:lnTo>
                      <a:pt x="20733" y="21600"/>
                    </a:lnTo>
                    <a:lnTo>
                      <a:pt x="15532" y="20339"/>
                    </a:lnTo>
                    <a:lnTo>
                      <a:pt x="11270" y="19048"/>
                    </a:lnTo>
                    <a:lnTo>
                      <a:pt x="7802" y="17701"/>
                    </a:lnTo>
                    <a:lnTo>
                      <a:pt x="4768" y="16320"/>
                    </a:lnTo>
                    <a:lnTo>
                      <a:pt x="3034" y="14879"/>
                    </a:lnTo>
                    <a:lnTo>
                      <a:pt x="1734" y="13412"/>
                    </a:lnTo>
                    <a:lnTo>
                      <a:pt x="867" y="11881"/>
                    </a:lnTo>
                    <a:lnTo>
                      <a:pt x="1300" y="10320"/>
                    </a:lnTo>
                    <a:lnTo>
                      <a:pt x="1300" y="10320"/>
                    </a:lnTo>
                    <a:close/>
                    <a:moveTo>
                      <a:pt x="1300" y="1032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20989" y="0"/>
                    </a:lnTo>
                    <a:lnTo>
                      <a:pt x="16098" y="1111"/>
                    </a:lnTo>
                    <a:lnTo>
                      <a:pt x="12175" y="2312"/>
                    </a:lnTo>
                    <a:lnTo>
                      <a:pt x="8508" y="3538"/>
                    </a:lnTo>
                    <a:lnTo>
                      <a:pt x="5451" y="4859"/>
                    </a:lnTo>
                    <a:lnTo>
                      <a:pt x="3311" y="6241"/>
                    </a:lnTo>
                    <a:lnTo>
                      <a:pt x="1477" y="7652"/>
                    </a:lnTo>
                    <a:lnTo>
                      <a:pt x="306" y="9118"/>
                    </a:lnTo>
                    <a:lnTo>
                      <a:pt x="0" y="10620"/>
                    </a:lnTo>
                    <a:lnTo>
                      <a:pt x="306" y="12031"/>
                    </a:lnTo>
                    <a:lnTo>
                      <a:pt x="1223" y="13442"/>
                    </a:lnTo>
                    <a:lnTo>
                      <a:pt x="2394" y="14819"/>
                    </a:lnTo>
                    <a:lnTo>
                      <a:pt x="4534" y="16230"/>
                    </a:lnTo>
                    <a:lnTo>
                      <a:pt x="6979" y="17611"/>
                    </a:lnTo>
                    <a:lnTo>
                      <a:pt x="10036" y="18958"/>
                    </a:lnTo>
                    <a:lnTo>
                      <a:pt x="13704" y="20309"/>
                    </a:lnTo>
                    <a:lnTo>
                      <a:pt x="17626" y="21600"/>
                    </a:lnTo>
                    <a:lnTo>
                      <a:pt x="18238" y="21600"/>
                    </a:lnTo>
                    <a:lnTo>
                      <a:pt x="14315" y="20309"/>
                    </a:lnTo>
                    <a:lnTo>
                      <a:pt x="10647" y="18958"/>
                    </a:lnTo>
                    <a:lnTo>
                      <a:pt x="7591" y="17611"/>
                    </a:lnTo>
                    <a:lnTo>
                      <a:pt x="5145" y="16230"/>
                    </a:lnTo>
                    <a:lnTo>
                      <a:pt x="3006" y="14819"/>
                    </a:lnTo>
                    <a:lnTo>
                      <a:pt x="1783" y="13442"/>
                    </a:lnTo>
                    <a:lnTo>
                      <a:pt x="917" y="12031"/>
                    </a:lnTo>
                    <a:lnTo>
                      <a:pt x="611" y="10620"/>
                    </a:lnTo>
                    <a:lnTo>
                      <a:pt x="917" y="9118"/>
                    </a:lnTo>
                    <a:lnTo>
                      <a:pt x="2089" y="7652"/>
                    </a:lnTo>
                    <a:lnTo>
                      <a:pt x="3617" y="6241"/>
                    </a:lnTo>
                    <a:lnTo>
                      <a:pt x="6062" y="4859"/>
                    </a:lnTo>
                    <a:lnTo>
                      <a:pt x="9119" y="3538"/>
                    </a:lnTo>
                    <a:lnTo>
                      <a:pt x="12481" y="2312"/>
                    </a:lnTo>
                    <a:lnTo>
                      <a:pt x="16709" y="1111"/>
                    </a:lnTo>
                    <a:lnTo>
                      <a:pt x="21600" y="0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2" y="10740"/>
                    </a:moveTo>
                    <a:lnTo>
                      <a:pt x="903" y="9239"/>
                    </a:lnTo>
                    <a:lnTo>
                      <a:pt x="2032" y="7802"/>
                    </a:lnTo>
                    <a:lnTo>
                      <a:pt x="3613" y="6391"/>
                    </a:lnTo>
                    <a:lnTo>
                      <a:pt x="6096" y="5010"/>
                    </a:lnTo>
                    <a:lnTo>
                      <a:pt x="8994" y="3658"/>
                    </a:lnTo>
                    <a:lnTo>
                      <a:pt x="12606" y="2402"/>
                    </a:lnTo>
                    <a:lnTo>
                      <a:pt x="16896" y="1171"/>
                    </a:lnTo>
                    <a:lnTo>
                      <a:pt x="21600" y="0"/>
                    </a:lnTo>
                    <a:lnTo>
                      <a:pt x="21148" y="0"/>
                    </a:lnTo>
                    <a:lnTo>
                      <a:pt x="16445" y="1171"/>
                    </a:lnTo>
                    <a:lnTo>
                      <a:pt x="12155" y="2402"/>
                    </a:lnTo>
                    <a:lnTo>
                      <a:pt x="8542" y="3688"/>
                    </a:lnTo>
                    <a:lnTo>
                      <a:pt x="5645" y="5010"/>
                    </a:lnTo>
                    <a:lnTo>
                      <a:pt x="3161" y="6391"/>
                    </a:lnTo>
                    <a:lnTo>
                      <a:pt x="1580" y="7802"/>
                    </a:lnTo>
                    <a:lnTo>
                      <a:pt x="452" y="9269"/>
                    </a:lnTo>
                    <a:lnTo>
                      <a:pt x="0" y="10740"/>
                    </a:lnTo>
                    <a:lnTo>
                      <a:pt x="226" y="12181"/>
                    </a:lnTo>
                    <a:lnTo>
                      <a:pt x="1129" y="13588"/>
                    </a:lnTo>
                    <a:lnTo>
                      <a:pt x="2484" y="14999"/>
                    </a:lnTo>
                    <a:lnTo>
                      <a:pt x="4516" y="16380"/>
                    </a:lnTo>
                    <a:lnTo>
                      <a:pt x="7187" y="17761"/>
                    </a:lnTo>
                    <a:lnTo>
                      <a:pt x="10348" y="19078"/>
                    </a:lnTo>
                    <a:lnTo>
                      <a:pt x="13961" y="20369"/>
                    </a:lnTo>
                    <a:lnTo>
                      <a:pt x="18213" y="21600"/>
                    </a:lnTo>
                    <a:lnTo>
                      <a:pt x="18665" y="21600"/>
                    </a:lnTo>
                    <a:lnTo>
                      <a:pt x="14413" y="20369"/>
                    </a:lnTo>
                    <a:lnTo>
                      <a:pt x="10800" y="19078"/>
                    </a:lnTo>
                    <a:lnTo>
                      <a:pt x="7639" y="17761"/>
                    </a:lnTo>
                    <a:lnTo>
                      <a:pt x="4967" y="16380"/>
                    </a:lnTo>
                    <a:lnTo>
                      <a:pt x="2935" y="14999"/>
                    </a:lnTo>
                    <a:lnTo>
                      <a:pt x="1580" y="13588"/>
                    </a:lnTo>
                    <a:lnTo>
                      <a:pt x="677" y="12181"/>
                    </a:lnTo>
                    <a:lnTo>
                      <a:pt x="452" y="10740"/>
                    </a:lnTo>
                    <a:lnTo>
                      <a:pt x="452" y="10740"/>
                    </a:lnTo>
                    <a:close/>
                    <a:moveTo>
                      <a:pt x="452" y="107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53" y="10500"/>
                    </a:moveTo>
                    <a:lnTo>
                      <a:pt x="852" y="8998"/>
                    </a:lnTo>
                    <a:lnTo>
                      <a:pt x="2087" y="7532"/>
                    </a:lnTo>
                    <a:lnTo>
                      <a:pt x="3850" y="6121"/>
                    </a:lnTo>
                    <a:lnTo>
                      <a:pt x="6318" y="4709"/>
                    </a:lnTo>
                    <a:lnTo>
                      <a:pt x="9287" y="3448"/>
                    </a:lnTo>
                    <a:lnTo>
                      <a:pt x="12989" y="2222"/>
                    </a:lnTo>
                    <a:lnTo>
                      <a:pt x="17045" y="1081"/>
                    </a:lnTo>
                    <a:lnTo>
                      <a:pt x="21600" y="0"/>
                    </a:lnTo>
                    <a:lnTo>
                      <a:pt x="21247" y="0"/>
                    </a:lnTo>
                    <a:lnTo>
                      <a:pt x="16692" y="1051"/>
                    </a:lnTo>
                    <a:lnTo>
                      <a:pt x="12637" y="2192"/>
                    </a:lnTo>
                    <a:lnTo>
                      <a:pt x="9140" y="3418"/>
                    </a:lnTo>
                    <a:lnTo>
                      <a:pt x="6142" y="4709"/>
                    </a:lnTo>
                    <a:lnTo>
                      <a:pt x="3673" y="6091"/>
                    </a:lnTo>
                    <a:lnTo>
                      <a:pt x="1734" y="7532"/>
                    </a:lnTo>
                    <a:lnTo>
                      <a:pt x="529" y="8998"/>
                    </a:lnTo>
                    <a:lnTo>
                      <a:pt x="0" y="10500"/>
                    </a:lnTo>
                    <a:lnTo>
                      <a:pt x="176" y="12031"/>
                    </a:lnTo>
                    <a:lnTo>
                      <a:pt x="852" y="13558"/>
                    </a:lnTo>
                    <a:lnTo>
                      <a:pt x="2263" y="15089"/>
                    </a:lnTo>
                    <a:lnTo>
                      <a:pt x="4379" y="16590"/>
                    </a:lnTo>
                    <a:lnTo>
                      <a:pt x="6671" y="17882"/>
                    </a:lnTo>
                    <a:lnTo>
                      <a:pt x="9287" y="19138"/>
                    </a:lnTo>
                    <a:lnTo>
                      <a:pt x="12460" y="20399"/>
                    </a:lnTo>
                    <a:lnTo>
                      <a:pt x="15987" y="21600"/>
                    </a:lnTo>
                    <a:lnTo>
                      <a:pt x="16340" y="21600"/>
                    </a:lnTo>
                    <a:lnTo>
                      <a:pt x="12813" y="20399"/>
                    </a:lnTo>
                    <a:lnTo>
                      <a:pt x="9639" y="19138"/>
                    </a:lnTo>
                    <a:lnTo>
                      <a:pt x="7024" y="17882"/>
                    </a:lnTo>
                    <a:lnTo>
                      <a:pt x="4731" y="16590"/>
                    </a:lnTo>
                    <a:lnTo>
                      <a:pt x="2616" y="15089"/>
                    </a:lnTo>
                    <a:lnTo>
                      <a:pt x="1205" y="13558"/>
                    </a:lnTo>
                    <a:lnTo>
                      <a:pt x="529" y="12031"/>
                    </a:lnTo>
                    <a:lnTo>
                      <a:pt x="353" y="10500"/>
                    </a:lnTo>
                    <a:lnTo>
                      <a:pt x="353" y="10500"/>
                    </a:lnTo>
                    <a:close/>
                    <a:moveTo>
                      <a:pt x="353" y="1050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65" y="9749"/>
                    </a:moveTo>
                    <a:lnTo>
                      <a:pt x="1239" y="8548"/>
                    </a:lnTo>
                    <a:lnTo>
                      <a:pt x="2477" y="7382"/>
                    </a:lnTo>
                    <a:lnTo>
                      <a:pt x="4155" y="6181"/>
                    </a:lnTo>
                    <a:lnTo>
                      <a:pt x="6477" y="4980"/>
                    </a:lnTo>
                    <a:lnTo>
                      <a:pt x="9419" y="3778"/>
                    </a:lnTo>
                    <a:lnTo>
                      <a:pt x="12800" y="2552"/>
                    </a:lnTo>
                    <a:lnTo>
                      <a:pt x="16981" y="1291"/>
                    </a:lnTo>
                    <a:lnTo>
                      <a:pt x="19123" y="661"/>
                    </a:lnTo>
                    <a:lnTo>
                      <a:pt x="21600" y="0"/>
                    </a:lnTo>
                    <a:lnTo>
                      <a:pt x="21290" y="0"/>
                    </a:lnTo>
                    <a:lnTo>
                      <a:pt x="18813" y="661"/>
                    </a:lnTo>
                    <a:lnTo>
                      <a:pt x="16516" y="1291"/>
                    </a:lnTo>
                    <a:lnTo>
                      <a:pt x="14503" y="1922"/>
                    </a:lnTo>
                    <a:lnTo>
                      <a:pt x="12490" y="2552"/>
                    </a:lnTo>
                    <a:lnTo>
                      <a:pt x="9110" y="3778"/>
                    </a:lnTo>
                    <a:lnTo>
                      <a:pt x="6168" y="4980"/>
                    </a:lnTo>
                    <a:lnTo>
                      <a:pt x="3871" y="6181"/>
                    </a:lnTo>
                    <a:lnTo>
                      <a:pt x="2168" y="7352"/>
                    </a:lnTo>
                    <a:lnTo>
                      <a:pt x="929" y="8518"/>
                    </a:lnTo>
                    <a:lnTo>
                      <a:pt x="155" y="9719"/>
                    </a:lnTo>
                    <a:lnTo>
                      <a:pt x="0" y="11010"/>
                    </a:lnTo>
                    <a:lnTo>
                      <a:pt x="310" y="12361"/>
                    </a:lnTo>
                    <a:lnTo>
                      <a:pt x="1239" y="13708"/>
                    </a:lnTo>
                    <a:lnTo>
                      <a:pt x="2942" y="15149"/>
                    </a:lnTo>
                    <a:lnTo>
                      <a:pt x="3871" y="15870"/>
                    </a:lnTo>
                    <a:lnTo>
                      <a:pt x="5084" y="16620"/>
                    </a:lnTo>
                    <a:lnTo>
                      <a:pt x="6323" y="17401"/>
                    </a:lnTo>
                    <a:lnTo>
                      <a:pt x="7871" y="18212"/>
                    </a:lnTo>
                    <a:lnTo>
                      <a:pt x="9419" y="19018"/>
                    </a:lnTo>
                    <a:lnTo>
                      <a:pt x="11277" y="19858"/>
                    </a:lnTo>
                    <a:lnTo>
                      <a:pt x="13110" y="20699"/>
                    </a:lnTo>
                    <a:lnTo>
                      <a:pt x="15277" y="21600"/>
                    </a:lnTo>
                    <a:lnTo>
                      <a:pt x="15587" y="21600"/>
                    </a:lnTo>
                    <a:lnTo>
                      <a:pt x="13419" y="20699"/>
                    </a:lnTo>
                    <a:lnTo>
                      <a:pt x="11561" y="19858"/>
                    </a:lnTo>
                    <a:lnTo>
                      <a:pt x="9729" y="19018"/>
                    </a:lnTo>
                    <a:lnTo>
                      <a:pt x="8181" y="18212"/>
                    </a:lnTo>
                    <a:lnTo>
                      <a:pt x="6632" y="17401"/>
                    </a:lnTo>
                    <a:lnTo>
                      <a:pt x="5394" y="16650"/>
                    </a:lnTo>
                    <a:lnTo>
                      <a:pt x="4155" y="15870"/>
                    </a:lnTo>
                    <a:lnTo>
                      <a:pt x="3252" y="15149"/>
                    </a:lnTo>
                    <a:lnTo>
                      <a:pt x="1548" y="13708"/>
                    </a:lnTo>
                    <a:lnTo>
                      <a:pt x="619" y="12361"/>
                    </a:lnTo>
                    <a:lnTo>
                      <a:pt x="310" y="11040"/>
                    </a:lnTo>
                    <a:lnTo>
                      <a:pt x="465" y="9749"/>
                    </a:lnTo>
                    <a:lnTo>
                      <a:pt x="465" y="9749"/>
                    </a:lnTo>
                    <a:close/>
                    <a:moveTo>
                      <a:pt x="465" y="974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24"/>
                  </a:moveTo>
                  <a:lnTo>
                    <a:pt x="1502" y="3480"/>
                  </a:lnTo>
                  <a:lnTo>
                    <a:pt x="3433" y="6137"/>
                  </a:lnTo>
                  <a:lnTo>
                    <a:pt x="5758" y="8793"/>
                  </a:lnTo>
                  <a:lnTo>
                    <a:pt x="8118" y="11357"/>
                  </a:lnTo>
                  <a:lnTo>
                    <a:pt x="10907" y="13998"/>
                  </a:lnTo>
                  <a:lnTo>
                    <a:pt x="13911" y="16563"/>
                  </a:lnTo>
                  <a:lnTo>
                    <a:pt x="17309" y="19127"/>
                  </a:lnTo>
                  <a:lnTo>
                    <a:pt x="20956" y="21600"/>
                  </a:lnTo>
                  <a:lnTo>
                    <a:pt x="21600" y="21600"/>
                  </a:lnTo>
                  <a:lnTo>
                    <a:pt x="17738" y="19035"/>
                  </a:lnTo>
                  <a:lnTo>
                    <a:pt x="14340" y="16379"/>
                  </a:lnTo>
                  <a:lnTo>
                    <a:pt x="11122" y="13723"/>
                  </a:lnTo>
                  <a:lnTo>
                    <a:pt x="8332" y="10991"/>
                  </a:lnTo>
                  <a:lnTo>
                    <a:pt x="5758" y="8335"/>
                  </a:lnTo>
                  <a:lnTo>
                    <a:pt x="3648" y="5587"/>
                  </a:lnTo>
                  <a:lnTo>
                    <a:pt x="1717" y="2748"/>
                  </a:lnTo>
                  <a:lnTo>
                    <a:pt x="0" y="0"/>
                  </a:lnTo>
                  <a:lnTo>
                    <a:pt x="0" y="824"/>
                  </a:lnTo>
                  <a:lnTo>
                    <a:pt x="0" y="824"/>
                  </a:lnTo>
                  <a:close/>
                  <a:moveTo>
                    <a:pt x="0" y="824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21"/>
                  </a:moveTo>
                  <a:lnTo>
                    <a:pt x="10277" y="12169"/>
                  </a:lnTo>
                  <a:lnTo>
                    <a:pt x="20458" y="21600"/>
                  </a:lnTo>
                  <a:lnTo>
                    <a:pt x="21600" y="21600"/>
                  </a:lnTo>
                  <a:lnTo>
                    <a:pt x="15891" y="16732"/>
                  </a:lnTo>
                  <a:lnTo>
                    <a:pt x="10848" y="11256"/>
                  </a:lnTo>
                  <a:lnTo>
                    <a:pt x="0" y="0"/>
                  </a:lnTo>
                  <a:lnTo>
                    <a:pt x="0" y="1521"/>
                  </a:lnTo>
                  <a:lnTo>
                    <a:pt x="0" y="1521"/>
                  </a:lnTo>
                  <a:close/>
                  <a:moveTo>
                    <a:pt x="0" y="1521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802"/>
                  </a:lnTo>
                  <a:lnTo>
                    <a:pt x="21336" y="20149"/>
                  </a:lnTo>
                  <a:lnTo>
                    <a:pt x="21072" y="19508"/>
                  </a:lnTo>
                  <a:lnTo>
                    <a:pt x="20279" y="17984"/>
                  </a:lnTo>
                  <a:lnTo>
                    <a:pt x="19486" y="16460"/>
                  </a:lnTo>
                  <a:lnTo>
                    <a:pt x="17527" y="13557"/>
                  </a:lnTo>
                  <a:lnTo>
                    <a:pt x="15017" y="10873"/>
                  </a:lnTo>
                  <a:lnTo>
                    <a:pt x="12374" y="8333"/>
                  </a:lnTo>
                  <a:lnTo>
                    <a:pt x="9490" y="6023"/>
                  </a:lnTo>
                  <a:lnTo>
                    <a:pt x="6451" y="3846"/>
                  </a:lnTo>
                  <a:lnTo>
                    <a:pt x="3303" y="1814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3039" y="1814"/>
                  </a:lnTo>
                  <a:lnTo>
                    <a:pt x="6055" y="3846"/>
                  </a:lnTo>
                  <a:lnTo>
                    <a:pt x="9094" y="6023"/>
                  </a:lnTo>
                  <a:lnTo>
                    <a:pt x="12000" y="8333"/>
                  </a:lnTo>
                  <a:lnTo>
                    <a:pt x="14752" y="10873"/>
                  </a:lnTo>
                  <a:lnTo>
                    <a:pt x="17130" y="13557"/>
                  </a:lnTo>
                  <a:lnTo>
                    <a:pt x="19222" y="16460"/>
                  </a:lnTo>
                  <a:lnTo>
                    <a:pt x="20015" y="17984"/>
                  </a:lnTo>
                  <a:lnTo>
                    <a:pt x="20807" y="19580"/>
                  </a:lnTo>
                  <a:lnTo>
                    <a:pt x="21204" y="20584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987"/>
                  </a:lnTo>
                  <a:lnTo>
                    <a:pt x="17292" y="15465"/>
                  </a:lnTo>
                  <a:lnTo>
                    <a:pt x="12231" y="10123"/>
                  </a:lnTo>
                  <a:lnTo>
                    <a:pt x="6658" y="4908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6296" y="5061"/>
                  </a:lnTo>
                  <a:lnTo>
                    <a:pt x="12050" y="10429"/>
                  </a:lnTo>
                  <a:lnTo>
                    <a:pt x="17111" y="15925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661"/>
                  </a:lnTo>
                  <a:lnTo>
                    <a:pt x="11782" y="10017"/>
                  </a:lnTo>
                  <a:lnTo>
                    <a:pt x="637" y="0"/>
                  </a:lnTo>
                  <a:lnTo>
                    <a:pt x="0" y="0"/>
                  </a:lnTo>
                  <a:lnTo>
                    <a:pt x="5732" y="5322"/>
                  </a:lnTo>
                  <a:lnTo>
                    <a:pt x="11463" y="10643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864"/>
                  </a:moveTo>
                  <a:lnTo>
                    <a:pt x="0" y="21600"/>
                  </a:lnTo>
                  <a:lnTo>
                    <a:pt x="1364" y="18565"/>
                  </a:lnTo>
                  <a:lnTo>
                    <a:pt x="3183" y="15529"/>
                  </a:lnTo>
                  <a:lnTo>
                    <a:pt x="5432" y="12678"/>
                  </a:lnTo>
                  <a:lnTo>
                    <a:pt x="7857" y="9919"/>
                  </a:lnTo>
                  <a:lnTo>
                    <a:pt x="10888" y="7266"/>
                  </a:lnTo>
                  <a:lnTo>
                    <a:pt x="14046" y="4783"/>
                  </a:lnTo>
                  <a:lnTo>
                    <a:pt x="17684" y="2300"/>
                  </a:lnTo>
                  <a:lnTo>
                    <a:pt x="21600" y="0"/>
                  </a:lnTo>
                  <a:lnTo>
                    <a:pt x="21145" y="0"/>
                  </a:lnTo>
                  <a:lnTo>
                    <a:pt x="17381" y="2208"/>
                  </a:lnTo>
                  <a:lnTo>
                    <a:pt x="13895" y="4599"/>
                  </a:lnTo>
                  <a:lnTo>
                    <a:pt x="10737" y="7082"/>
                  </a:lnTo>
                  <a:lnTo>
                    <a:pt x="7857" y="9643"/>
                  </a:lnTo>
                  <a:lnTo>
                    <a:pt x="5432" y="12310"/>
                  </a:lnTo>
                  <a:lnTo>
                    <a:pt x="3335" y="15069"/>
                  </a:lnTo>
                  <a:lnTo>
                    <a:pt x="1516" y="17921"/>
                  </a:lnTo>
                  <a:lnTo>
                    <a:pt x="0" y="20864"/>
                  </a:lnTo>
                  <a:lnTo>
                    <a:pt x="0" y="20864"/>
                  </a:lnTo>
                  <a:close/>
                  <a:moveTo>
                    <a:pt x="0" y="20864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937" y="0"/>
                  </a:lnTo>
                  <a:lnTo>
                    <a:pt x="15002" y="4760"/>
                  </a:lnTo>
                  <a:lnTo>
                    <a:pt x="9473" y="9736"/>
                  </a:lnTo>
                  <a:lnTo>
                    <a:pt x="4423" y="15145"/>
                  </a:lnTo>
                  <a:lnTo>
                    <a:pt x="0" y="20735"/>
                  </a:lnTo>
                  <a:lnTo>
                    <a:pt x="0" y="21600"/>
                  </a:lnTo>
                  <a:lnTo>
                    <a:pt x="4423" y="15578"/>
                  </a:lnTo>
                  <a:lnTo>
                    <a:pt x="9473" y="10169"/>
                  </a:lnTo>
                  <a:lnTo>
                    <a:pt x="15223" y="497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155" y="0"/>
                  </a:lnTo>
                  <a:lnTo>
                    <a:pt x="9636" y="9771"/>
                  </a:lnTo>
                  <a:lnTo>
                    <a:pt x="4818" y="14914"/>
                  </a:lnTo>
                  <a:lnTo>
                    <a:pt x="0" y="20057"/>
                  </a:lnTo>
                  <a:lnTo>
                    <a:pt x="0" y="21600"/>
                  </a:lnTo>
                  <a:lnTo>
                    <a:pt x="10117" y="1028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4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4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1440" y="622440"/>
              <a:ext cx="9140760" cy="2495520"/>
              <a:chOff x="1440" y="622440"/>
              <a:chExt cx="9140760" cy="2495520"/>
            </a:xfrm>
          </p:grpSpPr>
          <p:sp>
            <p:nvSpPr>
              <p:cNvPr id="388" name=""/>
              <p:cNvSpPr/>
              <p:nvPr/>
            </p:nvSpPr>
            <p:spPr>
              <a:xfrm>
                <a:off x="1440" y="124488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440" y="311652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440" y="24926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440" y="186876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44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144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4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"/>
          <p:cNvSpPr txBox="1"/>
          <p:nvPr/>
        </p:nvSpPr>
        <p:spPr>
          <a:xfrm>
            <a:off x="7481520" y="6243480"/>
            <a:ext cx="2746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0921-6821-46B3-9E51-98BEFD3846D2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6840"/>
            <a:ext cx="8229600" cy="1505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12880" y="1359000"/>
            <a:ext cx="75438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1) What percent of Germans are unemployed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A) 5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B) 1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) 7.2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D) 6.8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0280" y="3733920"/>
            <a:ext cx="754380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2) According to the head of the Federal Labor Agency, there will always be a need for _________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A) fun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B) work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) inven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D) new off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400" name="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20"/>
                  </a:moveTo>
                  <a:lnTo>
                    <a:pt x="21600" y="0"/>
                  </a:lnTo>
                  <a:lnTo>
                    <a:pt x="21058" y="1291"/>
                  </a:lnTo>
                  <a:lnTo>
                    <a:pt x="20335" y="2671"/>
                  </a:lnTo>
                  <a:lnTo>
                    <a:pt x="18889" y="4972"/>
                  </a:lnTo>
                  <a:lnTo>
                    <a:pt x="17292" y="7272"/>
                  </a:lnTo>
                  <a:lnTo>
                    <a:pt x="15123" y="9573"/>
                  </a:lnTo>
                  <a:lnTo>
                    <a:pt x="12773" y="11950"/>
                  </a:lnTo>
                  <a:lnTo>
                    <a:pt x="10062" y="14328"/>
                  </a:lnTo>
                  <a:lnTo>
                    <a:pt x="7019" y="16769"/>
                  </a:lnTo>
                  <a:lnTo>
                    <a:pt x="3766" y="19146"/>
                  </a:lnTo>
                  <a:lnTo>
                    <a:pt x="0" y="21600"/>
                  </a:lnTo>
                  <a:lnTo>
                    <a:pt x="331" y="21600"/>
                  </a:lnTo>
                  <a:lnTo>
                    <a:pt x="4127" y="19146"/>
                  </a:lnTo>
                  <a:lnTo>
                    <a:pt x="7381" y="16769"/>
                  </a:lnTo>
                  <a:lnTo>
                    <a:pt x="10423" y="14328"/>
                  </a:lnTo>
                  <a:lnTo>
                    <a:pt x="13135" y="11950"/>
                  </a:lnTo>
                  <a:lnTo>
                    <a:pt x="15485" y="9573"/>
                  </a:lnTo>
                  <a:lnTo>
                    <a:pt x="17623" y="7272"/>
                  </a:lnTo>
                  <a:lnTo>
                    <a:pt x="19250" y="4972"/>
                  </a:lnTo>
                  <a:lnTo>
                    <a:pt x="20696" y="2671"/>
                  </a:lnTo>
                  <a:lnTo>
                    <a:pt x="21238" y="1828"/>
                  </a:lnTo>
                  <a:lnTo>
                    <a:pt x="21600" y="920"/>
                  </a:lnTo>
                  <a:lnTo>
                    <a:pt x="21600" y="920"/>
                  </a:lnTo>
                  <a:close/>
                  <a:moveTo>
                    <a:pt x="21600" y="92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6787" y="5462"/>
                  </a:lnTo>
                  <a:lnTo>
                    <a:pt x="11688" y="10924"/>
                  </a:lnTo>
                  <a:lnTo>
                    <a:pt x="5844" y="16386"/>
                  </a:lnTo>
                  <a:lnTo>
                    <a:pt x="0" y="21600"/>
                  </a:lnTo>
                  <a:lnTo>
                    <a:pt x="688" y="21600"/>
                  </a:lnTo>
                  <a:lnTo>
                    <a:pt x="6532" y="16634"/>
                  </a:lnTo>
                  <a:lnTo>
                    <a:pt x="11688" y="11669"/>
                  </a:lnTo>
                  <a:lnTo>
                    <a:pt x="21600" y="993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629" y="21600"/>
                  </a:lnTo>
                  <a:lnTo>
                    <a:pt x="12343" y="12706"/>
                  </a:lnTo>
                  <a:lnTo>
                    <a:pt x="21600" y="5082"/>
                  </a:lnTo>
                  <a:lnTo>
                    <a:pt x="21600" y="0"/>
                  </a:lnTo>
                  <a:lnTo>
                    <a:pt x="10800" y="11435"/>
                  </a:lnTo>
                  <a:lnTo>
                    <a:pt x="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404" name="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8000" y="21600"/>
                    </a:lnTo>
                    <a:lnTo>
                      <a:pt x="21600" y="21600"/>
                    </a:lnTo>
                    <a:lnTo>
                      <a:pt x="36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979" y="0"/>
                    </a:moveTo>
                    <a:lnTo>
                      <a:pt x="1490" y="0"/>
                    </a:lnTo>
                    <a:lnTo>
                      <a:pt x="5214" y="1081"/>
                    </a:lnTo>
                    <a:lnTo>
                      <a:pt x="8938" y="2222"/>
                    </a:lnTo>
                    <a:lnTo>
                      <a:pt x="11917" y="3448"/>
                    </a:lnTo>
                    <a:lnTo>
                      <a:pt x="14897" y="4739"/>
                    </a:lnTo>
                    <a:lnTo>
                      <a:pt x="16386" y="6061"/>
                    </a:lnTo>
                    <a:lnTo>
                      <a:pt x="18621" y="7442"/>
                    </a:lnTo>
                    <a:lnTo>
                      <a:pt x="19366" y="8848"/>
                    </a:lnTo>
                    <a:lnTo>
                      <a:pt x="20110" y="10320"/>
                    </a:lnTo>
                    <a:lnTo>
                      <a:pt x="19366" y="13232"/>
                    </a:lnTo>
                    <a:lnTo>
                      <a:pt x="15641" y="16140"/>
                    </a:lnTo>
                    <a:lnTo>
                      <a:pt x="13407" y="17551"/>
                    </a:lnTo>
                    <a:lnTo>
                      <a:pt x="9683" y="18958"/>
                    </a:lnTo>
                    <a:lnTo>
                      <a:pt x="5214" y="20309"/>
                    </a:lnTo>
                    <a:lnTo>
                      <a:pt x="0" y="21600"/>
                    </a:lnTo>
                    <a:lnTo>
                      <a:pt x="1490" y="21600"/>
                    </a:lnTo>
                    <a:lnTo>
                      <a:pt x="6703" y="20309"/>
                    </a:lnTo>
                    <a:lnTo>
                      <a:pt x="11172" y="18928"/>
                    </a:lnTo>
                    <a:lnTo>
                      <a:pt x="14897" y="17551"/>
                    </a:lnTo>
                    <a:lnTo>
                      <a:pt x="17131" y="16110"/>
                    </a:lnTo>
                    <a:lnTo>
                      <a:pt x="20855" y="13202"/>
                    </a:lnTo>
                    <a:lnTo>
                      <a:pt x="21600" y="10290"/>
                    </a:lnTo>
                    <a:lnTo>
                      <a:pt x="20855" y="8848"/>
                    </a:lnTo>
                    <a:lnTo>
                      <a:pt x="20110" y="7442"/>
                    </a:lnTo>
                    <a:lnTo>
                      <a:pt x="17876" y="6061"/>
                    </a:lnTo>
                    <a:lnTo>
                      <a:pt x="16386" y="4709"/>
                    </a:lnTo>
                    <a:lnTo>
                      <a:pt x="13407" y="3448"/>
                    </a:lnTo>
                    <a:lnTo>
                      <a:pt x="10428" y="2222"/>
                    </a:lnTo>
                    <a:lnTo>
                      <a:pt x="6703" y="1081"/>
                    </a:lnTo>
                    <a:lnTo>
                      <a:pt x="2979" y="0"/>
                    </a:lnTo>
                    <a:lnTo>
                      <a:pt x="2979" y="0"/>
                    </a:lnTo>
                    <a:close/>
                    <a:moveTo>
                      <a:pt x="2979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213" y="10079"/>
                    </a:moveTo>
                    <a:lnTo>
                      <a:pt x="20439" y="8638"/>
                    </a:lnTo>
                    <a:lnTo>
                      <a:pt x="18892" y="7232"/>
                    </a:lnTo>
                    <a:lnTo>
                      <a:pt x="16958" y="5880"/>
                    </a:lnTo>
                    <a:lnTo>
                      <a:pt x="14701" y="4589"/>
                    </a:lnTo>
                    <a:lnTo>
                      <a:pt x="11993" y="3328"/>
                    </a:lnTo>
                    <a:lnTo>
                      <a:pt x="8511" y="2162"/>
                    </a:lnTo>
                    <a:lnTo>
                      <a:pt x="5029" y="1021"/>
                    </a:lnTo>
                    <a:lnTo>
                      <a:pt x="774" y="0"/>
                    </a:lnTo>
                    <a:lnTo>
                      <a:pt x="0" y="0"/>
                    </a:lnTo>
                    <a:lnTo>
                      <a:pt x="4256" y="1021"/>
                    </a:lnTo>
                    <a:lnTo>
                      <a:pt x="7737" y="2162"/>
                    </a:lnTo>
                    <a:lnTo>
                      <a:pt x="11219" y="3328"/>
                    </a:lnTo>
                    <a:lnTo>
                      <a:pt x="13927" y="4589"/>
                    </a:lnTo>
                    <a:lnTo>
                      <a:pt x="16184" y="5880"/>
                    </a:lnTo>
                    <a:lnTo>
                      <a:pt x="18118" y="7232"/>
                    </a:lnTo>
                    <a:lnTo>
                      <a:pt x="19666" y="8638"/>
                    </a:lnTo>
                    <a:lnTo>
                      <a:pt x="20439" y="10079"/>
                    </a:lnTo>
                    <a:lnTo>
                      <a:pt x="20826" y="11581"/>
                    </a:lnTo>
                    <a:lnTo>
                      <a:pt x="20439" y="13052"/>
                    </a:lnTo>
                    <a:lnTo>
                      <a:pt x="19666" y="14548"/>
                    </a:lnTo>
                    <a:lnTo>
                      <a:pt x="18118" y="16020"/>
                    </a:lnTo>
                    <a:lnTo>
                      <a:pt x="16571" y="17461"/>
                    </a:lnTo>
                    <a:lnTo>
                      <a:pt x="13927" y="18903"/>
                    </a:lnTo>
                    <a:lnTo>
                      <a:pt x="11219" y="20279"/>
                    </a:lnTo>
                    <a:lnTo>
                      <a:pt x="7737" y="21600"/>
                    </a:lnTo>
                    <a:lnTo>
                      <a:pt x="8511" y="21600"/>
                    </a:lnTo>
                    <a:lnTo>
                      <a:pt x="11993" y="20279"/>
                    </a:lnTo>
                    <a:lnTo>
                      <a:pt x="14701" y="18903"/>
                    </a:lnTo>
                    <a:lnTo>
                      <a:pt x="17344" y="17461"/>
                    </a:lnTo>
                    <a:lnTo>
                      <a:pt x="18892" y="16020"/>
                    </a:lnTo>
                    <a:lnTo>
                      <a:pt x="20439" y="14548"/>
                    </a:lnTo>
                    <a:lnTo>
                      <a:pt x="21213" y="13052"/>
                    </a:lnTo>
                    <a:lnTo>
                      <a:pt x="21600" y="11581"/>
                    </a:lnTo>
                    <a:lnTo>
                      <a:pt x="21213" y="10079"/>
                    </a:lnTo>
                    <a:lnTo>
                      <a:pt x="21213" y="10079"/>
                    </a:lnTo>
                    <a:close/>
                    <a:moveTo>
                      <a:pt x="21213" y="1007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990" y="9629"/>
                    </a:moveTo>
                    <a:lnTo>
                      <a:pt x="20075" y="8458"/>
                    </a:lnTo>
                    <a:lnTo>
                      <a:pt x="18551" y="7292"/>
                    </a:lnTo>
                    <a:lnTo>
                      <a:pt x="16721" y="6151"/>
                    </a:lnTo>
                    <a:lnTo>
                      <a:pt x="14281" y="5010"/>
                    </a:lnTo>
                    <a:lnTo>
                      <a:pt x="11537" y="3809"/>
                    </a:lnTo>
                    <a:lnTo>
                      <a:pt x="8233" y="2612"/>
                    </a:lnTo>
                    <a:lnTo>
                      <a:pt x="4574" y="1351"/>
                    </a:lnTo>
                    <a:lnTo>
                      <a:pt x="610" y="0"/>
                    </a:lnTo>
                    <a:lnTo>
                      <a:pt x="0" y="0"/>
                    </a:lnTo>
                    <a:lnTo>
                      <a:pt x="4269" y="1351"/>
                    </a:lnTo>
                    <a:lnTo>
                      <a:pt x="7928" y="2612"/>
                    </a:lnTo>
                    <a:lnTo>
                      <a:pt x="10978" y="3839"/>
                    </a:lnTo>
                    <a:lnTo>
                      <a:pt x="13976" y="5010"/>
                    </a:lnTo>
                    <a:lnTo>
                      <a:pt x="16111" y="6181"/>
                    </a:lnTo>
                    <a:lnTo>
                      <a:pt x="17941" y="7322"/>
                    </a:lnTo>
                    <a:lnTo>
                      <a:pt x="19465" y="8458"/>
                    </a:lnTo>
                    <a:lnTo>
                      <a:pt x="20380" y="9629"/>
                    </a:lnTo>
                    <a:lnTo>
                      <a:pt x="20990" y="10950"/>
                    </a:lnTo>
                    <a:lnTo>
                      <a:pt x="20685" y="12301"/>
                    </a:lnTo>
                    <a:lnTo>
                      <a:pt x="20075" y="13678"/>
                    </a:lnTo>
                    <a:lnTo>
                      <a:pt x="18551" y="15119"/>
                    </a:lnTo>
                    <a:lnTo>
                      <a:pt x="16721" y="16620"/>
                    </a:lnTo>
                    <a:lnTo>
                      <a:pt x="13976" y="18212"/>
                    </a:lnTo>
                    <a:lnTo>
                      <a:pt x="10368" y="19858"/>
                    </a:lnTo>
                    <a:lnTo>
                      <a:pt x="6404" y="21600"/>
                    </a:lnTo>
                    <a:lnTo>
                      <a:pt x="7014" y="21600"/>
                    </a:lnTo>
                    <a:lnTo>
                      <a:pt x="10978" y="19858"/>
                    </a:lnTo>
                    <a:lnTo>
                      <a:pt x="14586" y="18212"/>
                    </a:lnTo>
                    <a:lnTo>
                      <a:pt x="17331" y="16620"/>
                    </a:lnTo>
                    <a:lnTo>
                      <a:pt x="19160" y="15119"/>
                    </a:lnTo>
                    <a:lnTo>
                      <a:pt x="20685" y="13678"/>
                    </a:lnTo>
                    <a:lnTo>
                      <a:pt x="21295" y="12301"/>
                    </a:lnTo>
                    <a:lnTo>
                      <a:pt x="21600" y="10950"/>
                    </a:lnTo>
                    <a:lnTo>
                      <a:pt x="20990" y="9629"/>
                    </a:lnTo>
                    <a:lnTo>
                      <a:pt x="20990" y="9629"/>
                    </a:lnTo>
                    <a:close/>
                    <a:moveTo>
                      <a:pt x="20990" y="962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109"/>
                    </a:moveTo>
                    <a:lnTo>
                      <a:pt x="20901" y="8668"/>
                    </a:lnTo>
                    <a:lnTo>
                      <a:pt x="19541" y="7232"/>
                    </a:lnTo>
                    <a:lnTo>
                      <a:pt x="17676" y="5880"/>
                    </a:lnTo>
                    <a:lnTo>
                      <a:pt x="15345" y="4559"/>
                    </a:lnTo>
                    <a:lnTo>
                      <a:pt x="12315" y="3298"/>
                    </a:lnTo>
                    <a:lnTo>
                      <a:pt x="8858" y="2132"/>
                    </a:lnTo>
                    <a:lnTo>
                      <a:pt x="4895" y="1021"/>
                    </a:lnTo>
                    <a:lnTo>
                      <a:pt x="466" y="0"/>
                    </a:lnTo>
                    <a:lnTo>
                      <a:pt x="0" y="0"/>
                    </a:lnTo>
                    <a:lnTo>
                      <a:pt x="4429" y="1021"/>
                    </a:lnTo>
                    <a:lnTo>
                      <a:pt x="8391" y="2132"/>
                    </a:lnTo>
                    <a:lnTo>
                      <a:pt x="11849" y="3298"/>
                    </a:lnTo>
                    <a:lnTo>
                      <a:pt x="14879" y="4559"/>
                    </a:lnTo>
                    <a:lnTo>
                      <a:pt x="17210" y="5880"/>
                    </a:lnTo>
                    <a:lnTo>
                      <a:pt x="19075" y="7232"/>
                    </a:lnTo>
                    <a:lnTo>
                      <a:pt x="20435" y="8668"/>
                    </a:lnTo>
                    <a:lnTo>
                      <a:pt x="21134" y="10109"/>
                    </a:lnTo>
                    <a:lnTo>
                      <a:pt x="21134" y="11641"/>
                    </a:lnTo>
                    <a:lnTo>
                      <a:pt x="20668" y="13172"/>
                    </a:lnTo>
                    <a:lnTo>
                      <a:pt x="19541" y="14669"/>
                    </a:lnTo>
                    <a:lnTo>
                      <a:pt x="17676" y="16140"/>
                    </a:lnTo>
                    <a:lnTo>
                      <a:pt x="15112" y="17581"/>
                    </a:lnTo>
                    <a:lnTo>
                      <a:pt x="12082" y="18958"/>
                    </a:lnTo>
                    <a:lnTo>
                      <a:pt x="8391" y="20309"/>
                    </a:lnTo>
                    <a:lnTo>
                      <a:pt x="3963" y="21600"/>
                    </a:lnTo>
                    <a:lnTo>
                      <a:pt x="4429" y="21600"/>
                    </a:lnTo>
                    <a:lnTo>
                      <a:pt x="8858" y="20309"/>
                    </a:lnTo>
                    <a:lnTo>
                      <a:pt x="12548" y="18958"/>
                    </a:lnTo>
                    <a:lnTo>
                      <a:pt x="15578" y="17581"/>
                    </a:lnTo>
                    <a:lnTo>
                      <a:pt x="18142" y="16140"/>
                    </a:lnTo>
                    <a:lnTo>
                      <a:pt x="20007" y="14669"/>
                    </a:lnTo>
                    <a:lnTo>
                      <a:pt x="21134" y="13172"/>
                    </a:lnTo>
                    <a:lnTo>
                      <a:pt x="21600" y="11641"/>
                    </a:lnTo>
                    <a:lnTo>
                      <a:pt x="21600" y="10109"/>
                    </a:lnTo>
                    <a:lnTo>
                      <a:pt x="21600" y="10109"/>
                    </a:lnTo>
                    <a:close/>
                    <a:moveTo>
                      <a:pt x="21600" y="1010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440"/>
                    </a:moveTo>
                    <a:lnTo>
                      <a:pt x="21035" y="9058"/>
                    </a:lnTo>
                    <a:lnTo>
                      <a:pt x="19905" y="7712"/>
                    </a:lnTo>
                    <a:lnTo>
                      <a:pt x="18021" y="6361"/>
                    </a:lnTo>
                    <a:lnTo>
                      <a:pt x="15603" y="5040"/>
                    </a:lnTo>
                    <a:lnTo>
                      <a:pt x="12590" y="3748"/>
                    </a:lnTo>
                    <a:lnTo>
                      <a:pt x="9199" y="2462"/>
                    </a:lnTo>
                    <a:lnTo>
                      <a:pt x="5086" y="1201"/>
                    </a:lnTo>
                    <a:lnTo>
                      <a:pt x="377" y="0"/>
                    </a:lnTo>
                    <a:lnTo>
                      <a:pt x="0" y="0"/>
                    </a:lnTo>
                    <a:lnTo>
                      <a:pt x="4709" y="1201"/>
                    </a:lnTo>
                    <a:lnTo>
                      <a:pt x="8822" y="2462"/>
                    </a:lnTo>
                    <a:lnTo>
                      <a:pt x="12213" y="3748"/>
                    </a:lnTo>
                    <a:lnTo>
                      <a:pt x="15227" y="5040"/>
                    </a:lnTo>
                    <a:lnTo>
                      <a:pt x="17644" y="6361"/>
                    </a:lnTo>
                    <a:lnTo>
                      <a:pt x="19528" y="7712"/>
                    </a:lnTo>
                    <a:lnTo>
                      <a:pt x="20658" y="9058"/>
                    </a:lnTo>
                    <a:lnTo>
                      <a:pt x="21223" y="10440"/>
                    </a:lnTo>
                    <a:lnTo>
                      <a:pt x="21223" y="11851"/>
                    </a:lnTo>
                    <a:lnTo>
                      <a:pt x="20658" y="13262"/>
                    </a:lnTo>
                    <a:lnTo>
                      <a:pt x="19340" y="14669"/>
                    </a:lnTo>
                    <a:lnTo>
                      <a:pt x="17456" y="16080"/>
                    </a:lnTo>
                    <a:lnTo>
                      <a:pt x="14850" y="17491"/>
                    </a:lnTo>
                    <a:lnTo>
                      <a:pt x="11648" y="18903"/>
                    </a:lnTo>
                    <a:lnTo>
                      <a:pt x="7880" y="20249"/>
                    </a:lnTo>
                    <a:lnTo>
                      <a:pt x="3579" y="21600"/>
                    </a:lnTo>
                    <a:lnTo>
                      <a:pt x="3956" y="21600"/>
                    </a:lnTo>
                    <a:lnTo>
                      <a:pt x="8257" y="20249"/>
                    </a:lnTo>
                    <a:lnTo>
                      <a:pt x="12024" y="18903"/>
                    </a:lnTo>
                    <a:lnTo>
                      <a:pt x="15227" y="17491"/>
                    </a:lnTo>
                    <a:lnTo>
                      <a:pt x="17833" y="16110"/>
                    </a:lnTo>
                    <a:lnTo>
                      <a:pt x="19716" y="14699"/>
                    </a:lnTo>
                    <a:lnTo>
                      <a:pt x="21035" y="13292"/>
                    </a:lnTo>
                    <a:lnTo>
                      <a:pt x="21600" y="11851"/>
                    </a:lnTo>
                    <a:lnTo>
                      <a:pt x="21600" y="10440"/>
                    </a:lnTo>
                    <a:lnTo>
                      <a:pt x="21600" y="10440"/>
                    </a:lnTo>
                    <a:close/>
                    <a:moveTo>
                      <a:pt x="21600" y="104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449" y="10650"/>
                    </a:moveTo>
                    <a:lnTo>
                      <a:pt x="20847" y="9178"/>
                    </a:lnTo>
                    <a:lnTo>
                      <a:pt x="20270" y="8428"/>
                    </a:lnTo>
                    <a:lnTo>
                      <a:pt x="19668" y="7712"/>
                    </a:lnTo>
                    <a:lnTo>
                      <a:pt x="18765" y="6991"/>
                    </a:lnTo>
                    <a:lnTo>
                      <a:pt x="17862" y="6271"/>
                    </a:lnTo>
                    <a:lnTo>
                      <a:pt x="16658" y="5580"/>
                    </a:lnTo>
                    <a:lnTo>
                      <a:pt x="15303" y="4890"/>
                    </a:lnTo>
                    <a:lnTo>
                      <a:pt x="12318" y="3598"/>
                    </a:lnTo>
                    <a:lnTo>
                      <a:pt x="8856" y="2342"/>
                    </a:lnTo>
                    <a:lnTo>
                      <a:pt x="4817" y="1141"/>
                    </a:lnTo>
                    <a:lnTo>
                      <a:pt x="301" y="0"/>
                    </a:lnTo>
                    <a:lnTo>
                      <a:pt x="0" y="0"/>
                    </a:lnTo>
                    <a:lnTo>
                      <a:pt x="4516" y="1141"/>
                    </a:lnTo>
                    <a:lnTo>
                      <a:pt x="8555" y="2342"/>
                    </a:lnTo>
                    <a:lnTo>
                      <a:pt x="12017" y="3598"/>
                    </a:lnTo>
                    <a:lnTo>
                      <a:pt x="15002" y="4920"/>
                    </a:lnTo>
                    <a:lnTo>
                      <a:pt x="16357" y="5610"/>
                    </a:lnTo>
                    <a:lnTo>
                      <a:pt x="17561" y="6301"/>
                    </a:lnTo>
                    <a:lnTo>
                      <a:pt x="18464" y="7022"/>
                    </a:lnTo>
                    <a:lnTo>
                      <a:pt x="19367" y="7742"/>
                    </a:lnTo>
                    <a:lnTo>
                      <a:pt x="20120" y="8458"/>
                    </a:lnTo>
                    <a:lnTo>
                      <a:pt x="20546" y="9178"/>
                    </a:lnTo>
                    <a:lnTo>
                      <a:pt x="20998" y="9929"/>
                    </a:lnTo>
                    <a:lnTo>
                      <a:pt x="21148" y="10650"/>
                    </a:lnTo>
                    <a:lnTo>
                      <a:pt x="21299" y="11401"/>
                    </a:lnTo>
                    <a:lnTo>
                      <a:pt x="21148" y="12151"/>
                    </a:lnTo>
                    <a:lnTo>
                      <a:pt x="20847" y="12872"/>
                    </a:lnTo>
                    <a:lnTo>
                      <a:pt x="20546" y="13618"/>
                    </a:lnTo>
                    <a:lnTo>
                      <a:pt x="19969" y="14338"/>
                    </a:lnTo>
                    <a:lnTo>
                      <a:pt x="19217" y="15089"/>
                    </a:lnTo>
                    <a:lnTo>
                      <a:pt x="18163" y="15810"/>
                    </a:lnTo>
                    <a:lnTo>
                      <a:pt x="17109" y="16530"/>
                    </a:lnTo>
                    <a:lnTo>
                      <a:pt x="14701" y="17852"/>
                    </a:lnTo>
                    <a:lnTo>
                      <a:pt x="11866" y="19138"/>
                    </a:lnTo>
                    <a:lnTo>
                      <a:pt x="8404" y="20399"/>
                    </a:lnTo>
                    <a:lnTo>
                      <a:pt x="4516" y="21600"/>
                    </a:lnTo>
                    <a:lnTo>
                      <a:pt x="4817" y="21600"/>
                    </a:lnTo>
                    <a:lnTo>
                      <a:pt x="8705" y="20399"/>
                    </a:lnTo>
                    <a:lnTo>
                      <a:pt x="12167" y="19138"/>
                    </a:lnTo>
                    <a:lnTo>
                      <a:pt x="15002" y="17882"/>
                    </a:lnTo>
                    <a:lnTo>
                      <a:pt x="17410" y="16560"/>
                    </a:lnTo>
                    <a:lnTo>
                      <a:pt x="18464" y="15840"/>
                    </a:lnTo>
                    <a:lnTo>
                      <a:pt x="19518" y="15119"/>
                    </a:lnTo>
                    <a:lnTo>
                      <a:pt x="20270" y="14368"/>
                    </a:lnTo>
                    <a:lnTo>
                      <a:pt x="20847" y="13648"/>
                    </a:lnTo>
                    <a:lnTo>
                      <a:pt x="21148" y="12902"/>
                    </a:lnTo>
                    <a:lnTo>
                      <a:pt x="21449" y="12151"/>
                    </a:lnTo>
                    <a:lnTo>
                      <a:pt x="21600" y="11401"/>
                    </a:lnTo>
                    <a:lnTo>
                      <a:pt x="21449" y="10650"/>
                    </a:lnTo>
                    <a:lnTo>
                      <a:pt x="21449" y="10650"/>
                    </a:lnTo>
                    <a:close/>
                    <a:moveTo>
                      <a:pt x="21449" y="1065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609" y="9719"/>
                    </a:moveTo>
                    <a:lnTo>
                      <a:pt x="4349" y="8158"/>
                    </a:lnTo>
                    <a:lnTo>
                      <a:pt x="6089" y="6661"/>
                    </a:lnTo>
                    <a:lnTo>
                      <a:pt x="8553" y="5280"/>
                    </a:lnTo>
                    <a:lnTo>
                      <a:pt x="11162" y="3959"/>
                    </a:lnTo>
                    <a:lnTo>
                      <a:pt x="12032" y="3358"/>
                    </a:lnTo>
                    <a:lnTo>
                      <a:pt x="13772" y="2788"/>
                    </a:lnTo>
                    <a:lnTo>
                      <a:pt x="15511" y="2222"/>
                    </a:lnTo>
                    <a:lnTo>
                      <a:pt x="16381" y="1712"/>
                    </a:lnTo>
                    <a:lnTo>
                      <a:pt x="18121" y="1231"/>
                    </a:lnTo>
                    <a:lnTo>
                      <a:pt x="18991" y="781"/>
                    </a:lnTo>
                    <a:lnTo>
                      <a:pt x="20730" y="360"/>
                    </a:lnTo>
                    <a:lnTo>
                      <a:pt x="21600" y="0"/>
                    </a:lnTo>
                    <a:lnTo>
                      <a:pt x="19860" y="0"/>
                    </a:lnTo>
                    <a:lnTo>
                      <a:pt x="18991" y="360"/>
                    </a:lnTo>
                    <a:lnTo>
                      <a:pt x="17251" y="781"/>
                    </a:lnTo>
                    <a:lnTo>
                      <a:pt x="16381" y="1231"/>
                    </a:lnTo>
                    <a:lnTo>
                      <a:pt x="14642" y="1712"/>
                    </a:lnTo>
                    <a:lnTo>
                      <a:pt x="13772" y="2222"/>
                    </a:lnTo>
                    <a:lnTo>
                      <a:pt x="12032" y="2788"/>
                    </a:lnTo>
                    <a:lnTo>
                      <a:pt x="10293" y="3358"/>
                    </a:lnTo>
                    <a:lnTo>
                      <a:pt x="9423" y="3959"/>
                    </a:lnTo>
                    <a:lnTo>
                      <a:pt x="6958" y="5280"/>
                    </a:lnTo>
                    <a:lnTo>
                      <a:pt x="4349" y="6661"/>
                    </a:lnTo>
                    <a:lnTo>
                      <a:pt x="2609" y="8158"/>
                    </a:lnTo>
                    <a:lnTo>
                      <a:pt x="870" y="9719"/>
                    </a:lnTo>
                    <a:lnTo>
                      <a:pt x="0" y="11401"/>
                    </a:lnTo>
                    <a:lnTo>
                      <a:pt x="870" y="13022"/>
                    </a:lnTo>
                    <a:lnTo>
                      <a:pt x="1740" y="14609"/>
                    </a:lnTo>
                    <a:lnTo>
                      <a:pt x="3479" y="16110"/>
                    </a:lnTo>
                    <a:lnTo>
                      <a:pt x="5219" y="17581"/>
                    </a:lnTo>
                    <a:lnTo>
                      <a:pt x="8553" y="18988"/>
                    </a:lnTo>
                    <a:lnTo>
                      <a:pt x="12902" y="20309"/>
                    </a:lnTo>
                    <a:lnTo>
                      <a:pt x="18121" y="21600"/>
                    </a:lnTo>
                    <a:lnTo>
                      <a:pt x="19860" y="21600"/>
                    </a:lnTo>
                    <a:lnTo>
                      <a:pt x="14642" y="20309"/>
                    </a:lnTo>
                    <a:lnTo>
                      <a:pt x="10293" y="18988"/>
                    </a:lnTo>
                    <a:lnTo>
                      <a:pt x="6958" y="17581"/>
                    </a:lnTo>
                    <a:lnTo>
                      <a:pt x="5219" y="16140"/>
                    </a:lnTo>
                    <a:lnTo>
                      <a:pt x="3479" y="14609"/>
                    </a:lnTo>
                    <a:lnTo>
                      <a:pt x="2609" y="13052"/>
                    </a:lnTo>
                    <a:lnTo>
                      <a:pt x="1740" y="11401"/>
                    </a:lnTo>
                    <a:lnTo>
                      <a:pt x="2609" y="9719"/>
                    </a:lnTo>
                    <a:lnTo>
                      <a:pt x="2609" y="9719"/>
                    </a:lnTo>
                    <a:close/>
                    <a:moveTo>
                      <a:pt x="2609" y="971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00" y="10320"/>
                    </a:moveTo>
                    <a:lnTo>
                      <a:pt x="2167" y="8758"/>
                    </a:lnTo>
                    <a:lnTo>
                      <a:pt x="3901" y="7262"/>
                    </a:lnTo>
                    <a:lnTo>
                      <a:pt x="6068" y="5850"/>
                    </a:lnTo>
                    <a:lnTo>
                      <a:pt x="9102" y="4499"/>
                    </a:lnTo>
                    <a:lnTo>
                      <a:pt x="11703" y="3208"/>
                    </a:lnTo>
                    <a:lnTo>
                      <a:pt x="15098" y="2042"/>
                    </a:lnTo>
                    <a:lnTo>
                      <a:pt x="18132" y="961"/>
                    </a:lnTo>
                    <a:lnTo>
                      <a:pt x="21600" y="0"/>
                    </a:lnTo>
                    <a:lnTo>
                      <a:pt x="20733" y="0"/>
                    </a:lnTo>
                    <a:lnTo>
                      <a:pt x="17266" y="961"/>
                    </a:lnTo>
                    <a:lnTo>
                      <a:pt x="14304" y="2042"/>
                    </a:lnTo>
                    <a:lnTo>
                      <a:pt x="11270" y="3208"/>
                    </a:lnTo>
                    <a:lnTo>
                      <a:pt x="8235" y="4499"/>
                    </a:lnTo>
                    <a:lnTo>
                      <a:pt x="5635" y="5850"/>
                    </a:lnTo>
                    <a:lnTo>
                      <a:pt x="3468" y="7262"/>
                    </a:lnTo>
                    <a:lnTo>
                      <a:pt x="1734" y="8758"/>
                    </a:lnTo>
                    <a:lnTo>
                      <a:pt x="433" y="10320"/>
                    </a:lnTo>
                    <a:lnTo>
                      <a:pt x="0" y="11881"/>
                    </a:lnTo>
                    <a:lnTo>
                      <a:pt x="867" y="13382"/>
                    </a:lnTo>
                    <a:lnTo>
                      <a:pt x="2167" y="14879"/>
                    </a:lnTo>
                    <a:lnTo>
                      <a:pt x="3901" y="16290"/>
                    </a:lnTo>
                    <a:lnTo>
                      <a:pt x="6935" y="17701"/>
                    </a:lnTo>
                    <a:lnTo>
                      <a:pt x="10403" y="19048"/>
                    </a:lnTo>
                    <a:lnTo>
                      <a:pt x="14665" y="20339"/>
                    </a:lnTo>
                    <a:lnTo>
                      <a:pt x="19866" y="21600"/>
                    </a:lnTo>
                    <a:lnTo>
                      <a:pt x="20733" y="21600"/>
                    </a:lnTo>
                    <a:lnTo>
                      <a:pt x="15532" y="20339"/>
                    </a:lnTo>
                    <a:lnTo>
                      <a:pt x="11270" y="19048"/>
                    </a:lnTo>
                    <a:lnTo>
                      <a:pt x="7802" y="17701"/>
                    </a:lnTo>
                    <a:lnTo>
                      <a:pt x="4768" y="16320"/>
                    </a:lnTo>
                    <a:lnTo>
                      <a:pt x="3034" y="14879"/>
                    </a:lnTo>
                    <a:lnTo>
                      <a:pt x="1734" y="13412"/>
                    </a:lnTo>
                    <a:lnTo>
                      <a:pt x="867" y="11881"/>
                    </a:lnTo>
                    <a:lnTo>
                      <a:pt x="1300" y="10320"/>
                    </a:lnTo>
                    <a:lnTo>
                      <a:pt x="1300" y="10320"/>
                    </a:lnTo>
                    <a:close/>
                    <a:moveTo>
                      <a:pt x="1300" y="1032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20989" y="0"/>
                    </a:lnTo>
                    <a:lnTo>
                      <a:pt x="16098" y="1111"/>
                    </a:lnTo>
                    <a:lnTo>
                      <a:pt x="12175" y="2312"/>
                    </a:lnTo>
                    <a:lnTo>
                      <a:pt x="8508" y="3538"/>
                    </a:lnTo>
                    <a:lnTo>
                      <a:pt x="5451" y="4859"/>
                    </a:lnTo>
                    <a:lnTo>
                      <a:pt x="3311" y="6241"/>
                    </a:lnTo>
                    <a:lnTo>
                      <a:pt x="1477" y="7652"/>
                    </a:lnTo>
                    <a:lnTo>
                      <a:pt x="306" y="9118"/>
                    </a:lnTo>
                    <a:lnTo>
                      <a:pt x="0" y="10620"/>
                    </a:lnTo>
                    <a:lnTo>
                      <a:pt x="306" y="12031"/>
                    </a:lnTo>
                    <a:lnTo>
                      <a:pt x="1223" y="13442"/>
                    </a:lnTo>
                    <a:lnTo>
                      <a:pt x="2394" y="14819"/>
                    </a:lnTo>
                    <a:lnTo>
                      <a:pt x="4534" y="16230"/>
                    </a:lnTo>
                    <a:lnTo>
                      <a:pt x="6979" y="17611"/>
                    </a:lnTo>
                    <a:lnTo>
                      <a:pt x="10036" y="18958"/>
                    </a:lnTo>
                    <a:lnTo>
                      <a:pt x="13704" y="20309"/>
                    </a:lnTo>
                    <a:lnTo>
                      <a:pt x="17626" y="21600"/>
                    </a:lnTo>
                    <a:lnTo>
                      <a:pt x="18238" y="21600"/>
                    </a:lnTo>
                    <a:lnTo>
                      <a:pt x="14315" y="20309"/>
                    </a:lnTo>
                    <a:lnTo>
                      <a:pt x="10647" y="18958"/>
                    </a:lnTo>
                    <a:lnTo>
                      <a:pt x="7591" y="17611"/>
                    </a:lnTo>
                    <a:lnTo>
                      <a:pt x="5145" y="16230"/>
                    </a:lnTo>
                    <a:lnTo>
                      <a:pt x="3006" y="14819"/>
                    </a:lnTo>
                    <a:lnTo>
                      <a:pt x="1783" y="13442"/>
                    </a:lnTo>
                    <a:lnTo>
                      <a:pt x="917" y="12031"/>
                    </a:lnTo>
                    <a:lnTo>
                      <a:pt x="611" y="10620"/>
                    </a:lnTo>
                    <a:lnTo>
                      <a:pt x="917" y="9118"/>
                    </a:lnTo>
                    <a:lnTo>
                      <a:pt x="2089" y="7652"/>
                    </a:lnTo>
                    <a:lnTo>
                      <a:pt x="3617" y="6241"/>
                    </a:lnTo>
                    <a:lnTo>
                      <a:pt x="6062" y="4859"/>
                    </a:lnTo>
                    <a:lnTo>
                      <a:pt x="9119" y="3538"/>
                    </a:lnTo>
                    <a:lnTo>
                      <a:pt x="12481" y="2312"/>
                    </a:lnTo>
                    <a:lnTo>
                      <a:pt x="16709" y="1111"/>
                    </a:lnTo>
                    <a:lnTo>
                      <a:pt x="21600" y="0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2" y="10740"/>
                    </a:moveTo>
                    <a:lnTo>
                      <a:pt x="903" y="9239"/>
                    </a:lnTo>
                    <a:lnTo>
                      <a:pt x="2032" y="7802"/>
                    </a:lnTo>
                    <a:lnTo>
                      <a:pt x="3613" y="6391"/>
                    </a:lnTo>
                    <a:lnTo>
                      <a:pt x="6096" y="5010"/>
                    </a:lnTo>
                    <a:lnTo>
                      <a:pt x="8994" y="3658"/>
                    </a:lnTo>
                    <a:lnTo>
                      <a:pt x="12606" y="2402"/>
                    </a:lnTo>
                    <a:lnTo>
                      <a:pt x="16896" y="1171"/>
                    </a:lnTo>
                    <a:lnTo>
                      <a:pt x="21600" y="0"/>
                    </a:lnTo>
                    <a:lnTo>
                      <a:pt x="21148" y="0"/>
                    </a:lnTo>
                    <a:lnTo>
                      <a:pt x="16445" y="1171"/>
                    </a:lnTo>
                    <a:lnTo>
                      <a:pt x="12155" y="2402"/>
                    </a:lnTo>
                    <a:lnTo>
                      <a:pt x="8542" y="3688"/>
                    </a:lnTo>
                    <a:lnTo>
                      <a:pt x="5645" y="5010"/>
                    </a:lnTo>
                    <a:lnTo>
                      <a:pt x="3161" y="6391"/>
                    </a:lnTo>
                    <a:lnTo>
                      <a:pt x="1580" y="7802"/>
                    </a:lnTo>
                    <a:lnTo>
                      <a:pt x="452" y="9269"/>
                    </a:lnTo>
                    <a:lnTo>
                      <a:pt x="0" y="10740"/>
                    </a:lnTo>
                    <a:lnTo>
                      <a:pt x="226" y="12181"/>
                    </a:lnTo>
                    <a:lnTo>
                      <a:pt x="1129" y="13588"/>
                    </a:lnTo>
                    <a:lnTo>
                      <a:pt x="2484" y="14999"/>
                    </a:lnTo>
                    <a:lnTo>
                      <a:pt x="4516" y="16380"/>
                    </a:lnTo>
                    <a:lnTo>
                      <a:pt x="7187" y="17761"/>
                    </a:lnTo>
                    <a:lnTo>
                      <a:pt x="10348" y="19078"/>
                    </a:lnTo>
                    <a:lnTo>
                      <a:pt x="13961" y="20369"/>
                    </a:lnTo>
                    <a:lnTo>
                      <a:pt x="18213" y="21600"/>
                    </a:lnTo>
                    <a:lnTo>
                      <a:pt x="18665" y="21600"/>
                    </a:lnTo>
                    <a:lnTo>
                      <a:pt x="14413" y="20369"/>
                    </a:lnTo>
                    <a:lnTo>
                      <a:pt x="10800" y="19078"/>
                    </a:lnTo>
                    <a:lnTo>
                      <a:pt x="7639" y="17761"/>
                    </a:lnTo>
                    <a:lnTo>
                      <a:pt x="4967" y="16380"/>
                    </a:lnTo>
                    <a:lnTo>
                      <a:pt x="2935" y="14999"/>
                    </a:lnTo>
                    <a:lnTo>
                      <a:pt x="1580" y="13588"/>
                    </a:lnTo>
                    <a:lnTo>
                      <a:pt x="677" y="12181"/>
                    </a:lnTo>
                    <a:lnTo>
                      <a:pt x="452" y="10740"/>
                    </a:lnTo>
                    <a:lnTo>
                      <a:pt x="452" y="10740"/>
                    </a:lnTo>
                    <a:close/>
                    <a:moveTo>
                      <a:pt x="452" y="107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53" y="10500"/>
                    </a:moveTo>
                    <a:lnTo>
                      <a:pt x="852" y="8998"/>
                    </a:lnTo>
                    <a:lnTo>
                      <a:pt x="2087" y="7532"/>
                    </a:lnTo>
                    <a:lnTo>
                      <a:pt x="3850" y="6121"/>
                    </a:lnTo>
                    <a:lnTo>
                      <a:pt x="6318" y="4709"/>
                    </a:lnTo>
                    <a:lnTo>
                      <a:pt x="9287" y="3448"/>
                    </a:lnTo>
                    <a:lnTo>
                      <a:pt x="12989" y="2222"/>
                    </a:lnTo>
                    <a:lnTo>
                      <a:pt x="17045" y="1081"/>
                    </a:lnTo>
                    <a:lnTo>
                      <a:pt x="21600" y="0"/>
                    </a:lnTo>
                    <a:lnTo>
                      <a:pt x="21247" y="0"/>
                    </a:lnTo>
                    <a:lnTo>
                      <a:pt x="16692" y="1051"/>
                    </a:lnTo>
                    <a:lnTo>
                      <a:pt x="12637" y="2192"/>
                    </a:lnTo>
                    <a:lnTo>
                      <a:pt x="9140" y="3418"/>
                    </a:lnTo>
                    <a:lnTo>
                      <a:pt x="6142" y="4709"/>
                    </a:lnTo>
                    <a:lnTo>
                      <a:pt x="3673" y="6091"/>
                    </a:lnTo>
                    <a:lnTo>
                      <a:pt x="1734" y="7532"/>
                    </a:lnTo>
                    <a:lnTo>
                      <a:pt x="529" y="8998"/>
                    </a:lnTo>
                    <a:lnTo>
                      <a:pt x="0" y="10500"/>
                    </a:lnTo>
                    <a:lnTo>
                      <a:pt x="176" y="12031"/>
                    </a:lnTo>
                    <a:lnTo>
                      <a:pt x="852" y="13558"/>
                    </a:lnTo>
                    <a:lnTo>
                      <a:pt x="2263" y="15089"/>
                    </a:lnTo>
                    <a:lnTo>
                      <a:pt x="4379" y="16590"/>
                    </a:lnTo>
                    <a:lnTo>
                      <a:pt x="6671" y="17882"/>
                    </a:lnTo>
                    <a:lnTo>
                      <a:pt x="9287" y="19138"/>
                    </a:lnTo>
                    <a:lnTo>
                      <a:pt x="12460" y="20399"/>
                    </a:lnTo>
                    <a:lnTo>
                      <a:pt x="15987" y="21600"/>
                    </a:lnTo>
                    <a:lnTo>
                      <a:pt x="16340" y="21600"/>
                    </a:lnTo>
                    <a:lnTo>
                      <a:pt x="12813" y="20399"/>
                    </a:lnTo>
                    <a:lnTo>
                      <a:pt x="9639" y="19138"/>
                    </a:lnTo>
                    <a:lnTo>
                      <a:pt x="7024" y="17882"/>
                    </a:lnTo>
                    <a:lnTo>
                      <a:pt x="4731" y="16590"/>
                    </a:lnTo>
                    <a:lnTo>
                      <a:pt x="2616" y="15089"/>
                    </a:lnTo>
                    <a:lnTo>
                      <a:pt x="1205" y="13558"/>
                    </a:lnTo>
                    <a:lnTo>
                      <a:pt x="529" y="12031"/>
                    </a:lnTo>
                    <a:lnTo>
                      <a:pt x="353" y="10500"/>
                    </a:lnTo>
                    <a:lnTo>
                      <a:pt x="353" y="10500"/>
                    </a:lnTo>
                    <a:close/>
                    <a:moveTo>
                      <a:pt x="353" y="1050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65" y="9749"/>
                    </a:moveTo>
                    <a:lnTo>
                      <a:pt x="1239" y="8548"/>
                    </a:lnTo>
                    <a:lnTo>
                      <a:pt x="2477" y="7382"/>
                    </a:lnTo>
                    <a:lnTo>
                      <a:pt x="4155" y="6181"/>
                    </a:lnTo>
                    <a:lnTo>
                      <a:pt x="6477" y="4980"/>
                    </a:lnTo>
                    <a:lnTo>
                      <a:pt x="9419" y="3778"/>
                    </a:lnTo>
                    <a:lnTo>
                      <a:pt x="12800" y="2552"/>
                    </a:lnTo>
                    <a:lnTo>
                      <a:pt x="16981" y="1291"/>
                    </a:lnTo>
                    <a:lnTo>
                      <a:pt x="19123" y="661"/>
                    </a:lnTo>
                    <a:lnTo>
                      <a:pt x="21600" y="0"/>
                    </a:lnTo>
                    <a:lnTo>
                      <a:pt x="21290" y="0"/>
                    </a:lnTo>
                    <a:lnTo>
                      <a:pt x="18813" y="661"/>
                    </a:lnTo>
                    <a:lnTo>
                      <a:pt x="16516" y="1291"/>
                    </a:lnTo>
                    <a:lnTo>
                      <a:pt x="14503" y="1922"/>
                    </a:lnTo>
                    <a:lnTo>
                      <a:pt x="12490" y="2552"/>
                    </a:lnTo>
                    <a:lnTo>
                      <a:pt x="9110" y="3778"/>
                    </a:lnTo>
                    <a:lnTo>
                      <a:pt x="6168" y="4980"/>
                    </a:lnTo>
                    <a:lnTo>
                      <a:pt x="3871" y="6181"/>
                    </a:lnTo>
                    <a:lnTo>
                      <a:pt x="2168" y="7352"/>
                    </a:lnTo>
                    <a:lnTo>
                      <a:pt x="929" y="8518"/>
                    </a:lnTo>
                    <a:lnTo>
                      <a:pt x="155" y="9719"/>
                    </a:lnTo>
                    <a:lnTo>
                      <a:pt x="0" y="11010"/>
                    </a:lnTo>
                    <a:lnTo>
                      <a:pt x="310" y="12361"/>
                    </a:lnTo>
                    <a:lnTo>
                      <a:pt x="1239" y="13708"/>
                    </a:lnTo>
                    <a:lnTo>
                      <a:pt x="2942" y="15149"/>
                    </a:lnTo>
                    <a:lnTo>
                      <a:pt x="3871" y="15870"/>
                    </a:lnTo>
                    <a:lnTo>
                      <a:pt x="5084" y="16620"/>
                    </a:lnTo>
                    <a:lnTo>
                      <a:pt x="6323" y="17401"/>
                    </a:lnTo>
                    <a:lnTo>
                      <a:pt x="7871" y="18212"/>
                    </a:lnTo>
                    <a:lnTo>
                      <a:pt x="9419" y="19018"/>
                    </a:lnTo>
                    <a:lnTo>
                      <a:pt x="11277" y="19858"/>
                    </a:lnTo>
                    <a:lnTo>
                      <a:pt x="13110" y="20699"/>
                    </a:lnTo>
                    <a:lnTo>
                      <a:pt x="15277" y="21600"/>
                    </a:lnTo>
                    <a:lnTo>
                      <a:pt x="15587" y="21600"/>
                    </a:lnTo>
                    <a:lnTo>
                      <a:pt x="13419" y="20699"/>
                    </a:lnTo>
                    <a:lnTo>
                      <a:pt x="11561" y="19858"/>
                    </a:lnTo>
                    <a:lnTo>
                      <a:pt x="9729" y="19018"/>
                    </a:lnTo>
                    <a:lnTo>
                      <a:pt x="8181" y="18212"/>
                    </a:lnTo>
                    <a:lnTo>
                      <a:pt x="6632" y="17401"/>
                    </a:lnTo>
                    <a:lnTo>
                      <a:pt x="5394" y="16650"/>
                    </a:lnTo>
                    <a:lnTo>
                      <a:pt x="4155" y="15870"/>
                    </a:lnTo>
                    <a:lnTo>
                      <a:pt x="3252" y="15149"/>
                    </a:lnTo>
                    <a:lnTo>
                      <a:pt x="1548" y="13708"/>
                    </a:lnTo>
                    <a:lnTo>
                      <a:pt x="619" y="12361"/>
                    </a:lnTo>
                    <a:lnTo>
                      <a:pt x="310" y="11040"/>
                    </a:lnTo>
                    <a:lnTo>
                      <a:pt x="465" y="9749"/>
                    </a:lnTo>
                    <a:lnTo>
                      <a:pt x="465" y="9749"/>
                    </a:lnTo>
                    <a:close/>
                    <a:moveTo>
                      <a:pt x="465" y="974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24"/>
                  </a:moveTo>
                  <a:lnTo>
                    <a:pt x="1502" y="3480"/>
                  </a:lnTo>
                  <a:lnTo>
                    <a:pt x="3433" y="6137"/>
                  </a:lnTo>
                  <a:lnTo>
                    <a:pt x="5758" y="8793"/>
                  </a:lnTo>
                  <a:lnTo>
                    <a:pt x="8118" y="11357"/>
                  </a:lnTo>
                  <a:lnTo>
                    <a:pt x="10907" y="13998"/>
                  </a:lnTo>
                  <a:lnTo>
                    <a:pt x="13911" y="16563"/>
                  </a:lnTo>
                  <a:lnTo>
                    <a:pt x="17309" y="19127"/>
                  </a:lnTo>
                  <a:lnTo>
                    <a:pt x="20956" y="21600"/>
                  </a:lnTo>
                  <a:lnTo>
                    <a:pt x="21600" y="21600"/>
                  </a:lnTo>
                  <a:lnTo>
                    <a:pt x="17738" y="19035"/>
                  </a:lnTo>
                  <a:lnTo>
                    <a:pt x="14340" y="16379"/>
                  </a:lnTo>
                  <a:lnTo>
                    <a:pt x="11122" y="13723"/>
                  </a:lnTo>
                  <a:lnTo>
                    <a:pt x="8332" y="10991"/>
                  </a:lnTo>
                  <a:lnTo>
                    <a:pt x="5758" y="8335"/>
                  </a:lnTo>
                  <a:lnTo>
                    <a:pt x="3648" y="5587"/>
                  </a:lnTo>
                  <a:lnTo>
                    <a:pt x="1717" y="2748"/>
                  </a:lnTo>
                  <a:lnTo>
                    <a:pt x="0" y="0"/>
                  </a:lnTo>
                  <a:lnTo>
                    <a:pt x="0" y="824"/>
                  </a:lnTo>
                  <a:lnTo>
                    <a:pt x="0" y="824"/>
                  </a:lnTo>
                  <a:close/>
                  <a:moveTo>
                    <a:pt x="0" y="824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21"/>
                  </a:moveTo>
                  <a:lnTo>
                    <a:pt x="10277" y="12169"/>
                  </a:lnTo>
                  <a:lnTo>
                    <a:pt x="20458" y="21600"/>
                  </a:lnTo>
                  <a:lnTo>
                    <a:pt x="21600" y="21600"/>
                  </a:lnTo>
                  <a:lnTo>
                    <a:pt x="15891" y="16732"/>
                  </a:lnTo>
                  <a:lnTo>
                    <a:pt x="10848" y="11256"/>
                  </a:lnTo>
                  <a:lnTo>
                    <a:pt x="0" y="0"/>
                  </a:lnTo>
                  <a:lnTo>
                    <a:pt x="0" y="1521"/>
                  </a:lnTo>
                  <a:lnTo>
                    <a:pt x="0" y="1521"/>
                  </a:lnTo>
                  <a:close/>
                  <a:moveTo>
                    <a:pt x="0" y="1521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802"/>
                  </a:lnTo>
                  <a:lnTo>
                    <a:pt x="21336" y="20149"/>
                  </a:lnTo>
                  <a:lnTo>
                    <a:pt x="21072" y="19508"/>
                  </a:lnTo>
                  <a:lnTo>
                    <a:pt x="20279" y="17984"/>
                  </a:lnTo>
                  <a:lnTo>
                    <a:pt x="19486" y="16460"/>
                  </a:lnTo>
                  <a:lnTo>
                    <a:pt x="17527" y="13557"/>
                  </a:lnTo>
                  <a:lnTo>
                    <a:pt x="15017" y="10873"/>
                  </a:lnTo>
                  <a:lnTo>
                    <a:pt x="12374" y="8333"/>
                  </a:lnTo>
                  <a:lnTo>
                    <a:pt x="9490" y="6023"/>
                  </a:lnTo>
                  <a:lnTo>
                    <a:pt x="6451" y="3846"/>
                  </a:lnTo>
                  <a:lnTo>
                    <a:pt x="3303" y="1814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3039" y="1814"/>
                  </a:lnTo>
                  <a:lnTo>
                    <a:pt x="6055" y="3846"/>
                  </a:lnTo>
                  <a:lnTo>
                    <a:pt x="9094" y="6023"/>
                  </a:lnTo>
                  <a:lnTo>
                    <a:pt x="12000" y="8333"/>
                  </a:lnTo>
                  <a:lnTo>
                    <a:pt x="14752" y="10873"/>
                  </a:lnTo>
                  <a:lnTo>
                    <a:pt x="17130" y="13557"/>
                  </a:lnTo>
                  <a:lnTo>
                    <a:pt x="19222" y="16460"/>
                  </a:lnTo>
                  <a:lnTo>
                    <a:pt x="20015" y="17984"/>
                  </a:lnTo>
                  <a:lnTo>
                    <a:pt x="20807" y="19580"/>
                  </a:lnTo>
                  <a:lnTo>
                    <a:pt x="21204" y="20584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987"/>
                  </a:lnTo>
                  <a:lnTo>
                    <a:pt x="17292" y="15465"/>
                  </a:lnTo>
                  <a:lnTo>
                    <a:pt x="12231" y="10123"/>
                  </a:lnTo>
                  <a:lnTo>
                    <a:pt x="6658" y="4908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6296" y="5061"/>
                  </a:lnTo>
                  <a:lnTo>
                    <a:pt x="12050" y="10429"/>
                  </a:lnTo>
                  <a:lnTo>
                    <a:pt x="17111" y="15925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661"/>
                  </a:lnTo>
                  <a:lnTo>
                    <a:pt x="11782" y="10017"/>
                  </a:lnTo>
                  <a:lnTo>
                    <a:pt x="637" y="0"/>
                  </a:lnTo>
                  <a:lnTo>
                    <a:pt x="0" y="0"/>
                  </a:lnTo>
                  <a:lnTo>
                    <a:pt x="5732" y="5322"/>
                  </a:lnTo>
                  <a:lnTo>
                    <a:pt x="11463" y="10643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864"/>
                  </a:moveTo>
                  <a:lnTo>
                    <a:pt x="0" y="21600"/>
                  </a:lnTo>
                  <a:lnTo>
                    <a:pt x="1364" y="18565"/>
                  </a:lnTo>
                  <a:lnTo>
                    <a:pt x="3183" y="15529"/>
                  </a:lnTo>
                  <a:lnTo>
                    <a:pt x="5432" y="12678"/>
                  </a:lnTo>
                  <a:lnTo>
                    <a:pt x="7857" y="9919"/>
                  </a:lnTo>
                  <a:lnTo>
                    <a:pt x="10888" y="7266"/>
                  </a:lnTo>
                  <a:lnTo>
                    <a:pt x="14046" y="4783"/>
                  </a:lnTo>
                  <a:lnTo>
                    <a:pt x="17684" y="2300"/>
                  </a:lnTo>
                  <a:lnTo>
                    <a:pt x="21600" y="0"/>
                  </a:lnTo>
                  <a:lnTo>
                    <a:pt x="21145" y="0"/>
                  </a:lnTo>
                  <a:lnTo>
                    <a:pt x="17381" y="2208"/>
                  </a:lnTo>
                  <a:lnTo>
                    <a:pt x="13895" y="4599"/>
                  </a:lnTo>
                  <a:lnTo>
                    <a:pt x="10737" y="7082"/>
                  </a:lnTo>
                  <a:lnTo>
                    <a:pt x="7857" y="9643"/>
                  </a:lnTo>
                  <a:lnTo>
                    <a:pt x="5432" y="12310"/>
                  </a:lnTo>
                  <a:lnTo>
                    <a:pt x="3335" y="15069"/>
                  </a:lnTo>
                  <a:lnTo>
                    <a:pt x="1516" y="17921"/>
                  </a:lnTo>
                  <a:lnTo>
                    <a:pt x="0" y="20864"/>
                  </a:lnTo>
                  <a:lnTo>
                    <a:pt x="0" y="20864"/>
                  </a:lnTo>
                  <a:close/>
                  <a:moveTo>
                    <a:pt x="0" y="20864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937" y="0"/>
                  </a:lnTo>
                  <a:lnTo>
                    <a:pt x="15002" y="4760"/>
                  </a:lnTo>
                  <a:lnTo>
                    <a:pt x="9473" y="9736"/>
                  </a:lnTo>
                  <a:lnTo>
                    <a:pt x="4423" y="15145"/>
                  </a:lnTo>
                  <a:lnTo>
                    <a:pt x="0" y="20735"/>
                  </a:lnTo>
                  <a:lnTo>
                    <a:pt x="0" y="21600"/>
                  </a:lnTo>
                  <a:lnTo>
                    <a:pt x="4423" y="15578"/>
                  </a:lnTo>
                  <a:lnTo>
                    <a:pt x="9473" y="10169"/>
                  </a:lnTo>
                  <a:lnTo>
                    <a:pt x="15223" y="497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155" y="0"/>
                  </a:lnTo>
                  <a:lnTo>
                    <a:pt x="9636" y="9771"/>
                  </a:lnTo>
                  <a:lnTo>
                    <a:pt x="4818" y="14914"/>
                  </a:lnTo>
                  <a:lnTo>
                    <a:pt x="0" y="20057"/>
                  </a:lnTo>
                  <a:lnTo>
                    <a:pt x="0" y="21600"/>
                  </a:lnTo>
                  <a:lnTo>
                    <a:pt x="10117" y="1028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4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4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4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1440" y="622440"/>
              <a:ext cx="9140760" cy="2495520"/>
              <a:chOff x="1440" y="622440"/>
              <a:chExt cx="9140760" cy="2495520"/>
            </a:xfrm>
          </p:grpSpPr>
          <p:sp>
            <p:nvSpPr>
              <p:cNvPr id="429" name=""/>
              <p:cNvSpPr/>
              <p:nvPr/>
            </p:nvSpPr>
            <p:spPr>
              <a:xfrm>
                <a:off x="1440" y="124488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440" y="311652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440" y="24926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440" y="186876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44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144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6" name=""/>
          <p:cNvSpPr txBox="1"/>
          <p:nvPr/>
        </p:nvSpPr>
        <p:spPr>
          <a:xfrm>
            <a:off x="7481520" y="6243480"/>
            <a:ext cx="2746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4341-4F89-4C8A-8E0D-5CF951547FB4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150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swers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9360" y="2235240"/>
            <a:ext cx="858528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1) C; Currentyly, </a:t>
            </a:r>
            <a:r>
              <a:rPr b="0" lang="en-US" sz="3100" spc="-1" strike="noStrike">
                <a:solidFill>
                  <a:srgbClr val="ffffff"/>
                </a:solidFill>
                <a:latin typeface="Arial Bold"/>
                <a:ea typeface="Arial Bold"/>
              </a:rPr>
              <a:t>7.2%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 of Germans (between the ages of 15 and 24, are unemployed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2) B; “There will always be a need for workers,” --Head of the Federal Labor Agenc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Sadmin</dc:creator>
  <dc:description/>
  <dc:language>en-US</dc:language>
  <cp:lastModifiedBy/>
  <cp:revision>0</cp:revision>
  <dc:subject/>
  <dc:title>Unemployment in Germany </dc:title>
</cp:coreProperties>
</file>